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0E8-2339-4186-8810-DAEB1158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2D0-8A11-4083-AB22-02F00521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840-3F21-4543-9EC6-45235BBD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8C0-8B4A-4046-BA10-8A4B5A70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8C34-8928-4D0D-B3A7-069085D7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51E4-FDFB-4ADB-A0B8-86A6D256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3D65-0FED-405C-A204-1D7F43E3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8ED4-45B1-4AA0-AA5B-E534C2FA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E9A6-A641-4620-8863-FA455BB6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4B24-C393-40AE-9331-8D0E9BB5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6276-889A-4841-BD12-044BDF51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22C-4AA4-4161-901F-9D4B223D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F4ED-56C5-4D2D-9830-9A24C2BE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519B-75D1-4385-B918-FED6888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8409-9419-4E0D-AB52-D1E7BFF1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6599-3A7E-4F3F-8873-00A79A38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B88A-561F-4390-B1E2-E1E5C5A3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569-19CF-4D17-85AA-57C4E5B7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682-5E14-4342-A2D9-B459966E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FB8-90C8-43DE-83B9-3A9F22BD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6F4-FAFD-4528-9484-A586A05B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1E9-6F0C-43B9-AB94-2B832C58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3DA-DE9C-4109-A915-9D521F4C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13B-AA96-4335-B2ED-2A776A83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6942-5D50-4BD4-BC16-B063C993E5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3992-2297-4F1F-B75D-976B35156E1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1081332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хижин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4" descr="b0008d48293628f4a2f7c6db9e86287a_full"/>
          <p:cNvPicPr/>
          <p:nvPr/>
        </p:nvPicPr>
        <p:blipFill>
          <a:blip r:embed="rId1"/>
          <a:stretch/>
        </p:blipFill>
        <p:spPr>
          <a:xfrm>
            <a:off x="1042920" y="1413000"/>
            <a:ext cx="7201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m08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192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 Black"/>
              </a:rPr>
              <a:t>Японская хижин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64Hataevicha_57_59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00"/>
                </a:solidFill>
                <a:latin typeface="Arial"/>
              </a:rPr>
              <a:t>История жилищ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99680" y="5785920"/>
            <a:ext cx="828684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зработка воспитателя МКОУ СОШ пгт Арбаж дошкольного отделения Новокшоновой Лады Валерьевн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Picture 2" descr="F:\учитель года\Жилища\hod1.jpg"/>
          <p:cNvPicPr/>
          <p:nvPr/>
        </p:nvPicPr>
        <p:blipFill>
          <a:blip r:embed="rId1"/>
          <a:stretch/>
        </p:blipFill>
        <p:spPr>
          <a:xfrm>
            <a:off x="2357280" y="1357200"/>
            <a:ext cx="49705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шалаш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Picture 4" descr="hut"/>
          <p:cNvPicPr/>
          <p:nvPr/>
        </p:nvPicPr>
        <p:blipFill>
          <a:blip r:embed="rId1"/>
          <a:stretch/>
        </p:blipFill>
        <p:spPr>
          <a:xfrm>
            <a:off x="684360" y="1341360"/>
            <a:ext cx="78483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hoto1791"/>
          <p:cNvPicPr/>
          <p:nvPr/>
        </p:nvPicPr>
        <p:blipFill>
          <a:blip r:embed="rId1"/>
          <a:stretch/>
        </p:blipFill>
        <p:spPr>
          <a:xfrm>
            <a:off x="539640" y="1125360"/>
            <a:ext cx="8001000" cy="5472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пещер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sablino2"/>
          <p:cNvPicPr/>
          <p:nvPr/>
        </p:nvPicPr>
        <p:blipFill>
          <a:blip r:embed="rId1"/>
          <a:stretch/>
        </p:blipFill>
        <p:spPr>
          <a:xfrm>
            <a:off x="395280" y="549360"/>
            <a:ext cx="82659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img42209"/>
          <p:cNvPicPr/>
          <p:nvPr/>
        </p:nvPicPr>
        <p:blipFill>
          <a:blip r:embed="rId1"/>
          <a:stretch/>
        </p:blipFill>
        <p:spPr>
          <a:xfrm>
            <a:off x="250920" y="141120"/>
            <a:ext cx="8893080" cy="652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тростниковые хижины (Куба)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russkaj_izba"/>
          <p:cNvPicPr/>
          <p:nvPr/>
        </p:nvPicPr>
        <p:blipFill>
          <a:blip r:embed="rId1"/>
          <a:stretch/>
        </p:blipFill>
        <p:spPr>
          <a:xfrm>
            <a:off x="684360" y="549360"/>
            <a:ext cx="7788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Ч у м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0_cfb9_19027d71_XL"/>
          <p:cNvPicPr/>
          <p:nvPr/>
        </p:nvPicPr>
        <p:blipFill>
          <a:blip r:embed="rId1"/>
          <a:stretch/>
        </p:blipFill>
        <p:spPr>
          <a:xfrm>
            <a:off x="755640" y="1413000"/>
            <a:ext cx="78487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22:33Z</dcterms:created>
  <dc:creator>Serge</dc:creator>
  <dc:description/>
  <dc:language>en-US</dc:language>
  <cp:lastModifiedBy>Shustova O.B.</cp:lastModifiedBy>
  <dcterms:modified xsi:type="dcterms:W3CDTF">2012-03-12T05:17:41Z</dcterms:modified>
  <cp:revision>4</cp:revision>
  <dc:subject/>
  <dc:title>Слайд 1</dc:title>
</cp:coreProperties>
</file>