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827-7A33-4502-B192-BACF266C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384-2FEE-4EAE-9D73-C4ED9A72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DC4-9BE5-4B28-BE2F-00766660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92C-48B0-4F88-AFBA-6C46B9D0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8351D-C5D0-4D66-83C6-B54511AD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FBDF1-B0F9-420C-9629-C6025C8F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7C017-ED1E-44AA-A49A-84F25A7C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837FF-0D04-4637-A50A-1C943261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4A71E-46BE-414F-8AF8-ED04B4F3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6987B-C869-43EA-9EB6-FDB14186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0579E-AF4C-4161-8CB3-C160D2FF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903-A47A-4938-BCEC-C47932D3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AB920-ED5E-4C3B-A8EC-7E317F9E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5BC08-6CE1-4988-A447-653CDC89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8DAB6-7C64-4515-AE9D-C50DA8C6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0B8B6-7B69-45C8-B1AA-97D4D3B6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AFF25-069C-4A43-BAC0-37A0D4BD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C33-BA62-4659-8E1F-B923CEED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8F9-C404-4628-A497-5134D04B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178-6D81-488A-B9A5-1EB6B6D1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22D-B66A-4BC0-B111-25D54E93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C64-D7A6-4BE9-AD9C-C661597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5A3-6FDD-4E66-B722-D5DACBD6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300-BB98-428C-B5CE-3E79B319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3C17-6FC7-46B3-AF28-8DC463360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E485-E665-4C7F-951D-D5E63ED391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«Чудеса надо делать своими руками!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ли урок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накомить учащихся с повестью А.Грина "Алые паруса", рассмотреть композицию произведения, проанализировать образы главных героев, образность речи писател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вивать речь учащихся, память, мышление, творческое воображ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итывать любовь к русской литературе, вдумчивого читател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87692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: Жигалова Елена Сергеевна, идентификатор: 238-565-94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грей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227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alye_parusa1"/>
          <p:cNvPicPr/>
          <p:nvPr/>
        </p:nvPicPr>
        <p:blipFill>
          <a:blip r:embed="rId2"/>
          <a:stretch/>
        </p:blipFill>
        <p:spPr>
          <a:xfrm>
            <a:off x="0" y="1676520"/>
            <a:ext cx="4525920" cy="51814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304920" y="22860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Он родился капитаном, хотел быть им и стал им.» А.Гр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5000" y="990720"/>
            <a:ext cx="3276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Чудеса надо делать своими руками!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bio1"/>
          <p:cNvPicPr/>
          <p:nvPr/>
        </p:nvPicPr>
        <p:blipFill>
          <a:blip r:embed="rId1"/>
          <a:stretch/>
        </p:blipFill>
        <p:spPr>
          <a:xfrm>
            <a:off x="0" y="0"/>
            <a:ext cx="55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гда дни начинают пылиться и краски блекнуть, я беру Грина. Я раскрываю его на любой странице. Так весной протирают окна в доме. Все становится светлым, ярким, все снова таинственно волнует, как в детств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. Гран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Aparussa"/>
          <p:cNvPicPr/>
          <p:nvPr/>
        </p:nvPicPr>
        <p:blipFill>
          <a:blip r:embed="rId1"/>
          <a:stretch/>
        </p:blipFill>
        <p:spPr>
          <a:xfrm>
            <a:off x="0" y="1828800"/>
            <a:ext cx="379872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А"/>
          <p:cNvPicPr/>
          <p:nvPr/>
        </p:nvPicPr>
        <p:blipFill>
          <a:blip r:embed="rId2"/>
          <a:stretch/>
        </p:blipFill>
        <p:spPr>
          <a:xfrm>
            <a:off x="4724280" y="2971800"/>
            <a:ext cx="42483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05520" y="14479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 глубокой радост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имвол любв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аруса мечты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омантика, ожидание, творчество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существлённое чудо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етафора надежды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торжество счастья”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это гармония моря и любв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это “прелесть духовного отражения”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имвол победы, веры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имвол “рая”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“свет, ставший теплом, и тепло,ставшее светом”                 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(В.В. Харчев)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3" descr="Aparussa"/>
          <p:cNvPicPr/>
          <p:nvPr/>
        </p:nvPicPr>
        <p:blipFill>
          <a:blip r:embed="rId1"/>
          <a:stretch/>
        </p:blipFill>
        <p:spPr>
          <a:xfrm>
            <a:off x="152280" y="990720"/>
            <a:ext cx="4432320" cy="5867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0" y="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"Алые паруса"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ассоциации вызывает у вас этот образ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10080" y="152280"/>
            <a:ext cx="3733920" cy="65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брасывая веселье, он пылал, как вино, роза, кровь, уста, алый бархат и пунцовый огонь. Корабль шёл прямо к Ассоль”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А.Гр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3" descr="Aparussa"/>
          <p:cNvPicPr/>
          <p:nvPr/>
        </p:nvPicPr>
        <p:blipFill>
          <a:blip r:embed="rId1"/>
          <a:stretch/>
        </p:blipFill>
        <p:spPr>
          <a:xfrm>
            <a:off x="152280" y="990720"/>
            <a:ext cx="4432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 с чего все началось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эгль"/>
          <p:cNvPicPr/>
          <p:nvPr/>
        </p:nvPicPr>
        <p:blipFill>
          <a:blip r:embed="rId1"/>
          <a:stretch/>
        </p:blipFill>
        <p:spPr>
          <a:xfrm>
            <a:off x="1828800" y="1547640"/>
            <a:ext cx="5715000" cy="5310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0" y="5257800"/>
            <a:ext cx="1828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рывок фильма «Алые паруса, режиссер – Александр Птушко, 1961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йдите в тексте произведения Предсказание – слова Эг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днажды утром в морской дали под солнцем сверкнет алый парус. Сияющая громада алых парусов белого корабля двинется, рассекая волны, прямо к тебе. Тихо будет плыть этот чудесный корабль, без  криков и выстрелов; на берегу много соберется народу, удивляясь и ахая: и ты будешь стоять  там. Корабль подойдет величественно к самому  берегу под звуки прекрасной музыки; нарядная, в коврах, в золоте и цветах, поплывет от него быстрая лод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609480" y="444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ределите средства художественной выразительности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05_01"/>
          <p:cNvPicPr/>
          <p:nvPr/>
        </p:nvPicPr>
        <p:blipFill>
          <a:blip r:embed="rId1"/>
          <a:stretch/>
        </p:blipFill>
        <p:spPr>
          <a:xfrm>
            <a:off x="4863960" y="0"/>
            <a:ext cx="4280040" cy="6019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lye_parusa2"/>
          <p:cNvPicPr/>
          <p:nvPr/>
        </p:nvPicPr>
        <p:blipFill>
          <a:blip r:embed="rId2"/>
          <a:stretch/>
        </p:blipFill>
        <p:spPr>
          <a:xfrm>
            <a:off x="0" y="1295280"/>
            <a:ext cx="443376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28600" y="2286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описывает свою героиню А.Гри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alye_parusa2"/>
          <p:cNvPicPr/>
          <p:nvPr/>
        </p:nvPicPr>
        <p:blipFill>
          <a:blip r:embed="rId1"/>
          <a:stretch/>
        </p:blipFill>
        <p:spPr>
          <a:xfrm>
            <a:off x="0" y="1295280"/>
            <a:ext cx="4433760" cy="5562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4800600" y="91440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648320" y="533520"/>
            <a:ext cx="43434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иранное много раз ситцевое платье едва  прикрывало до колен худенькие, загорелые ноги девочки. Ее  темные густые волосы, забранные в кружевную косынку, сбились, касаясь плеч. Каждая  черта Ассоль была выразительно легка  и  чиста, как полет ласточки. Темные, с  оттенком грустного вопроса глаза казались несколько старше лица; его неправильный мягкий овал был овеян  того рода прелестным загаром, какой присущ здоровой белизне кожи. Полураскрытый маленький рот блестел кроткой улыб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5_01"/>
          <p:cNvPicPr/>
          <p:nvPr/>
        </p:nvPicPr>
        <p:blipFill>
          <a:blip r:embed="rId1"/>
          <a:stretch/>
        </p:blipFill>
        <p:spPr>
          <a:xfrm>
            <a:off x="4702320" y="0"/>
            <a:ext cx="4441680" cy="6248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304920" y="228600"/>
            <a:ext cx="426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е волосы сдвинулись в беспорядке; у шеи  расстегнулась пуговица, открыв белую  ямку; раскинувшаяся юбка обнажала колени; ресницы спали  на щеке, в тени нежного, выпуклого  виска, полузакрытого темной прядью; мизинец правой руки, бывшей под  головой, пригибался  к  затыл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152280" y="52578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 она отличалась от остальных жителей Копер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12-21T12:43:0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