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13D-D85A-4D83-B2BB-CCBA3E82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165-5628-44FF-9A7D-A1CA15D4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5DFE-CC8D-43BB-ACD6-9179127C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3F3-5805-402D-B543-9ACE1141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E23C-6C1B-4FAD-ABD0-0160CA38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D2E5-017F-4194-AB06-4D2A8BF1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5BA1-6FE2-4025-B000-77E0A062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2EAD-5ADB-4703-85D7-73207BEC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DA96-6242-4C69-83C5-2D1D9D4C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21B8-3B71-4CAE-9D90-8A69979D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20CF-F93D-455B-8942-52F3803F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10B-E5A3-46D0-BDE9-82D0B34B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14CF-8333-4D55-AA51-83884DD3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F15B-51AF-4EAB-92DA-2683B765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841A-E3E0-44B2-A5F8-C6C44DBB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3FA0-111D-4C72-9E5F-C978EAE5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A99A-E806-4A16-A252-4D70E4FA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2B2E-F8B2-4DE6-9BC6-6369128B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C4D-8F55-4049-8370-D2ECDE9D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28E4-C71A-44D8-99C1-25D09BE3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065D-191B-4B7C-80A2-61CDD46D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395-9F1D-4B43-81E3-B2D6A676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5997-6894-44A1-94B3-9B9922DE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5D7-5599-4579-A8FE-798EA1D8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710D-1E05-4785-8F1B-AADA6444E5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3D37-39C5-47F1-843C-09EDD0C8E3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38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(приёмы компрессии текста)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964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 flipV="1" rot="10800000">
            <a:off x="896760" y="687960"/>
            <a:ext cx="727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Tahoma"/>
              </a:rPr>
              <a:t>Сжатое изложе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Сказки любят взрослые и дети, сильные и слабые, добрые и не очень.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(12 слов)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Сказки любят все. (3 слова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213840"/>
            <a:ext cx="761184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Сочетание исключения и обобщения (объединения)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91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Сказки... как прекрасен  и увлекателен ваш мир.  Мир, в  котором всегда торжествует добро, где умный всегда побеждает глупого,  хороший - плохого, и в финале, как правило, все счастливы. Нет,  конечно, и среди вас есть такие, после  которых становится грустно и хочется плакать. Но это  святая грусть и святые  слезы.  Они  очищают.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(50 сло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Мир сказок, где торжествует добро, прекрасен и увлекателен,  даже если они вызывают святые грусть и слёзы, помогающие нам стать лучше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(20 сло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19280" y="214200"/>
            <a:ext cx="732456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Сочетание исключения и замены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47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Бывают,  правда, и злые сказки, в которых все наоборот. Но ведь и люди тоже бывают злые. А  между прочим, даже среди  вас, людей, злых значительно меньше, чем добрых,  а уж про сказки-то и говорить не приходится. Да и злой-то сказка  становится от того, что кто-то обидел  ее, сломал, согнул грубыми руками. Ведь  сказки не могут  быть злыми от природы, такими их делаете  вы, люди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(64 слова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Бывают и злые сказки, как и люди, которые их сделали. Но хороших людей, как и сказок, значительно больше. (18 слов)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4674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Сочетание замены, исключения и объединения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1916280"/>
            <a:ext cx="7931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Вы, люди, специально, а  чаще случайно, забыв о той поре, когда вы еще верили сказкам, причиняете друг другу боль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Вы, люди,  забываете о всё исцеляющей  доброте сказок и мечетесь в жизненном тупике, ища выхода и не видя его. А ведь он поразительно прост. Надо верить в чудеса.  Верить и  жить. Жить так, чтобы жизнь  превращалась только в добрые и веселые сказки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(61 слово)Люди, забывая о великой силе сказок, обижают друг  друга, не находят выхода из жизненных ситуаций. А выход прост: надо верить в чудеса и жить, превращая жизнь в добрые сказки.(29 слов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нельзя удалять из текста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Основные детали,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омогающие понять авторскую идею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аргументы автора,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используемые им для доказательства основной мысли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К приемам компрессии (сжатия) текста относятся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85075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Исклю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водных сл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днородных членов предлож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втор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днотипных пример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иторических вопросов и восклицани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цита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деталей, которые не влияют на ход авторской мыс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яснени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ссуждени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писани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лов, предложений, которые могут быть удалены без ущерба для содерж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и исключении необходимо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3628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Выделить главное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с точки зрения основной мысли текста, затем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убрать ненужные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подробности и детали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Объединить полученное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, используя основные средства связи между предложениями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зможность сокращения текста чаще всего основана на явлении избыточности реч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Сказка  живет везде, во всем: в деревьях, листьях,  в самом ветре,  в  земле, в кресле, в  доме, в марте, в  тебе самом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(Е.Кривченко)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(22 слова)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избыточными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вляются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однородные обстоятельства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нкретизирующие обобщающие слова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везде, во всем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Уберем эти однородные обстоятельства. Смысл предложения не изменится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Сказка  живет везде, во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во всем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5 слов)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Обобщение или объединение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парцеллированных предложений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ряда предложений, связанных одной мыслью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частей предложений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конкретных, единичных фактов, событий, явлени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При  объединении необходимо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Найти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в тексте мелкие,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единичные факты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Найти в них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общее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Объединить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эти факты на основе общего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Сформулировать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получившееся предложение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915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Сказки научат тебя быть добрым, ты увидишь, что они смогут  выручить из любой беды, в которую  ты  можешь угодить. Сказки покажут как  веселый, но  слабый может победить сильного, но хмурого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(30 слов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Сказки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научат доброте, оптимизму, выручат из беды. (7 слов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Замен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02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днородных членов обобщающим слово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ложного предложения – просты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асти предложения  или ряда предложений общим понятием или выражение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ямой речи – косвенно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асти текста одним предложение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асти предложения местоимением и т.д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и  замене необходимо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Найти слова, смысловые части или предложения, которые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можно сократить с помощью замены обобщающим словом, простым предложением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и т.д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Сформулировать получившееся предложение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4:55:10Z</dcterms:created>
  <dc:creator>Пользователь</dc:creator>
  <dc:description/>
  <dc:language>en-US</dc:language>
  <cp:lastModifiedBy>Пользователь</cp:lastModifiedBy>
  <dcterms:modified xsi:type="dcterms:W3CDTF">2010-04-05T06:15:32Z</dcterms:modified>
  <cp:revision>5</cp:revision>
  <dc:subject/>
  <dc:title>Сжатое изложение (теория и практика подготовки)</dc:title>
</cp:coreProperties>
</file>