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932-88E6-4746-9C01-E03EC59AB0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212-0474-44DF-B40D-EAD9F1BFE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52A4-4230-4435-A237-5A91EFD0C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B91-0795-420C-B866-AAAE17BED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D068-71E4-4A48-B4D1-A5268F4E1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7660-A1D4-42CA-8D3A-C9D3688B8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357A-F907-4EEF-8169-F883B5FA5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D4D-33A7-4CEF-A7C5-23993B9BF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A3DD-8687-4C42-9174-1BE45222D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5518-7B43-485A-8F8E-701478C0F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63C-9232-4505-B19D-3D4A2EBD4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4C6F-64A6-4797-A162-C31A4DBC6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41D7-ED38-47DE-A756-DF0C91F4D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2075-8569-47B3-86E8-AD54E24BD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21A7-0E07-4725-ADDA-5920B369A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313C-309B-4804-AE8B-F65AF2E7C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BF1D-6C1F-4A77-82D0-FF08822CF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6AA7-136F-43D3-A552-9A761E579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283D-E2A8-4C54-8902-725FCB48A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668-9CB0-406F-AC9B-AFBCD9A08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C505-B2FA-49FF-9A01-E457B1A31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254F-C2D2-4FD2-9D9A-A2C6A2BB2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1A1-746A-43FA-889B-EF877D23E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A9F-C204-4967-85E9-DEC5F21F6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F398-DBC5-49A8-86FD-C5A8C857E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103-56C8-445C-BA9F-DC24B0B4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F14-E5BA-4483-872A-03070877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8EA-B0C6-4BF3-8B4C-AC23C2B7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240-0D53-49CF-98B9-EB92B518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69A2-9D2E-40D7-8535-BBF4B61E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824-82E0-4B52-A43F-8E441A79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4463-F404-48B2-B1D6-8CBE879C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C04-1E7D-439D-9D23-0F4ED0C0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DA0B-603F-413B-8024-2E1DB391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1C94-E5FE-46FF-A1CC-A8BACC6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77A8-86D6-4DAC-B035-58F857E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4F1-F0EE-4496-B199-2A1D59C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FF29-7E5E-4D90-B5D3-34D7D5D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5AEF-F597-4FAE-A5FF-72A4DF4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0057-552B-448C-8A02-3C5485C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189-D832-4AF6-825C-5224486C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C19-33B5-4761-B1D4-013745DB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69C8-375D-4916-95FA-E4C6F29B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81FB-DBD9-4D10-BC58-31246F0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199E-996B-43AC-AAFF-4A7D0816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C984-7D77-4F76-8DAC-AD161E11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A020-6888-4F96-AC99-58F8114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E2A-2B40-4536-BB41-126B378A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CD1C-E942-47CF-BE0E-B807AD2C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2D58-7330-4B79-9EF1-8893F8A7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6D4C-A06E-49C3-A36E-8B0190B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155E-40CD-4249-822E-6EF73620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83B6-C449-42A3-ADFD-0CFC4F1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32F5-F16E-48E4-8CC8-55725C78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B89F-9225-49E5-BB37-4DFF45D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396-41F8-4D7F-AC2A-87B89CE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EFD-F104-4357-BE20-4DE7B364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FF6-64E9-48B0-A0E1-9C5C2E1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83F-64E9-47A4-92E2-7B9D534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89F-E6AF-408E-8613-EEF4B9C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041-698C-468D-AF74-3F74A0E5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0AB-9563-4C69-A9AB-DACB63CE47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CEB-FE2B-4DAE-B39B-5A9B1B1524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AEF4-D2AC-4079-A1A9-2A4B4E3D03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земле исчезают цве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каждым годом заметно э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ньше радости и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тавляет нам каждое ле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. Карас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Изображение 014"/>
          <p:cNvPicPr/>
          <p:nvPr/>
        </p:nvPicPr>
        <p:blipFill>
          <a:blip r:embed="rId1"/>
          <a:stretch/>
        </p:blipFill>
        <p:spPr>
          <a:xfrm>
            <a:off x="3348000" y="981000"/>
            <a:ext cx="4969080" cy="4896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177" name="Text Box 5"/>
          <p:cNvSpPr/>
          <p:nvPr/>
        </p:nvSpPr>
        <p:spPr>
          <a:xfrm>
            <a:off x="3348000" y="5867280"/>
            <a:ext cx="4680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4 Лилия  Б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LIYM BUSCHIA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611280" y="620640"/>
            <a:ext cx="1584360" cy="1728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3203640" y="549360"/>
            <a:ext cx="5184720" cy="482436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181" name="Text Box 6"/>
          <p:cNvSpPr/>
          <p:nvPr/>
        </p:nvSpPr>
        <p:spPr>
          <a:xfrm>
            <a:off x="3924360" y="5516640"/>
            <a:ext cx="4103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5 Пион молочноцвет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EONIA LAKTIFL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324000" y="549360"/>
            <a:ext cx="1514160" cy="1584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434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4356000" y="1197000"/>
          <a:ext cx="424836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197000"/>
                    <a:ext cx="4248360" cy="4032360"/>
                  </a:xfrm>
                  <a:prstGeom prst="rect">
                    <a:avLst/>
                  </a:prstGeom>
                  <a:ln w="284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Text Box 8"/>
          <p:cNvSpPr/>
          <p:nvPr/>
        </p:nvSpPr>
        <p:spPr>
          <a:xfrm>
            <a:off x="4500720" y="5483160"/>
            <a:ext cx="3887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5  Рододендрон даур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ODODENDRON DAURICU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1" descr="http://im6-tub.yandex.net/i?id=56151803&amp;tov=6"/>
          <p:cNvPicPr/>
          <p:nvPr/>
        </p:nvPicPr>
        <p:blipFill>
          <a:blip r:embed="rId3"/>
          <a:stretch/>
        </p:blipFill>
        <p:spPr>
          <a:xfrm>
            <a:off x="611280" y="476280"/>
            <a:ext cx="1616040" cy="1700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едкие рас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539640" y="549360"/>
            <a:ext cx="9367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6"/>
          <p:cNvGraphicFramePr/>
          <p:nvPr/>
        </p:nvGraphicFramePr>
        <p:xfrm>
          <a:off x="4356000" y="981000"/>
          <a:ext cx="4014720" cy="42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981000"/>
                    <a:ext cx="4014720" cy="4237200"/>
                  </a:xfrm>
                  <a:prstGeom prst="rect">
                    <a:avLst/>
                  </a:prstGeom>
                  <a:ln w="284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5" name="Text Box 9"/>
          <p:cNvSpPr/>
          <p:nvPr/>
        </p:nvSpPr>
        <p:spPr>
          <a:xfrm>
            <a:off x="4572000" y="5516640"/>
            <a:ext cx="424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6 Башмачок крупноцвет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PRIPEDIU MACRANT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http://im6-tub.yandex.net/i?id=56151803&amp;tov=6"/>
          <p:cNvPicPr/>
          <p:nvPr/>
        </p:nvPicPr>
        <p:blipFill>
          <a:blip r:embed="rId3"/>
          <a:stretch/>
        </p:blipFill>
        <p:spPr>
          <a:xfrm>
            <a:off x="539640" y="620640"/>
            <a:ext cx="1511280" cy="1656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-main-pic" descr="Картинка 9 из 19"/>
          <p:cNvPicPr/>
          <p:nvPr/>
        </p:nvPicPr>
        <p:blipFill>
          <a:blip r:embed="rId1"/>
          <a:stretch/>
        </p:blipFill>
        <p:spPr>
          <a:xfrm>
            <a:off x="4067280" y="836640"/>
            <a:ext cx="4249800" cy="432576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200" name="Text Box 6"/>
          <p:cNvSpPr/>
          <p:nvPr/>
        </p:nvSpPr>
        <p:spPr>
          <a:xfrm>
            <a:off x="3780000" y="5589720"/>
            <a:ext cx="46796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7 Башмачок пятн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PRIPEDIUM  CALCEO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539640" y="476280"/>
            <a:ext cx="1368360" cy="1584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Изображение 015"/>
          <p:cNvPicPr/>
          <p:nvPr/>
        </p:nvPicPr>
        <p:blipFill>
          <a:blip r:embed="rId1"/>
          <a:stretch/>
        </p:blipFill>
        <p:spPr>
          <a:xfrm>
            <a:off x="4067280" y="1523880"/>
            <a:ext cx="4537080" cy="415944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204" name="Text Box 5"/>
          <p:cNvSpPr/>
          <p:nvPr/>
        </p:nvSpPr>
        <p:spPr>
          <a:xfrm>
            <a:off x="4500720" y="5794200"/>
            <a:ext cx="3958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8 Ландыш Кей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ALLARIA KEISK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395280" y="692280"/>
            <a:ext cx="1295280" cy="136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ды 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неопределенны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татус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684360" y="692280"/>
            <a:ext cx="934920" cy="86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3780000" y="1341360"/>
            <a:ext cx="4895640" cy="453564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210" name="Text Box 5"/>
          <p:cNvSpPr/>
          <p:nvPr/>
        </p:nvSpPr>
        <p:spPr>
          <a:xfrm>
            <a:off x="4067280" y="5877000"/>
            <a:ext cx="41767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9   Красоднев ма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MEROCALLIS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611280" y="836640"/>
            <a:ext cx="1296720" cy="1512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3564000" y="404640"/>
            <a:ext cx="5400720" cy="532944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214" name="Text Box 5"/>
          <p:cNvSpPr/>
          <p:nvPr/>
        </p:nvSpPr>
        <p:spPr>
          <a:xfrm>
            <a:off x="4859280" y="5950080"/>
            <a:ext cx="3673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10 Купальница кита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OLLIUS CHINEN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395280" y="620640"/>
            <a:ext cx="1368360" cy="15130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дкие и исчезающие растен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крестностей с. Песчанооз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843280" y="3284640"/>
            <a:ext cx="59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571840" y="4292640"/>
            <a:ext cx="588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ученицы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с. Песчаноозё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пеха Екате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и Коваленко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счезнувшие виды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i?id=41359490&amp;tov=3"/>
          <p:cNvPicPr/>
          <p:nvPr/>
        </p:nvPicPr>
        <p:blipFill>
          <a:blip r:embed="rId1"/>
          <a:stretch/>
        </p:blipFill>
        <p:spPr>
          <a:xfrm>
            <a:off x="4284720" y="1052640"/>
            <a:ext cx="4464000" cy="43131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220" name="Text Box 11"/>
          <p:cNvSpPr/>
          <p:nvPr/>
        </p:nvSpPr>
        <p:spPr>
          <a:xfrm>
            <a:off x="4572000" y="5373720"/>
            <a:ext cx="41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. 11 Кубышка мал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468360" y="692280"/>
            <a:ext cx="1368360" cy="1512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?id=43836216&amp;tov=0"/>
          <p:cNvPicPr/>
          <p:nvPr/>
        </p:nvPicPr>
        <p:blipFill>
          <a:blip r:embed="rId1"/>
          <a:srcRect l="0" t="0" r="0" b="5592"/>
          <a:stretch/>
        </p:blipFill>
        <p:spPr>
          <a:xfrm>
            <a:off x="6012000" y="1268280"/>
            <a:ext cx="2663640" cy="30243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224" name="Picture 6" descr="i?id=29312879&amp;tov=7"/>
          <p:cNvPicPr/>
          <p:nvPr/>
        </p:nvPicPr>
        <p:blipFill>
          <a:blip r:embed="rId2"/>
          <a:stretch/>
        </p:blipFill>
        <p:spPr>
          <a:xfrm>
            <a:off x="3492360" y="1268280"/>
            <a:ext cx="2506680" cy="30243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225" name="Text Box 7"/>
          <p:cNvSpPr/>
          <p:nvPr/>
        </p:nvSpPr>
        <p:spPr>
          <a:xfrm>
            <a:off x="3995640" y="494172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. 12 Водяной орех плав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" descr="http://im6-tub.yandex.net/i?id=56151803&amp;tov=6"/>
          <p:cNvPicPr/>
          <p:nvPr/>
        </p:nvPicPr>
        <p:blipFill>
          <a:blip r:embed="rId3"/>
          <a:stretch/>
        </p:blipFill>
        <p:spPr>
          <a:xfrm>
            <a:off x="539640" y="692280"/>
            <a:ext cx="1368360" cy="1512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http://im6-tub.yandex.net/i?id=56151803&amp;tov=6"/>
          <p:cNvPicPr/>
          <p:nvPr/>
        </p:nvPicPr>
        <p:blipFill>
          <a:blip r:embed="rId1"/>
          <a:stretch/>
        </p:blipFill>
        <p:spPr>
          <a:xfrm>
            <a:off x="539640" y="333360"/>
            <a:ext cx="1368360" cy="15130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229" name="Text Box 10"/>
          <p:cNvSpPr/>
          <p:nvPr/>
        </p:nvSpPr>
        <p:spPr>
          <a:xfrm>
            <a:off x="4067280" y="566100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.13  Кувшинка четырех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http://im8-tub.yandex.net/i?id=121569563&amp;tov=8"/>
          <p:cNvPicPr/>
          <p:nvPr/>
        </p:nvPicPr>
        <p:blipFill>
          <a:blip r:embed="rId2"/>
          <a:stretch/>
        </p:blipFill>
        <p:spPr>
          <a:xfrm>
            <a:off x="4140360" y="920880"/>
            <a:ext cx="4464000" cy="394812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целым миром спорить 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готов поклясться голо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том, что есть глаза у всех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ни глядят на нас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ас раздумий наших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горький час беды и неу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ел я: цветы, как люди плач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росу роняют на песок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 Гамз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следовать  состояние редких и находящихся под угрозой исчезновения  цветковых дикорастущих  видов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ть литературный обзор по изучаемой пробл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видовой состав редких и находящихся под угрозой исчезновения видов дикорастущей фл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списки видов растений нуждающихся в охране по категориям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ть  фотоальбом и герба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с растений Красной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защит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КРАСНОЙ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324000" y="1989000"/>
            <a:ext cx="502920" cy="503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187280" y="206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ающие 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324000" y="2852640"/>
            <a:ext cx="5029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332000" y="278136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с сокращающейся числен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324000" y="3789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332000" y="3789360"/>
            <a:ext cx="43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дкие вид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324000" y="4941720"/>
            <a:ext cx="502920" cy="503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258920" y="472428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неопределенным стату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счезающие  вид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611280" y="404640"/>
            <a:ext cx="936360" cy="865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Изображение 018"/>
          <p:cNvPicPr/>
          <p:nvPr/>
        </p:nvPicPr>
        <p:blipFill>
          <a:blip r:embed="rId1"/>
          <a:stretch/>
        </p:blipFill>
        <p:spPr>
          <a:xfrm>
            <a:off x="3708360" y="1557360"/>
            <a:ext cx="4896000" cy="403236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3851280" y="5661000"/>
            <a:ext cx="49687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 Касатик глад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IS LAEVIG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755640" y="476280"/>
            <a:ext cx="1440000" cy="1584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3708360" y="836640"/>
            <a:ext cx="4319640" cy="4680000"/>
          </a:xfrm>
          <a:prstGeom prst="rect">
            <a:avLst/>
          </a:prstGeom>
          <a:ln w="28440">
            <a:solidFill>
              <a:srgbClr val="3333ff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3635280" y="5589720"/>
            <a:ext cx="446580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 Прострел (Сон –трава)   многонадре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SATILLA MULTI/F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324000" y="620640"/>
            <a:ext cx="1295280" cy="1440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Изображение 011"/>
          <p:cNvPicPr/>
          <p:nvPr/>
        </p:nvPicPr>
        <p:blipFill>
          <a:blip r:embed="rId1"/>
          <a:stretch/>
        </p:blipFill>
        <p:spPr>
          <a:xfrm>
            <a:off x="3635280" y="836640"/>
            <a:ext cx="5184720" cy="489744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173" name="Text Box 10"/>
          <p:cNvSpPr/>
          <p:nvPr/>
        </p:nvSpPr>
        <p:spPr>
          <a:xfrm>
            <a:off x="3419640" y="5734080"/>
            <a:ext cx="572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 Лилия  даурская или пенсильва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ium pensylnvan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" descr="http://im6-tub.yandex.net/i?id=56151803&amp;tov=6"/>
          <p:cNvPicPr/>
          <p:nvPr/>
        </p:nvPicPr>
        <p:blipFill>
          <a:blip r:embed="rId2"/>
          <a:stretch/>
        </p:blipFill>
        <p:spPr>
          <a:xfrm>
            <a:off x="468360" y="549360"/>
            <a:ext cx="1439640" cy="16556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0:36:26Z</dcterms:created>
  <dc:creator>пользователь</dc:creator>
  <dc:description/>
  <dc:language>en-US</dc:language>
  <cp:lastModifiedBy>1</cp:lastModifiedBy>
  <dcterms:modified xsi:type="dcterms:W3CDTF">2012-03-12T10:16:32Z</dcterms:modified>
  <cp:revision>25</cp:revision>
  <dc:subject/>
  <dc:title>Слайд 1</dc:title>
</cp:coreProperties>
</file>