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EEF8-9FC7-40C0-99B4-C4CB7C69A7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44E-09D1-4C6E-AC3C-0951BBCDAB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918-B8BC-4F05-80CE-47778902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744-28AF-4436-9593-970B145A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ABC-2C9E-420B-BAA2-F157612C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8F8-59DC-4E07-9D9F-CC108E12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7EF6-325F-44EB-8864-F884C395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319-05C3-47A9-9B04-E73A7727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511B-815E-4C98-8F1C-B107C71F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7833-C811-405C-99DE-2132B35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5E67-760C-4E00-81B0-45C96436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4247-19FB-4190-B1D7-4C84DF4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6C2B-314F-4292-94A8-2732F48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F6C-5DC1-4341-8193-80F33C7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E718-6271-48D4-BBFF-8C7F861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A61C-A72E-4F1B-AA01-D9613C2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D2AB-2F57-4078-902C-8062BCFA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951-7E38-4D9A-BDEF-A056734C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299-5615-484D-9368-550CF977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93C0-FDA2-48C0-84B0-1B05D05A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81E5-A7FC-43E3-8B1D-D8369A1D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9936-23EA-4599-8276-453BBD7A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E3B1-BBED-42DE-A92F-3A0B4BBA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C771-B42F-455A-892A-833EFE41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9EA-166C-4063-9635-5B3004C5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9D43-BE58-45D5-9DEA-78347917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ED12-C0CF-44E0-B44B-0490E4AD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9E48-F75A-4AD5-8801-E8D2A131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0D4B-74AA-4CE4-9F2C-6097639D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74F8-5A49-4531-9F5B-59A33E0D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5E93-EA8A-45C3-88FE-D58261C9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992E-EE93-4E02-9E27-02CBCBD7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BB7A-F420-4048-A0C3-949A51D5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991C-C7E2-46D8-9940-65BE1D7F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189E-E339-40FF-8A50-2BD41B5B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84C-A0BD-4374-A5BE-8F4345C4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AC91-1080-4472-A95F-E51AFF6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8282-608F-44C4-A7D2-5F5F0FD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1D7B-912B-4956-9F44-07E17B5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5D2A-1909-47DC-A688-3C4E4EF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815C-FF1D-4283-8F44-03F90CC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F44A-F22D-48C6-819A-9A569D5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2F26-0AAC-4755-9BC9-F324D60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A2AA-0DD6-4E37-8567-0CE7B335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55AD-0288-49AF-9E50-E9D2E72B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1C9-67C5-4E4B-95D2-62A5AD1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CFA-9C4E-4EBE-988E-17403849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96C-116B-488F-8967-5511637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6F9-173F-45EC-A431-8E5FE79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60D-4BFC-410F-B351-CA8B574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A0B7-CA97-459D-87D2-337D7BCF42BA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a7a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a7a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6814-24DA-473A-8293-19AE0AFF6BE5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a7a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a7afc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7afc6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097A-76B2-40E2-946E-79D44C755184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499E-A0E5-4E2B-A7B7-19BD6EBBBAB3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23.xml"/><Relationship Id="rId15" Type="http://schemas.openxmlformats.org/officeDocument/2006/relationships/slide" Target="slide24.xml"/><Relationship Id="rId16" Type="http://schemas.openxmlformats.org/officeDocument/2006/relationships/slide" Target="slide25.xml"/><Relationship Id="rId17" Type="http://schemas.openxmlformats.org/officeDocument/2006/relationships/slide" Target="slide26.xml"/><Relationship Id="rId18" Type="http://schemas.openxmlformats.org/officeDocument/2006/relationships/slide" Target="slide27.xml"/><Relationship Id="rId19" Type="http://schemas.openxmlformats.org/officeDocument/2006/relationships/slide" Target="slide28.xml"/><Relationship Id="rId20" Type="http://schemas.openxmlformats.org/officeDocument/2006/relationships/slide" Target="slide29.xml"/><Relationship Id="rId21" Type="http://schemas.openxmlformats.org/officeDocument/2006/relationships/slide" Target="slide30.xml"/><Relationship Id="rId22" Type="http://schemas.openxmlformats.org/officeDocument/2006/relationships/slide" Target="slide31.xml"/><Relationship Id="rId23" Type="http://schemas.openxmlformats.org/officeDocument/2006/relationships/slide" Target="slide32.xml"/><Relationship Id="rId24" Type="http://schemas.openxmlformats.org/officeDocument/2006/relationships/slide" Target="slide33.xml"/><Relationship Id="rId25" Type="http://schemas.openxmlformats.org/officeDocument/2006/relationships/slide" Target="slide34.xml"/><Relationship Id="rId26" Type="http://schemas.openxmlformats.org/officeDocument/2006/relationships/slide" Target="slide35.xml"/><Relationship Id="rId27" Type="http://schemas.openxmlformats.org/officeDocument/2006/relationships/slide" Target="slide36.xml"/><Relationship Id="rId28" Type="http://schemas.openxmlformats.org/officeDocument/2006/relationships/slide" Target="slide37.xml"/><Relationship Id="rId29" Type="http://schemas.openxmlformats.org/officeDocument/2006/relationships/slide" Target="slide38.xml"/><Relationship Id="rId30" Type="http://schemas.openxmlformats.org/officeDocument/2006/relationships/slide" Target="slide39.xml"/><Relationship Id="rId31" Type="http://schemas.openxmlformats.org/officeDocument/2006/relationships/slide" Target="slide40.xml"/><Relationship Id="rId32" Type="http://schemas.openxmlformats.org/officeDocument/2006/relationships/slide" Target="slide41.xml"/><Relationship Id="rId33" Type="http://schemas.openxmlformats.org/officeDocument/2006/relationships/slide" Target="slide42.xml"/><Relationship Id="rId34" Type="http://schemas.openxmlformats.org/officeDocument/2006/relationships/slide" Target="slide43.xml"/><Relationship Id="rId35" Type="http://schemas.openxmlformats.org/officeDocument/2006/relationships/slide" Target="slide44.xml"/><Relationship Id="rId36" Type="http://schemas.openxmlformats.org/officeDocument/2006/relationships/slide" Target="slide45.xml"/><Relationship Id="rId37" Type="http://schemas.openxmlformats.org/officeDocument/2006/relationships/slide" Target="slide46.xml"/><Relationship Id="rId38" Type="http://schemas.openxmlformats.org/officeDocument/2006/relationships/slide" Target="slide47.xml"/><Relationship Id="rId39" Type="http://schemas.openxmlformats.org/officeDocument/2006/relationships/slide" Target="slide48.xml"/><Relationship Id="rId40" Type="http://schemas.openxmlformats.org/officeDocument/2006/relationships/slide" Target="slide49.xml"/><Relationship Id="rId41" Type="http://schemas.openxmlformats.org/officeDocument/2006/relationships/slide" Target="slide50.xml"/><Relationship Id="rId42" Type="http://schemas.openxmlformats.org/officeDocument/2006/relationships/slide" Target="slide51.xml"/><Relationship Id="rId43" Type="http://schemas.openxmlformats.org/officeDocument/2006/relationships/slide" Target="slide52.xml"/><Relationship Id="rId44" Type="http://schemas.openxmlformats.org/officeDocument/2006/relationships/slide" Target="slide53.xml"/><Relationship Id="rId45" Type="http://schemas.openxmlformats.org/officeDocument/2006/relationships/slide" Target="slide54.xml"/><Relationship Id="rId46" Type="http://schemas.openxmlformats.org/officeDocument/2006/relationships/slide" Target="slide55.xml"/><Relationship Id="rId47" Type="http://schemas.openxmlformats.org/officeDocument/2006/relationships/slide" Target="slide56.xml"/><Relationship Id="rId48" Type="http://schemas.openxmlformats.org/officeDocument/2006/relationships/slide" Target="slide57.xml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36360" y="1365120"/>
            <a:ext cx="8821800" cy="1920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7afc6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7afc6"/>
                </a:solidFill>
                <a:latin typeface="Arial Narrow"/>
              </a:rPr>
              <a:t>Советский Союз в 1945-1991 гг.</a:t>
            </a:r>
            <a:endParaRPr b="0" lang="en-US" sz="4000" spc="-1" strike="noStrike">
              <a:solidFill>
                <a:srgbClr val="a7afc6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3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чебник лаконично сообщает, что в 1957 году были ликвидированы МТС. Расшифруйте аббревиатуру правильно.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21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иод оживления духовной жизни при Хрущёве получил название по произведению Ильи Эренбурга. Как называлось это произведение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24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окончания Великой Отечественной войны Совет народных комиссаров был преобразован. Как же он стал называться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27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 известно, что после поездки по США продовольственные проблемы страны Н.С. Хрущёв собирался решить увеличив посевы этой сельскохозяйственной культуры. Какой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30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большой неохотой и лишь после протестов США и Англии против нарушения территориальной целостности, СССР в 1946 году вывел войска из этой ближневосточной страны. Что это за страна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33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46 году было принято критического характера постановление ЦК ВКП(б) «О журналах «Звезда» и ...». Какой ещё журнал был упомянут в названии постановления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36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рибский кризис, как известно, поставил мир на грань ядерной войны. В каком году происходили эти события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39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71680" y="178596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аком году Никиту Сергеевича Хрущёва отстранили от руководства СССР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42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70 году в Тольятти открылся новый завод. Какой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45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61 году в одной из европейских столиц было построено архитектурное сооружение общей длиной 102 километра. Нельзя сказать, чтобы оно было очень красивым – на него возлагали другие задачи. В каком же городе его построили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48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28760" y="857160"/>
          <a:ext cx="8229600" cy="5608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54 году в Советском Союзе под Обнинском впервые был построен такой объект.  Какой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51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чьим именем традиционно связывают экономические реформы второй половины 1960-х годов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54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то правил страной после Ю.В. Андропова и перед М.С. Горбачёвым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57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период «оттепели» одним из самых читаемых в стране литературно-художественных изданий был журнал «Новый мир». Кто в это время был его редактором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60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ее крупный конфликт начального периода «холодной войны» произошёл в 1950-1953 гг. А где он происходил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63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называлась программа экономических реформ, предложенная Шаталиным и Явлинским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66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аком году в Москве проходил Всемирный фестиваль молодёжи и студентов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69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смерти Сталина он стал первым заместителем Председателя Совета Министров СССР, но занимал его недолго. Уже в конце года он был казнён как изменник Родины. Кто этот человек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72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называется процесс перевода военных предприятий на производство гражданской продукции, имевший место при Горбачёве? 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75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1957 по 1985 год министерство иностранных дел СССР возглавлял этот человек, заслуживший на Западе прозвище «Господин Нет». Кто это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78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0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Советская политика  и советские политики</a:t>
            </a:r>
            <a:endParaRPr b="0" lang="en-US" sz="6600" spc="-1" strike="noStrike">
              <a:solidFill>
                <a:srgbClr val="a7afc6"/>
              </a:solidFill>
              <a:latin typeface="Constantia"/>
            </a:endParaRPr>
          </a:p>
        </p:txBody>
      </p:sp>
    </p:spTree>
  </p:cSld>
  <p:transition spd="med" advTm="3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всех лауреатов Нобелевской премии в Советском Союзе больше всего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Л.Д.Ландау, И.Е.Тамм, Н.Г.Басов и другие) получили премию в этой области науки. В какой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81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закрытом заседании съезда КПСС Хрущёв выступил с докладом «О преодолении культа личности и его последствий». Назовите порядковый номер съезда.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84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кон о государственном предприятии 1987 года подразумевал перевод предприятий на новый принцип хозяйствования. Элементы его, правда, внедрялись ещё в 1965-ом. Как называется этот принцип хозяйствования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87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аком году была принята последняя конституция Советского Союза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90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смерти Брежнева страну возглавил бывший руководитель КГБ. Как его звали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93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75 году закончило свою работу Совещание по безопасности и сотрудничеству в Европе. Главные принципы, выработанные им, выражены в Заключительном акте, носящем название по городу, в котором он был подписан. Что это за город?  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96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1954 по 1959 годы в Казахстане было впервые запахано под сельскохозяйственное производство       42 миллиона гектар прежде необрабатывавшейся земли. Какое название носил этот процесс? 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299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аком году был запущен первый искусственный спутник Земли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02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 августа 1991 года известно как начало августовского путча. В стране был создан новый орган власти – ГКЧП. Расшифруйте эту аббревиатуру.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05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70-е годы этот московский театр был без сомнения самым популярным. Высоцкий. Золотухин. Смехов. И многие другие под руководством Юрия Любимова. Как назывался этот театр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08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Экономика  СССР</a:t>
            </a:r>
            <a:endParaRPr b="0" lang="en-US" sz="6600" spc="-1" strike="noStrike">
              <a:solidFill>
                <a:srgbClr val="a7afc6"/>
              </a:solidFill>
              <a:latin typeface="Constantia"/>
            </a:endParaRPr>
          </a:p>
        </p:txBody>
      </p:sp>
    </p:spTree>
  </p:cSld>
  <p:transition spd="med" advTm="3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щённые к изданию книги в СССР порою распространялись в рукописных вариантах или отпечатанные на печатной машинке. Как называли это явление? 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11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59 году он поставил задачу «догнать и перегнать Америку», а позже и вовсе провозгласил, что к 1980 году мы построим коммунизм. Кто этот человек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14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ъезде народных депутатов был учреждён пост Президента СССР. На этом посту успел побывать всего один человек. Кто же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17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ое название носила военно-политическая организация, которую СССР создал в пику НАТО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20" name="Управляющая кнопка: возврат 3">
            <a:hlinkClick r:id="rId2" action="ppaction://hlinksldjump"/>
          </p:cNvPr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53 году на руководство Советским Союзом помимо Берии и Хрущёва всерьёз претендовал и этот человек. После смерти Сталина он возглавил Совет Министров. Кто это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23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летнее пребывание ограниченного контингента советских войск в этой стране - одна из самых неоднозначных страниц в истории СССР. В какой стране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26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м известны писатели Андрей Синявский и Юрий Даниэль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29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начале правления Горбачёва основой экономических программ была стратегия использования всех имеющихся резервов для повышения производительности труда. Как называлась эта стратегия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32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декабря 1989 года лидеры Болгарии, Венгрии, ГДР, Польши и СССР приняли совместное заявление, в котором признали, что в 1968 году допустили ошибку, введя войска в эту страну. В какую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35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90 году этот человек стал Председателем Верховного Совета Российской Федерации и заявил о своём выходе из рядов КПСС. Кто это? 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38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1643040"/>
            <a:ext cx="792936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0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Внешняя политика Советского государства</a:t>
            </a:r>
            <a:endParaRPr b="0" lang="en-US" sz="6600" spc="-1" strike="noStrike">
              <a:solidFill>
                <a:srgbClr val="a7afc6"/>
              </a:solidFill>
              <a:latin typeface="Constantia"/>
            </a:endParaRPr>
          </a:p>
        </p:txBody>
      </p:sp>
    </p:spTree>
  </p:cSld>
  <p:transition spd="med" advTm="3000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ные отношения между Югославией и СССР после второй мировой войны сложились во многом из-за взаимной личной неприязни их лидеров. Назовите их обоих.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41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57 году по решению Хрущёва вместо отраслевых министерств были созданы новые структуры. Как они назывались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44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1969 году на реке Уссури произошёл наиболее крупный пограничный конфликт между Китаем и СССР. Как назывался остров, вокруг которого происходила борьба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47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ередине 1940-х этого руководителя партийной организации Ленинграда считали главным претендентом на роль преемника Сталина. Но умер он даже раньше. Кто это?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50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то официально считается автором произведений «Малая земля», «Возрождение» и «Целина»?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53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xit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го скульптора Хрущёв резко критиковал. А после смерти Хрущёва он же делал надгробие для его могилы. Кто же этот неизвестный скульптор?  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56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 1960-1985 гг. доля этих двух энергоносителей в экспорте СССР возросла с 16,2 до 54,4%. Назовите эти два товара.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59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7785360" cy="1530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кономическое объединение стран социалистического лагеря сокращённо называлось СЭВ. Расшифруйте аббревиатуру.</a:t>
            </a:r>
            <a:endParaRPr b="0" lang="en-US" sz="3000" spc="-1" strike="noStrike">
              <a:solidFill>
                <a:srgbClr val="a7afc6"/>
              </a:solidFill>
              <a:latin typeface="Constantia"/>
            </a:endParaRPr>
          </a:p>
        </p:txBody>
      </p:sp>
      <p:sp>
        <p:nvSpPr>
          <p:cNvPr id="362" name="Управляющая кнопка: возврат 3"/>
          <p:cNvSpPr/>
          <p:nvPr/>
        </p:nvSpPr>
        <p:spPr>
          <a:xfrm>
            <a:off x="7786800" y="60008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a7afc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6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Культура в    Советском Союзе</a:t>
            </a:r>
            <a:endParaRPr b="0" lang="en-US" sz="6600" spc="-1" strike="noStrike">
              <a:solidFill>
                <a:srgbClr val="a7afc6"/>
              </a:solidFill>
              <a:latin typeface="Constantia"/>
            </a:endParaRPr>
          </a:p>
        </p:txBody>
      </p:sp>
    </p:spTree>
  </p:cSld>
  <p:transition spd="med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8760" y="857160"/>
          <a:ext cx="8229600" cy="5608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28760" y="857160"/>
          <a:ext cx="8229600" cy="5608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p:transition spd="med" advTm="10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760" y="857160"/>
          <a:ext cx="8229600" cy="5608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1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2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3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4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6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7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8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29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1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2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3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4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5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6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7" action="ppaction://hlinksldjump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8" action="ppaction://hlinksldjump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39" action="ppaction://hlinksldjump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0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1" action="ppaction://hlinksldjump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2" action="ppaction://hlinksldjump"/>
                        </a:rPr>
                        <a:t>4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3" action="ppaction://hlinksldjump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4" action="ppaction://hlinksldjump"/>
                        </a:rPr>
                        <a:t>4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5" action="ppaction://hlinksldjump"/>
                        </a:rPr>
                        <a:t>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6" action="ppaction://hlinksldjump"/>
                        </a:rPr>
                        <a:t>4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7" action="ppaction://hlinksldjump"/>
                        </a:rPr>
                        <a:t>4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  <a:hlinkClick r:id="rId48" action="ppaction://hlinksldjump"/>
                        </a:rPr>
                        <a:t>4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0-09-13T21:09:30Z</dcterms:modified>
  <cp:revision>60</cp:revision>
  <dc:subject/>
  <dc:title>Самый умный</dc:title>
</cp:coreProperties>
</file>