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wmf" ContentType="image/x-wmf"/>
  <Override PartName="/ppt/media/image99.png" ContentType="image/png"/>
  <Override PartName="/ppt/media/image55.wmf" ContentType="image/x-wmf"/>
  <Override PartName="/ppt/media/image54.jpeg" ContentType="image/jpeg"/>
  <Override PartName="/ppt/media/image51.png" ContentType="image/png"/>
  <Override PartName="/ppt/media/image49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28.png" ContentType="image/png"/>
  <Override PartName="/ppt/media/image42.jpeg" ContentType="image/jpeg"/>
  <Override PartName="/ppt/media/image41.png" ContentType="image/png"/>
  <Override PartName="/ppt/media/image3.jpeg" ContentType="image/jpeg"/>
  <Override PartName="/ppt/media/image40.png" ContentType="image/png"/>
  <Override PartName="/ppt/media/image39.png" ContentType="image/png"/>
  <Override PartName="/ppt/media/image61.wmf" ContentType="image/x-wmf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93.wmf" ContentType="image/x-wmf"/>
  <Override PartName="/ppt/media/image33.jpeg" ContentType="image/jpeg"/>
  <Override PartName="/ppt/media/image30.wmf" ContentType="image/x-wmf"/>
  <Override PartName="/ppt/media/image58.jpeg" ContentType="image/jpeg"/>
  <Override PartName="/ppt/media/image11.jpeg" ContentType="image/jpeg"/>
  <Override PartName="/ppt/media/image87.jpeg" ContentType="image/jpeg"/>
  <Override PartName="/ppt/media/image92.wmf" ContentType="image/x-wmf"/>
  <Override PartName="/ppt/media/image23.wmf" ContentType="image/x-wmf"/>
  <Override PartName="/ppt/media/image6.jpeg" ContentType="image/jpeg"/>
  <Override PartName="/ppt/media/image52.png" ContentType="image/png"/>
  <Override PartName="/ppt/media/image95.jpeg" ContentType="image/jpeg"/>
  <Override PartName="/ppt/media/image98.jpeg" ContentType="image/jpeg"/>
  <Override PartName="/ppt/media/image59.png" ContentType="image/png"/>
  <Override PartName="/ppt/media/image29.png" ContentType="image/png"/>
  <Override PartName="/ppt/media/image64.wmf" ContentType="image/x-wmf"/>
  <Override PartName="/ppt/media/image66.wmf" ContentType="image/x-wmf"/>
  <Override PartName="/ppt/media/image77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65.wmf" ContentType="image/x-wmf"/>
  <Override PartName="/ppt/media/image71.jpeg" ContentType="image/jpeg"/>
  <Override PartName="/ppt/media/image72.jpeg" ContentType="image/jpeg"/>
  <Override PartName="/ppt/media/image74.jpeg" ContentType="image/jpeg"/>
  <Override PartName="/ppt/media/image73.jpeg" ContentType="image/jpeg"/>
  <Override PartName="/ppt/media/drumroll.wav" ContentType="audio/x-wav"/>
  <Override PartName="/ppt/media/image97.jpeg" ContentType="image/jpeg"/>
  <Override PartName="/ppt/media/image68.jpeg" ContentType="image/jpeg"/>
  <Override PartName="/ppt/media/image96.png" ContentType="image/png"/>
  <Override PartName="/ppt/media/image79.jpeg" ContentType="image/jpeg"/>
  <Override PartName="/ppt/media/image91.jpeg" ContentType="image/jpeg"/>
  <Override PartName="/ppt/media/image75.jpeg" ContentType="image/jpeg"/>
  <Override PartName="/ppt/media/image94.jpeg" ContentType="image/jpeg"/>
  <Override PartName="/ppt/media/image21.jpeg" ContentType="image/jpeg"/>
  <Override PartName="/ppt/media/image22.wmf" ContentType="image/x-wmf"/>
  <Override PartName="/ppt/media/image20.jpeg" ContentType="image/jpeg"/>
  <Override PartName="/ppt/media/image90.jpeg" ContentType="image/jpeg"/>
  <Override PartName="/ppt/media/image18.gif" ContentType="image/gif"/>
  <Override PartName="/ppt/media/image53.png" ContentType="image/png"/>
  <Override PartName="/ppt/media/image63.wmf" ContentType="image/x-wmf"/>
  <Override PartName="/ppt/media/image78.jpeg" ContentType="image/jpeg"/>
  <Override PartName="/ppt/media/image80.png" ContentType="image/png"/>
  <Override PartName="/ppt/media/image8.jpeg" ContentType="image/jpeg"/>
  <Override PartName="/ppt/media/image82.jpeg" ContentType="image/jpeg"/>
  <Override PartName="/ppt/media/image76.jpeg" ContentType="image/jpeg"/>
  <Override PartName="/ppt/media/image62.wmf" ContentType="image/x-wmf"/>
  <Override PartName="/ppt/media/image84.jpeg" ContentType="image/jpeg"/>
  <Override PartName="/ppt/media/image25.jpeg" ContentType="image/jpeg"/>
  <Override PartName="/ppt/media/image19.gif" ContentType="image/gi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4.jpeg" ContentType="image/jpeg"/>
  <Override PartName="/ppt/media/image83.jpeg" ContentType="image/jpeg"/>
  <Override PartName="/ppt/media/image88.jpeg" ContentType="image/jpeg"/>
  <Override PartName="/ppt/media/image12.jpeg" ContentType="image/jpeg"/>
  <Override PartName="/ppt/media/image13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27.jpeg" ContentType="image/jpeg"/>
  <Override PartName="/ppt/media/image10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417-DC19-4839-8022-2EA98D1C7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ображено на картинках? Как одним словом называют: </a:t>
            </a:r>
            <a:r>
              <a:rPr b="0" lang="ru-RU" sz="1200" spc="-1" strike="noStrike">
                <a:solidFill>
                  <a:srgbClr val="0d0d0d"/>
                </a:solidFill>
                <a:latin typeface="Calibri"/>
              </a:rPr>
              <a:t>пальт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юки, юбку, футболку, шубу, блузку? 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8011-EBA6-4E20-B9F0-4815734AC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ображено на картинках? Как одним словом называют: тапки, сапоги, пуанты, ботинки, лапти, шлепки?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1DA-BE6A-4AEC-B6D2-C363D09E5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B6E8-290F-44B2-9B90-C04C53374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укты, овощи.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6FF2-3B01-4D0F-86DA-62B6A95AC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, существительное, подлежащее.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CDD1-7E26-4EEF-88AF-3991A73B7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D826-3BA4-4EA0-A1A6-EBFC3D1E6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ADB-71B1-436F-A087-C7635D83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EEC-9D0E-4DBA-96AC-ED9C1995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3C6-10F6-44E2-9CAA-9B2880DF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EF3-3399-4AAD-9C47-20879804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E8B-FB42-4B62-A144-A2806A3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D95-E9F9-4816-BF21-587F2392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A65-B1A3-4A76-9952-614BE656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A6D-A4D7-49C2-BA5A-E225467A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861-A20C-4F92-B9B4-75EC9E72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317-7AC8-4C9F-BB9B-E4F4A5B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C8C-407B-463D-9B93-9C65DF5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C7A-5E38-40F2-A58D-DF01621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029-BFB1-44A5-9A16-5CE49A15D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png"/><Relationship Id="rId7" Type="http://schemas.openxmlformats.org/officeDocument/2006/relationships/image" Target="../media/image60.wmf"/><Relationship Id="rId8" Type="http://schemas.openxmlformats.org/officeDocument/2006/relationships/image" Target="../media/image60.wmf"/><Relationship Id="rId9" Type="http://schemas.openxmlformats.org/officeDocument/2006/relationships/image" Target="../media/image60.wmf"/><Relationship Id="rId10" Type="http://schemas.openxmlformats.org/officeDocument/2006/relationships/image" Target="../media/image60.wmf"/><Relationship Id="rId11" Type="http://schemas.openxmlformats.org/officeDocument/2006/relationships/image" Target="../media/image60.wmf"/><Relationship Id="rId12" Type="http://schemas.openxmlformats.org/officeDocument/2006/relationships/image" Target="../media/image60.wmf"/><Relationship Id="rId13" Type="http://schemas.openxmlformats.org/officeDocument/2006/relationships/image" Target="../media/image60.wmf"/><Relationship Id="rId14" Type="http://schemas.openxmlformats.org/officeDocument/2006/relationships/image" Target="../media/image60.wmf"/><Relationship Id="rId15" Type="http://schemas.openxmlformats.org/officeDocument/2006/relationships/image" Target="../media/image60.wmf"/><Relationship Id="rId16" Type="http://schemas.openxmlformats.org/officeDocument/2006/relationships/image" Target="../media/image60.wmf"/><Relationship Id="rId17" Type="http://schemas.openxmlformats.org/officeDocument/2006/relationships/image" Target="../media/image60.wmf"/><Relationship Id="rId18" Type="http://schemas.openxmlformats.org/officeDocument/2006/relationships/image" Target="../media/image60.wmf"/><Relationship Id="rId19" Type="http://schemas.openxmlformats.org/officeDocument/2006/relationships/image" Target="../media/image60.wmf"/><Relationship Id="rId20" Type="http://schemas.openxmlformats.org/officeDocument/2006/relationships/image" Target="../media/image61.wmf"/><Relationship Id="rId21" Type="http://schemas.openxmlformats.org/officeDocument/2006/relationships/image" Target="../media/image62.wmf"/><Relationship Id="rId22" Type="http://schemas.openxmlformats.org/officeDocument/2006/relationships/image" Target="../media/image63.wmf"/><Relationship Id="rId23" Type="http://schemas.openxmlformats.org/officeDocument/2006/relationships/image" Target="../media/image64.wmf"/><Relationship Id="rId24" Type="http://schemas.openxmlformats.org/officeDocument/2006/relationships/image" Target="../media/image65.wmf"/><Relationship Id="rId25" Type="http://schemas.openxmlformats.org/officeDocument/2006/relationships/image" Target="../media/image66.wm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jpeg"/><Relationship Id="rId10" Type="http://schemas.openxmlformats.org/officeDocument/2006/relationships/image" Target="../media/image76.jpeg"/><Relationship Id="rId11" Type="http://schemas.openxmlformats.org/officeDocument/2006/relationships/image" Target="../media/image77.jpeg"/><Relationship Id="rId12" Type="http://schemas.openxmlformats.org/officeDocument/2006/relationships/image" Target="../media/image78.jpeg"/><Relationship Id="rId13" Type="http://schemas.openxmlformats.org/officeDocument/2006/relationships/image" Target="../media/image7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wmf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64396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Специфические ошибки в письменной речи, связанные с нарушением фонемного распознавания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714920" y="557208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МАОУ «Средняя школа №8»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Шипелё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sashka-1sep.jpg"/>
          <p:cNvPicPr/>
          <p:nvPr/>
        </p:nvPicPr>
        <p:blipFill>
          <a:blip r:embed="rId1"/>
          <a:stretch/>
        </p:blipFill>
        <p:spPr>
          <a:xfrm>
            <a:off x="857160" y="4071960"/>
            <a:ext cx="3214800" cy="2286000"/>
          </a:xfrm>
          <a:prstGeom prst="rect">
            <a:avLst/>
          </a:prstGeom>
          <a:ln w="9360">
            <a:solidFill>
              <a:srgbClr val="b45f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Развитие слухового вос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6760" y="107136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умения различать высоту, силу, тембр гол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умения различать слова близкие по звуковому соста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умение различать гласные – согласные, звонкие – глух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ёрдые- мягкие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denznanij_az.jpg"/>
          <p:cNvPicPr/>
          <p:nvPr/>
        </p:nvPicPr>
        <p:blipFill>
          <a:blip r:embed="rId1"/>
          <a:stretch/>
        </p:blipFill>
        <p:spPr>
          <a:xfrm>
            <a:off x="5715000" y="435780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Arial"/>
              </a:rPr>
              <a:t>Игра «Веселые наз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36925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5286240" y="1143000"/>
            <a:ext cx="107172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7286760" y="1143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214200" y="2286000"/>
            <a:ext cx="835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ман                       альбом                  витамин                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ан                        айбом                    митанин                 къ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ан                        аньбом                  фитамин                 кле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ам                       авьбом                  виталим                 т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42960" y="3643200"/>
            <a:ext cx="8001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808000"/>
                </a:solidFill>
                <a:latin typeface="Arial"/>
              </a:rPr>
              <a:t>Игра «Повтори словеч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428760" y="4929120"/>
            <a:ext cx="8358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 – бак – так                    ток – тук – так                      бак – бак – 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к - каток – лоток           ком – дом - гном                  батон – бутон – бетон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8"/>
          <p:cNvSpPr/>
          <p:nvPr/>
        </p:nvSpPr>
        <p:spPr>
          <a:xfrm>
            <a:off x="114300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9"/>
          <p:cNvSpPr/>
          <p:nvPr/>
        </p:nvSpPr>
        <p:spPr>
          <a:xfrm>
            <a:off x="7215120" y="2428920"/>
            <a:ext cx="14292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0"/>
          <p:cNvSpPr/>
          <p:nvPr/>
        </p:nvSpPr>
        <p:spPr>
          <a:xfrm>
            <a:off x="3286080" y="2428920"/>
            <a:ext cx="14292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1"/>
          <p:cNvSpPr/>
          <p:nvPr/>
        </p:nvSpPr>
        <p:spPr>
          <a:xfrm>
            <a:off x="5214960" y="2428920"/>
            <a:ext cx="14292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2"/>
          <p:cNvSpPr/>
          <p:nvPr/>
        </p:nvSpPr>
        <p:spPr>
          <a:xfrm>
            <a:off x="1143000" y="2928960"/>
            <a:ext cx="14292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3"/>
          <p:cNvSpPr/>
          <p:nvPr/>
        </p:nvSpPr>
        <p:spPr>
          <a:xfrm>
            <a:off x="11430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4"/>
          <p:cNvSpPr/>
          <p:nvPr/>
        </p:nvSpPr>
        <p:spPr>
          <a:xfrm>
            <a:off x="11430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5"/>
          <p:cNvSpPr/>
          <p:nvPr/>
        </p:nvSpPr>
        <p:spPr>
          <a:xfrm>
            <a:off x="5214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6"/>
          <p:cNvSpPr/>
          <p:nvPr/>
        </p:nvSpPr>
        <p:spPr>
          <a:xfrm>
            <a:off x="5214960" y="27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7"/>
          <p:cNvSpPr/>
          <p:nvPr/>
        </p:nvSpPr>
        <p:spPr>
          <a:xfrm>
            <a:off x="521496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8"/>
          <p:cNvSpPr/>
          <p:nvPr/>
        </p:nvSpPr>
        <p:spPr>
          <a:xfrm>
            <a:off x="328608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9"/>
          <p:cNvSpPr/>
          <p:nvPr/>
        </p:nvSpPr>
        <p:spPr>
          <a:xfrm>
            <a:off x="328608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0"/>
          <p:cNvSpPr/>
          <p:nvPr/>
        </p:nvSpPr>
        <p:spPr>
          <a:xfrm>
            <a:off x="3286080" y="27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1"/>
          <p:cNvSpPr/>
          <p:nvPr/>
        </p:nvSpPr>
        <p:spPr>
          <a:xfrm>
            <a:off x="721512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2"/>
          <p:cNvSpPr/>
          <p:nvPr/>
        </p:nvSpPr>
        <p:spPr>
          <a:xfrm>
            <a:off x="721512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3"/>
          <p:cNvSpPr/>
          <p:nvPr/>
        </p:nvSpPr>
        <p:spPr>
          <a:xfrm>
            <a:off x="721512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808000"/>
                </a:solidFill>
                <a:latin typeface="Arial"/>
              </a:rPr>
              <a:t>Игра «Четвёртый лишний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9997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нава – канава –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ака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кан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м – ком –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о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нт – винт – винт –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би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нута –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нет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минута – мин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Arial"/>
              </a:rPr>
              <a:t>Игра «Подставь нужное слово»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лова для подстановки: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М, КОМ, ГНОМ, 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ТКА, КЛЕТКА, МЕТКА, В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ТОК, ПОТОК, ВЕНОК, МО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Формирование и развитие      представлений  о зву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Фото002"/>
          <p:cNvPicPr/>
          <p:nvPr/>
        </p:nvPicPr>
        <p:blipFill>
          <a:blip r:embed="rId1"/>
          <a:stretch/>
        </p:blipFill>
        <p:spPr>
          <a:xfrm>
            <a:off x="2928960" y="157176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колокольчик"/>
          <p:cNvPicPr/>
          <p:nvPr/>
        </p:nvPicPr>
        <p:blipFill>
          <a:blip r:embed="rId2"/>
          <a:stretch/>
        </p:blipFill>
        <p:spPr>
          <a:xfrm>
            <a:off x="5375160" y="1571760"/>
            <a:ext cx="982800" cy="10364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7"/>
          <p:cNvGrpSpPr/>
          <p:nvPr/>
        </p:nvGrpSpPr>
        <p:grpSpPr>
          <a:xfrm>
            <a:off x="5205240" y="2786040"/>
            <a:ext cx="1224000" cy="1297080"/>
            <a:chOff x="5205240" y="2786040"/>
            <a:chExt cx="1224000" cy="1297080"/>
          </a:xfrm>
        </p:grpSpPr>
        <p:pic>
          <p:nvPicPr>
            <p:cNvPr id="114" name="Picture 6" descr="колокольчик"/>
            <p:cNvPicPr/>
            <p:nvPr/>
          </p:nvPicPr>
          <p:blipFill>
            <a:blip r:embed="rId3"/>
            <a:stretch/>
          </p:blipFill>
          <p:spPr>
            <a:xfrm>
              <a:off x="5421240" y="2930400"/>
              <a:ext cx="9363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7"/>
            <p:cNvSpPr/>
            <p:nvPr/>
          </p:nvSpPr>
          <p:spPr>
            <a:xfrm>
              <a:off x="5276520" y="2786040"/>
              <a:ext cx="115092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 flipH="1">
              <a:off x="5205240" y="2859120"/>
              <a:ext cx="122400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9" descr="камень"/>
          <p:cNvPicPr/>
          <p:nvPr/>
        </p:nvPicPr>
        <p:blipFill>
          <a:blip r:embed="rId4"/>
          <a:stretch/>
        </p:blipFill>
        <p:spPr>
          <a:xfrm>
            <a:off x="7000920" y="4071960"/>
            <a:ext cx="1500120" cy="107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подушка"/>
          <p:cNvPicPr/>
          <p:nvPr/>
        </p:nvPicPr>
        <p:blipFill>
          <a:blip r:embed="rId5"/>
          <a:stretch/>
        </p:blipFill>
        <p:spPr>
          <a:xfrm>
            <a:off x="7000920" y="2857680"/>
            <a:ext cx="1500120" cy="96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95f025a17218dfca9d75c460d312ec9"/>
          <p:cNvPicPr/>
          <p:nvPr/>
        </p:nvPicPr>
        <p:blipFill>
          <a:blip r:embed="rId6"/>
          <a:stretch/>
        </p:blipFill>
        <p:spPr>
          <a:xfrm>
            <a:off x="2917800" y="4500720"/>
            <a:ext cx="1368360" cy="221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3742acfc6a0878b66b84c19d5e6391e2"/>
          <p:cNvPicPr/>
          <p:nvPr/>
        </p:nvPicPr>
        <p:blipFill>
          <a:blip r:embed="rId7"/>
          <a:stretch/>
        </p:blipFill>
        <p:spPr>
          <a:xfrm>
            <a:off x="1181160" y="3929040"/>
            <a:ext cx="1676520" cy="208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обл"/>
          <p:cNvPicPr/>
          <p:nvPr/>
        </p:nvPicPr>
        <p:blipFill>
          <a:blip r:embed="rId8"/>
          <a:stretch/>
        </p:blipFill>
        <p:spPr>
          <a:xfrm>
            <a:off x="7000920" y="1571760"/>
            <a:ext cx="1511280" cy="97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профиль Ш"/>
          <p:cNvPicPr/>
          <p:nvPr/>
        </p:nvPicPr>
        <p:blipFill>
          <a:blip r:embed="rId9"/>
          <a:stretch/>
        </p:blipFill>
        <p:spPr>
          <a:xfrm>
            <a:off x="642960" y="1571760"/>
            <a:ext cx="1857240" cy="224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CGB195"/>
          <p:cNvPicPr/>
          <p:nvPr/>
        </p:nvPicPr>
        <p:blipFill>
          <a:blip r:embed="rId10"/>
          <a:stretch/>
        </p:blipFill>
        <p:spPr>
          <a:xfrm>
            <a:off x="142920" y="507204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CGA395"/>
          <p:cNvPicPr/>
          <p:nvPr/>
        </p:nvPicPr>
        <p:blipFill>
          <a:blip r:embed="rId11"/>
          <a:stretch/>
        </p:blipFill>
        <p:spPr>
          <a:xfrm>
            <a:off x="4521240" y="4000680"/>
            <a:ext cx="190800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Oval 16"/>
          <p:cNvSpPr/>
          <p:nvPr/>
        </p:nvSpPr>
        <p:spPr>
          <a:xfrm>
            <a:off x="7858080" y="5715000"/>
            <a:ext cx="928800" cy="857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6572160" y="5715000"/>
            <a:ext cx="928800" cy="8571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animClr clrSpc="rgb">
                                      <p:cBhvr>
                                        <p:cTn id="59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60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ff99f"/>
                                      </p:to>
                                    </p:animClr>
                                    <p:animClr clrSpc="rgb">
                                      <p:cBhvr>
                                        <p:cTn id="68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ff99f"/>
                                      </p:to>
                                    </p:animClr>
                                    <p:set>
                                      <p:cBhvr>
                                        <p:cTn id="69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6"/>
          <p:cNvSpPr/>
          <p:nvPr/>
        </p:nvSpPr>
        <p:spPr>
          <a:xfrm>
            <a:off x="357120" y="357120"/>
            <a:ext cx="8572680" cy="9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Формирование умения дифференцировать звуки в слогах на слух и в произнош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г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Повтори, не торопись, да смотри не ошибис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Путешестви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Какой звук поймал в ладошку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Свяжем мы из  слов цепочку - не дадим поставить точк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Встречу слово на дороге разобью его на слог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Слушай и показыва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Что лишнее?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»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нести ряд слогов «па-па-па-</a:t>
            </a:r>
            <a:r>
              <a:rPr b="0" lang="ru-RU" sz="1600" spc="-1" strike="noStrike">
                <a:solidFill>
                  <a:srgbClr val="00b0f0"/>
                </a:solidFill>
                <a:latin typeface="Arial"/>
              </a:rPr>
              <a:t>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енок должен хлопнуть, когда услышит лишний сло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Кто больше назовёт слов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 оконч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ичка-сестричка-синичка-невели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данный 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ые – коротки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деление  звука на фоне сл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42960" y="1643040"/>
            <a:ext cx="8062920" cy="37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ели начальный звук из сло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шите соответствующую бук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Картинки 03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26920" y="3357720"/>
            <a:ext cx="160200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8" descr="Картинки 07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771640" y="3357720"/>
            <a:ext cx="151452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5" descr="Картинки 015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500720" y="3357720"/>
            <a:ext cx="150012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Рисунок 9" descr="буратино.jpg"/>
          <p:cNvPicPr/>
          <p:nvPr/>
        </p:nvPicPr>
        <p:blipFill>
          <a:blip r:embed="rId4"/>
          <a:stretch/>
        </p:blipFill>
        <p:spPr>
          <a:xfrm>
            <a:off x="6429240" y="3357720"/>
            <a:ext cx="1643040" cy="1643040"/>
          </a:xfrm>
          <a:prstGeom prst="rect">
            <a:avLst/>
          </a:prstGeom>
          <a:ln w="9360">
            <a:solidFill>
              <a:srgbClr val="00002e"/>
            </a:solidFill>
            <a:miter/>
          </a:ln>
        </p:spPr>
      </p:pic>
      <p:sp>
        <p:nvSpPr>
          <p:cNvPr id="134" name="Rectangle 3"/>
          <p:cNvSpPr/>
          <p:nvPr/>
        </p:nvSpPr>
        <p:spPr>
          <a:xfrm>
            <a:off x="324000" y="1773360"/>
            <a:ext cx="8064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10" descr=""/>
          <p:cNvPicPr/>
          <p:nvPr/>
        </p:nvPicPr>
        <p:blipFill>
          <a:blip r:embed="rId5"/>
          <a:stretch/>
        </p:blipFill>
        <p:spPr>
          <a:xfrm>
            <a:off x="1384200" y="4297320"/>
            <a:ext cx="1481400" cy="118908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1" descr=""/>
          <p:cNvPicPr/>
          <p:nvPr/>
        </p:nvPicPr>
        <p:blipFill>
          <a:blip r:embed="rId6"/>
          <a:stretch/>
        </p:blipFill>
        <p:spPr>
          <a:xfrm>
            <a:off x="3382920" y="4297320"/>
            <a:ext cx="1481040" cy="118908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2" descr=""/>
          <p:cNvPicPr/>
          <p:nvPr/>
        </p:nvPicPr>
        <p:blipFill>
          <a:blip r:embed="rId7"/>
          <a:stretch/>
        </p:blipFill>
        <p:spPr>
          <a:xfrm>
            <a:off x="5168880" y="4297320"/>
            <a:ext cx="1481040" cy="11890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3" descr=""/>
          <p:cNvPicPr/>
          <p:nvPr/>
        </p:nvPicPr>
        <p:blipFill>
          <a:blip r:embed="rId8"/>
          <a:stretch/>
        </p:blipFill>
        <p:spPr>
          <a:xfrm>
            <a:off x="7381800" y="4297320"/>
            <a:ext cx="148104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000803_1052_5419_vnvv"/>
          <p:cNvPicPr/>
          <p:nvPr/>
        </p:nvPicPr>
        <p:blipFill>
          <a:blip r:embed="rId1"/>
          <a:stretch/>
        </p:blipFill>
        <p:spPr>
          <a:xfrm>
            <a:off x="6286680" y="4214880"/>
            <a:ext cx="1857240" cy="21430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ая картинка лишняя и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4к.jpg"/>
          <p:cNvPicPr/>
          <p:nvPr/>
        </p:nvPicPr>
        <p:blipFill>
          <a:blip r:embed="rId2"/>
          <a:stretch/>
        </p:blipFill>
        <p:spPr>
          <a:xfrm>
            <a:off x="3714840" y="4214880"/>
            <a:ext cx="1771560" cy="210960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42" name="Рисунок 7" descr="6е.jpg"/>
          <p:cNvPicPr/>
          <p:nvPr/>
        </p:nvPicPr>
        <p:blipFill>
          <a:blip r:embed="rId3"/>
          <a:stretch/>
        </p:blipFill>
        <p:spPr>
          <a:xfrm>
            <a:off x="1143000" y="1500120"/>
            <a:ext cx="1714680" cy="207180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43" name="Рисунок 8" descr="8р.jpg"/>
          <p:cNvPicPr/>
          <p:nvPr/>
        </p:nvPicPr>
        <p:blipFill>
          <a:blip r:embed="rId4"/>
          <a:stretch/>
        </p:blipFill>
        <p:spPr>
          <a:xfrm>
            <a:off x="6248520" y="1523880"/>
            <a:ext cx="1823760" cy="204804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44" name="Рисунок 10" descr="3у.jpg"/>
          <p:cNvPicPr/>
          <p:nvPr/>
        </p:nvPicPr>
        <p:blipFill>
          <a:blip r:embed="rId5"/>
          <a:stretch/>
        </p:blipFill>
        <p:spPr>
          <a:xfrm>
            <a:off x="1152360" y="4214880"/>
            <a:ext cx="1776600" cy="207180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45" name="Рисунок 11" descr="0щ.jpg"/>
          <p:cNvPicPr/>
          <p:nvPr/>
        </p:nvPicPr>
        <p:blipFill>
          <a:blip r:embed="rId6"/>
          <a:srcRect l="21272" t="14197" r="19145" b="16369"/>
          <a:stretch/>
        </p:blipFill>
        <p:spPr>
          <a:xfrm>
            <a:off x="3728880" y="1523880"/>
            <a:ext cx="1771920" cy="204804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46" name="Прямоугольник 9" descr=""/>
          <p:cNvPicPr/>
          <p:nvPr/>
        </p:nvPicPr>
        <p:blipFill>
          <a:blip r:embed="rId7"/>
          <a:stretch/>
        </p:blipFill>
        <p:spPr>
          <a:xfrm>
            <a:off x="920880" y="5943600"/>
            <a:ext cx="225576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2" descr=""/>
          <p:cNvPicPr/>
          <p:nvPr/>
        </p:nvPicPr>
        <p:blipFill>
          <a:blip r:embed="rId8"/>
          <a:stretch/>
        </p:blipFill>
        <p:spPr>
          <a:xfrm>
            <a:off x="5913360" y="6016680"/>
            <a:ext cx="2676600" cy="8110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13" descr=""/>
          <p:cNvPicPr/>
          <p:nvPr/>
        </p:nvPicPr>
        <p:blipFill>
          <a:blip r:embed="rId9"/>
          <a:stretch/>
        </p:blipFill>
        <p:spPr>
          <a:xfrm>
            <a:off x="3517920" y="5950080"/>
            <a:ext cx="2217600" cy="81108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4" descr=""/>
          <p:cNvPicPr/>
          <p:nvPr/>
        </p:nvPicPr>
        <p:blipFill>
          <a:blip r:embed="rId10"/>
          <a:stretch/>
        </p:blipFill>
        <p:spPr>
          <a:xfrm>
            <a:off x="5559480" y="3230640"/>
            <a:ext cx="2951280" cy="81108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5" descr=""/>
          <p:cNvPicPr/>
          <p:nvPr/>
        </p:nvPicPr>
        <p:blipFill>
          <a:blip r:embed="rId11"/>
          <a:stretch/>
        </p:blipFill>
        <p:spPr>
          <a:xfrm>
            <a:off x="3627360" y="3230640"/>
            <a:ext cx="1895400" cy="81108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6" descr=""/>
          <p:cNvPicPr/>
          <p:nvPr/>
        </p:nvPicPr>
        <p:blipFill>
          <a:blip r:embed="rId12"/>
          <a:stretch/>
        </p:blipFill>
        <p:spPr>
          <a:xfrm>
            <a:off x="957240" y="3230640"/>
            <a:ext cx="226692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ая картинка лишняя и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7р.jpg"/>
          <p:cNvPicPr/>
          <p:nvPr/>
        </p:nvPicPr>
        <p:blipFill>
          <a:blip r:embed="rId1"/>
          <a:stretch/>
        </p:blipFill>
        <p:spPr>
          <a:xfrm>
            <a:off x="3581280" y="1295280"/>
            <a:ext cx="2143080" cy="214308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4" name="Рисунок 5" descr="32.jpg"/>
          <p:cNvPicPr/>
          <p:nvPr/>
        </p:nvPicPr>
        <p:blipFill>
          <a:blip r:embed="rId2"/>
          <a:stretch/>
        </p:blipFill>
        <p:spPr>
          <a:xfrm>
            <a:off x="533520" y="4114800"/>
            <a:ext cx="2286000" cy="213372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5" name="Рисунок 10" descr="1.jpg"/>
          <p:cNvPicPr/>
          <p:nvPr/>
        </p:nvPicPr>
        <p:blipFill>
          <a:blip r:embed="rId3"/>
          <a:stretch/>
        </p:blipFill>
        <p:spPr>
          <a:xfrm>
            <a:off x="533520" y="1371600"/>
            <a:ext cx="2286000" cy="198108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6" name="Рисунок 12" descr="4.jpg"/>
          <p:cNvPicPr/>
          <p:nvPr/>
        </p:nvPicPr>
        <p:blipFill>
          <a:blip r:embed="rId4"/>
          <a:stretch/>
        </p:blipFill>
        <p:spPr>
          <a:xfrm>
            <a:off x="6553080" y="4114800"/>
            <a:ext cx="2124360" cy="205740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7" name="Рисунок 13" descr="5.jpg"/>
          <p:cNvPicPr/>
          <p:nvPr/>
        </p:nvPicPr>
        <p:blipFill>
          <a:blip r:embed="rId5"/>
          <a:stretch/>
        </p:blipFill>
        <p:spPr>
          <a:xfrm>
            <a:off x="6553080" y="1371600"/>
            <a:ext cx="1981440" cy="198108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8" name="Рисунок 14" descr="images.jpg"/>
          <p:cNvPicPr/>
          <p:nvPr/>
        </p:nvPicPr>
        <p:blipFill>
          <a:blip r:embed="rId6"/>
          <a:stretch/>
        </p:blipFill>
        <p:spPr>
          <a:xfrm>
            <a:off x="3657600" y="4114800"/>
            <a:ext cx="2095560" cy="210996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9" name="Прямоугольник 9" descr=""/>
          <p:cNvPicPr/>
          <p:nvPr/>
        </p:nvPicPr>
        <p:blipFill>
          <a:blip r:embed="rId7"/>
          <a:stretch/>
        </p:blipFill>
        <p:spPr>
          <a:xfrm>
            <a:off x="450720" y="3005280"/>
            <a:ext cx="2616480" cy="8236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19" descr=""/>
          <p:cNvPicPr/>
          <p:nvPr/>
        </p:nvPicPr>
        <p:blipFill>
          <a:blip r:embed="rId8"/>
          <a:stretch/>
        </p:blipFill>
        <p:spPr>
          <a:xfrm>
            <a:off x="401760" y="5877000"/>
            <a:ext cx="2543040" cy="80964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20" descr=""/>
          <p:cNvPicPr/>
          <p:nvPr/>
        </p:nvPicPr>
        <p:blipFill>
          <a:blip r:embed="rId9"/>
          <a:stretch/>
        </p:blipFill>
        <p:spPr>
          <a:xfrm>
            <a:off x="6400800" y="5791320"/>
            <a:ext cx="2535120" cy="82224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21" descr=""/>
          <p:cNvPicPr/>
          <p:nvPr/>
        </p:nvPicPr>
        <p:blipFill>
          <a:blip r:embed="rId10"/>
          <a:stretch/>
        </p:blipFill>
        <p:spPr>
          <a:xfrm>
            <a:off x="3676680" y="5864400"/>
            <a:ext cx="2127240" cy="82224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22" descr=""/>
          <p:cNvPicPr/>
          <p:nvPr/>
        </p:nvPicPr>
        <p:blipFill>
          <a:blip r:embed="rId11"/>
          <a:stretch/>
        </p:blipFill>
        <p:spPr>
          <a:xfrm>
            <a:off x="6334200" y="3005280"/>
            <a:ext cx="2455920" cy="8236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23" descr=""/>
          <p:cNvPicPr/>
          <p:nvPr/>
        </p:nvPicPr>
        <p:blipFill>
          <a:blip r:embed="rId12"/>
          <a:stretch/>
        </p:blipFill>
        <p:spPr>
          <a:xfrm>
            <a:off x="3517920" y="3078000"/>
            <a:ext cx="236520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bochka"/>
          <p:cNvPicPr/>
          <p:nvPr/>
        </p:nvPicPr>
        <p:blipFill>
          <a:blip r:embed="rId1"/>
          <a:stretch/>
        </p:blipFill>
        <p:spPr>
          <a:xfrm>
            <a:off x="5791320" y="5334120"/>
            <a:ext cx="148104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SUMMR021"/>
          <p:cNvPicPr/>
          <p:nvPr/>
        </p:nvPicPr>
        <p:blipFill>
          <a:blip r:embed="rId2"/>
          <a:stretch/>
        </p:blipFill>
        <p:spPr>
          <a:xfrm>
            <a:off x="3429000" y="2286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SPRNG022"/>
          <p:cNvPicPr/>
          <p:nvPr/>
        </p:nvPicPr>
        <p:blipFill>
          <a:blip r:embed="rId3"/>
          <a:stretch/>
        </p:blipFill>
        <p:spPr>
          <a:xfrm>
            <a:off x="3352680" y="0"/>
            <a:ext cx="2438640" cy="2419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654204"/>
          <p:cNvPicPr/>
          <p:nvPr/>
        </p:nvPicPr>
        <p:blipFill>
          <a:blip r:embed="rId4"/>
          <a:stretch/>
        </p:blipFill>
        <p:spPr>
          <a:xfrm>
            <a:off x="1785960" y="3571920"/>
            <a:ext cx="1528920" cy="12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pics"/>
          <p:cNvPicPr/>
          <p:nvPr/>
        </p:nvPicPr>
        <p:blipFill>
          <a:blip r:embed="rId5"/>
          <a:stretch/>
        </p:blipFill>
        <p:spPr>
          <a:xfrm>
            <a:off x="304920" y="4648320"/>
            <a:ext cx="1855800" cy="1896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g-full-ae720075ca7b74921b4602239e2ff763"/>
          <p:cNvPicPr/>
          <p:nvPr/>
        </p:nvPicPr>
        <p:blipFill>
          <a:blip r:embed="rId6"/>
          <a:stretch/>
        </p:blipFill>
        <p:spPr>
          <a:xfrm>
            <a:off x="3048120" y="4876920"/>
            <a:ext cx="139860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8"/>
          <p:cNvGrpSpPr/>
          <p:nvPr/>
        </p:nvGrpSpPr>
        <p:grpSpPr>
          <a:xfrm>
            <a:off x="152280" y="304920"/>
            <a:ext cx="8991720" cy="1895400"/>
            <a:chOff x="152280" y="304920"/>
            <a:chExt cx="8991720" cy="1895400"/>
          </a:xfrm>
        </p:grpSpPr>
        <p:pic>
          <p:nvPicPr>
            <p:cNvPr id="172" name="Picture 9" descr="CA000075"/>
            <p:cNvPicPr/>
            <p:nvPr/>
          </p:nvPicPr>
          <p:blipFill>
            <a:blip r:embed="rId7"/>
            <a:stretch/>
          </p:blipFill>
          <p:spPr>
            <a:xfrm>
              <a:off x="228600" y="53352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" descr="CA000075"/>
            <p:cNvPicPr/>
            <p:nvPr/>
          </p:nvPicPr>
          <p:blipFill>
            <a:blip r:embed="rId8"/>
            <a:stretch/>
          </p:blipFill>
          <p:spPr>
            <a:xfrm>
              <a:off x="1763640" y="30492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" descr="CA000075"/>
            <p:cNvPicPr/>
            <p:nvPr/>
          </p:nvPicPr>
          <p:blipFill>
            <a:blip r:embed="rId9"/>
            <a:stretch/>
          </p:blipFill>
          <p:spPr>
            <a:xfrm>
              <a:off x="1042920" y="63828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2" descr="CA000075"/>
            <p:cNvPicPr/>
            <p:nvPr/>
          </p:nvPicPr>
          <p:blipFill>
            <a:blip r:embed="rId10"/>
            <a:stretch/>
          </p:blipFill>
          <p:spPr>
            <a:xfrm>
              <a:off x="2627280" y="30492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3" descr="CA000075"/>
            <p:cNvPicPr/>
            <p:nvPr/>
          </p:nvPicPr>
          <p:blipFill>
            <a:blip r:embed="rId11"/>
            <a:stretch/>
          </p:blipFill>
          <p:spPr>
            <a:xfrm>
              <a:off x="5508720" y="1212840"/>
              <a:ext cx="4093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4" descr="CA000075"/>
            <p:cNvPicPr/>
            <p:nvPr/>
          </p:nvPicPr>
          <p:blipFill>
            <a:blip r:embed="rId12"/>
            <a:stretch/>
          </p:blipFill>
          <p:spPr>
            <a:xfrm>
              <a:off x="5435640" y="63828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5" descr="CA000075"/>
            <p:cNvPicPr/>
            <p:nvPr/>
          </p:nvPicPr>
          <p:blipFill>
            <a:blip r:embed="rId13"/>
            <a:stretch/>
          </p:blipFill>
          <p:spPr>
            <a:xfrm>
              <a:off x="6300720" y="63828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6" descr="CA000075"/>
            <p:cNvPicPr/>
            <p:nvPr/>
          </p:nvPicPr>
          <p:blipFill>
            <a:blip r:embed="rId14"/>
            <a:stretch/>
          </p:blipFill>
          <p:spPr>
            <a:xfrm>
              <a:off x="7308720" y="30492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7" descr="CA000075"/>
            <p:cNvPicPr/>
            <p:nvPr/>
          </p:nvPicPr>
          <p:blipFill>
            <a:blip r:embed="rId15"/>
            <a:stretch/>
          </p:blipFill>
          <p:spPr>
            <a:xfrm>
              <a:off x="8317080" y="854280"/>
              <a:ext cx="4093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8" descr="CA000075"/>
            <p:cNvPicPr/>
            <p:nvPr/>
          </p:nvPicPr>
          <p:blipFill>
            <a:blip r:embed="rId16"/>
            <a:stretch/>
          </p:blipFill>
          <p:spPr>
            <a:xfrm>
              <a:off x="152280" y="144792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9" descr="CA000075"/>
            <p:cNvPicPr/>
            <p:nvPr/>
          </p:nvPicPr>
          <p:blipFill>
            <a:blip r:embed="rId17"/>
            <a:stretch/>
          </p:blipFill>
          <p:spPr>
            <a:xfrm>
              <a:off x="4932360" y="30492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0" descr="CA000075"/>
            <p:cNvPicPr/>
            <p:nvPr/>
          </p:nvPicPr>
          <p:blipFill>
            <a:blip r:embed="rId18"/>
            <a:stretch/>
          </p:blipFill>
          <p:spPr>
            <a:xfrm>
              <a:off x="8734320" y="304920"/>
              <a:ext cx="4096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1" descr="CA000075"/>
            <p:cNvPicPr/>
            <p:nvPr/>
          </p:nvPicPr>
          <p:blipFill>
            <a:blip r:embed="rId19"/>
            <a:stretch/>
          </p:blipFill>
          <p:spPr>
            <a:xfrm>
              <a:off x="2286000" y="990720"/>
              <a:ext cx="409680" cy="75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22" descr="PAPRCLIP"/>
          <p:cNvPicPr/>
          <p:nvPr/>
        </p:nvPicPr>
        <p:blipFill>
          <a:blip r:embed="rId20"/>
          <a:stretch/>
        </p:blipFill>
        <p:spPr>
          <a:xfrm rot="19286400">
            <a:off x="4343040" y="4495320"/>
            <a:ext cx="687240" cy="1805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3" descr="SPIDR001"/>
          <p:cNvPicPr/>
          <p:nvPr/>
        </p:nvPicPr>
        <p:blipFill>
          <a:blip r:embed="rId21"/>
          <a:stretch/>
        </p:blipFill>
        <p:spPr>
          <a:xfrm>
            <a:off x="7143840" y="527832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4" descr="TIME002"/>
          <p:cNvPicPr/>
          <p:nvPr/>
        </p:nvPicPr>
        <p:blipFill>
          <a:blip r:embed="rId22"/>
          <a:stretch/>
        </p:blipFill>
        <p:spPr>
          <a:xfrm>
            <a:off x="6934320" y="4038480"/>
            <a:ext cx="13381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25"/>
          <p:cNvGrpSpPr/>
          <p:nvPr/>
        </p:nvGrpSpPr>
        <p:grpSpPr>
          <a:xfrm>
            <a:off x="0" y="428760"/>
            <a:ext cx="2835360" cy="2881080"/>
            <a:chOff x="0" y="428760"/>
            <a:chExt cx="2835360" cy="2881080"/>
          </a:xfrm>
        </p:grpSpPr>
        <p:pic>
          <p:nvPicPr>
            <p:cNvPr id="189" name="Picture 26" descr="UMBRE006"/>
            <p:cNvPicPr/>
            <p:nvPr/>
          </p:nvPicPr>
          <p:blipFill>
            <a:blip r:embed="rId23"/>
            <a:stretch/>
          </p:blipFill>
          <p:spPr>
            <a:xfrm>
              <a:off x="0" y="428760"/>
              <a:ext cx="2835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WordArt 27"/>
            <p:cNvSpPr txBox="1"/>
            <p:nvPr/>
          </p:nvSpPr>
          <p:spPr>
            <a:xfrm>
              <a:off x="1214280" y="857160"/>
              <a:ext cx="42876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Б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1" name="Group 28"/>
          <p:cNvGrpSpPr/>
          <p:nvPr/>
        </p:nvGrpSpPr>
        <p:grpSpPr>
          <a:xfrm>
            <a:off x="5943600" y="533520"/>
            <a:ext cx="2835000" cy="2881080"/>
            <a:chOff x="5943600" y="533520"/>
            <a:chExt cx="2835000" cy="2881080"/>
          </a:xfrm>
        </p:grpSpPr>
        <p:pic>
          <p:nvPicPr>
            <p:cNvPr id="192" name="Picture 29" descr="UMBRE006"/>
            <p:cNvPicPr/>
            <p:nvPr/>
          </p:nvPicPr>
          <p:blipFill>
            <a:blip r:embed="rId24"/>
            <a:stretch/>
          </p:blipFill>
          <p:spPr>
            <a:xfrm>
              <a:off x="5943600" y="533520"/>
              <a:ext cx="28350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WordArt 30"/>
            <p:cNvSpPr txBox="1"/>
            <p:nvPr/>
          </p:nvSpPr>
          <p:spPr>
            <a:xfrm>
              <a:off x="7151400" y="1000080"/>
              <a:ext cx="420840" cy="58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4" name="Picture 31" descr="OBJEC046"/>
          <p:cNvPicPr/>
          <p:nvPr/>
        </p:nvPicPr>
        <p:blipFill>
          <a:blip r:embed="rId25"/>
          <a:stretch/>
        </p:blipFill>
        <p:spPr>
          <a:xfrm>
            <a:off x="4495680" y="3733920"/>
            <a:ext cx="1393920" cy="1655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2"/>
          <p:cNvSpPr/>
          <p:nvPr/>
        </p:nvSpPr>
        <p:spPr>
          <a:xfrm>
            <a:off x="0" y="65530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99"/>
                </a:solidFill>
                <a:latin typeface="Garamond"/>
              </a:rPr>
              <a:t>Дифференциация звуков П и Б в слов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8610480" y="62485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014E-006 L -0.07813 -0.11887 E">
                                      <p:cBhvr>
                                        <p:cTn id="165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23774E-007 L 0.25573 -0.33811 E">
                                      <p:cBhvr>
                                        <p:cTn id="168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085E-006 L -0.31493 -0.34344 E">
                                      <p:cBhvr>
                                        <p:cTn id="171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02683E-006 L 0.26319 -0.48612 E">
                                      <p:cBhvr>
                                        <p:cTn id="174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944E-006 L -0.73298 -0.07748 E">
                                      <p:cBhvr>
                                        <p:cTn id="177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6087E-006 L 0.73542 -0.22133 E">
                                      <p:cBhvr>
                                        <p:cTn id="180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64292E-007 L -0.62379 -0.53353 E">
                                      <p:cBhvr>
                                        <p:cTn id="183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9278E-006 L 0.04635 -0.52081 E">
                                      <p:cBhvr>
                                        <p:cTn id="186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кими овощами и фруктами угостят зверей Белоснежка и Красная Шапоч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8" descr="чы.jpg"/>
          <p:cNvPicPr/>
          <p:nvPr/>
        </p:nvPicPr>
        <p:blipFill>
          <a:blip r:embed="rId1"/>
          <a:stretch/>
        </p:blipFill>
        <p:spPr>
          <a:xfrm rot="20347800">
            <a:off x="4273560" y="2001600"/>
            <a:ext cx="1077840" cy="10173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99" name="Рисунок 9" descr="бю.jpg"/>
          <p:cNvPicPr/>
          <p:nvPr/>
        </p:nvPicPr>
        <p:blipFill>
          <a:blip r:embed="rId2"/>
          <a:stretch/>
        </p:blipFill>
        <p:spPr>
          <a:xfrm rot="995400">
            <a:off x="5791320" y="2286000"/>
            <a:ext cx="1218960" cy="114300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0" name="Рисунок 10" descr="выф.jpg"/>
          <p:cNvPicPr/>
          <p:nvPr/>
        </p:nvPicPr>
        <p:blipFill>
          <a:blip r:embed="rId3"/>
          <a:stretch/>
        </p:blipFill>
        <p:spPr>
          <a:xfrm rot="1068000">
            <a:off x="4848120" y="3054240"/>
            <a:ext cx="1192320" cy="9954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1" name="Рисунок 11" descr="ку.jpg"/>
          <p:cNvPicPr/>
          <p:nvPr/>
        </p:nvPicPr>
        <p:blipFill>
          <a:blip r:embed="rId4"/>
          <a:stretch/>
        </p:blipFill>
        <p:spPr>
          <a:xfrm rot="1030200">
            <a:off x="3966840" y="4266720"/>
            <a:ext cx="1219320" cy="124776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2" name="Рисунок 12" descr="ол.jpg"/>
          <p:cNvPicPr/>
          <p:nvPr/>
        </p:nvPicPr>
        <p:blipFill>
          <a:blip r:embed="rId5"/>
          <a:stretch/>
        </p:blipFill>
        <p:spPr>
          <a:xfrm rot="405600">
            <a:off x="1519200" y="4646160"/>
            <a:ext cx="1138320" cy="107640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3" name="Рисунок 14" descr="пт.jpg"/>
          <p:cNvPicPr/>
          <p:nvPr/>
        </p:nvPicPr>
        <p:blipFill>
          <a:blip r:embed="rId6"/>
          <a:stretch/>
        </p:blipFill>
        <p:spPr>
          <a:xfrm rot="20825400">
            <a:off x="2919240" y="4838400"/>
            <a:ext cx="1143000" cy="101916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4" name="Рисунок 15" descr="чи.jpg"/>
          <p:cNvPicPr/>
          <p:nvPr/>
        </p:nvPicPr>
        <p:blipFill>
          <a:blip r:embed="rId7"/>
          <a:stretch/>
        </p:blipFill>
        <p:spPr>
          <a:xfrm rot="20926800">
            <a:off x="6999120" y="2831760"/>
            <a:ext cx="1008360" cy="97632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5" name="Рисунок 16" descr="ыв.jpg"/>
          <p:cNvPicPr/>
          <p:nvPr/>
        </p:nvPicPr>
        <p:blipFill>
          <a:blip r:embed="rId8"/>
          <a:stretch/>
        </p:blipFill>
        <p:spPr>
          <a:xfrm rot="1051200">
            <a:off x="2892240" y="1677960"/>
            <a:ext cx="1199880" cy="11714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6" name="Рисунок 17" descr="ьб.jpg"/>
          <p:cNvPicPr/>
          <p:nvPr/>
        </p:nvPicPr>
        <p:blipFill>
          <a:blip r:embed="rId9"/>
          <a:stretch/>
        </p:blipFill>
        <p:spPr>
          <a:xfrm rot="19523400">
            <a:off x="6858000" y="1676160"/>
            <a:ext cx="1143000" cy="101916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7" name="Рисунок 18" descr="яф.jpg"/>
          <p:cNvPicPr/>
          <p:nvPr/>
        </p:nvPicPr>
        <p:blipFill>
          <a:blip r:embed="rId10"/>
          <a:stretch/>
        </p:blipFill>
        <p:spPr>
          <a:xfrm rot="21021000">
            <a:off x="3200040" y="2819160"/>
            <a:ext cx="1143000" cy="114300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8" name="Рисунок 13" descr="пр.jpg"/>
          <p:cNvPicPr/>
          <p:nvPr/>
        </p:nvPicPr>
        <p:blipFill>
          <a:blip r:embed="rId11"/>
          <a:stretch/>
        </p:blipFill>
        <p:spPr>
          <a:xfrm rot="851400">
            <a:off x="2590920" y="3809880"/>
            <a:ext cx="1143000" cy="99072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9" name="Рисунок 19" descr="2.jpg"/>
          <p:cNvPicPr/>
          <p:nvPr/>
        </p:nvPicPr>
        <p:blipFill>
          <a:blip r:embed="rId12"/>
          <a:stretch/>
        </p:blipFill>
        <p:spPr>
          <a:xfrm>
            <a:off x="228600" y="1447920"/>
            <a:ext cx="1962000" cy="233352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10" name="Содержимое 21" descr="33.jpg"/>
          <p:cNvPicPr/>
          <p:nvPr/>
        </p:nvPicPr>
        <p:blipFill>
          <a:blip r:embed="rId13"/>
          <a:stretch/>
        </p:blipFill>
        <p:spPr>
          <a:xfrm>
            <a:off x="7315200" y="4191120"/>
            <a:ext cx="1600200" cy="243828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9593E-006 C 0.00208 0.00925 0.00556 0.01781 0.01076 0.02451 C 0.01458 0.03538 0.02031 0.04093 0.02604 0.04926 C 0.03194 0.05781 0.03733 0.06707 0.04306 0.07585 C 0.05451 0.0932 0.06094 0.11008 0.07691 0.12095 C 0.08455 0.13645 0.07379 0.11679 0.08611 0.13113 C 0.10052 0.14778 0.07951 0.13113 0.09688 0.14755 C 0.10278 0.1531 0.11059 0.15472 0.11684 0.1598 C 0.12639 0.16767 0.13021 0.16744 0.14149 0.17206 C 0.16111 0.17992 0.16024 0.18039 0.18611 0.18247 C 0.19288 0.18547 0.19913 0.19056 0.20608 0.19264 C 0.21719 0.19588 0.22865 0.19634 0.23993 0.19889 C 0.24983 0.20398 0.25677 0.20606 0.26771 0.20906 C 0.30104 0.20768 0.32882 0.20282 0.36146 0.20074 C 0.36406 0.19935 0.36667 0.19842 0.3691 0.19681 C 0.37083 0.19565 0.37205 0.19357 0.37379 0.19264 C 0.3842 0.18663 0.40104 0.18732 0.41076 0.1864 C 0.41736 0.18501 0.42604 0.18871 0.43073 0.18247 C 0.43854 0.17206 0.44618 0.15657 0.45677 0.15171 C 0.45955 0.14801 0.46302 0.1413 0.46771 0.1413 E">
                                      <p:cBhvr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70213E-006 C -0.00243 0.00971 -0.00625 0.0081 -0.01233 0.01226 C -0.02899 0.02336 -0.04635 0.02775 -0.06458 0.03284 C -0.0809 0.04949 -0.0901 0.05435 -0.11076 0.05736 C -0.13003 0.06383 -0.09531 0.0525 -0.14305 0.06152 C -0.1493 0.06267 -0.15521 0.06638 -0.16146 0.06776 C -0.16805 0.06915 -0.17483 0.06892 -0.18142 0.06961 C -0.1901 0.07354 -0.19878 0.07493 -0.20764 0.07794 C -0.22795 0.09598 -0.27222 0.08395 -0.29687 0.08395 E">
                                      <p:cBhvr>
                                        <p:cTn id="195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35708E-006 C 0.00139 0.05712 -0.0026 0.04926 0.01371 0.08603 C 0.01684 0.10292 0.02187 0.11633 0.02917 0.13113 C 0.03108 0.13506 0.03142 0.14015 0.03385 0.14339 C 0.03924 0.15056 0.04965 0.16004 0.05677 0.16397 C 0.06128 0.17299 0.0691 0.18108 0.07691 0.18455 C 0.08767 0.19889 0.10191 0.20699 0.11684 0.21115 C 0.11944 0.21323 0.1217 0.21554 0.12448 0.21716 C 0.12639 0.21832 0.12899 0.21762 0.13073 0.21924 C 0.13229 0.22063 0.13246 0.22387 0.13385 0.22549 C 0.13559 0.22734 0.13785 0.22849 0.13993 0.22965 C 0.15087 0.23613 0.16233 0.23798 0.17378 0.24191 C 0.19167 0.24098 0.21128 0.24746 0.2276 0.23774 C 0.23194 0.2352 0.2342 0.22826 0.23837 0.22549 C 0.24132 0.22364 0.24757 0.22132 0.24757 0.22132 C 0.25226 0.21207 0.25885 0.20768 0.26615 0.20282 C 0.27066 0.19357 0.27639 0.18502 0.28299 0.17831 C 0.28733 0.16096 0.29549 0.15102 0.30139 0.13529 C 0.30521 0.12489 0.3059 0.11425 0.31076 0.10453 C 0.3125 0.09667 0.31371 0.09043 0.31371 0.0821 E">
                                      <p:cBhvr>
                                        <p:cTn id="198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18779E-006 C -0.0158 0.00693 -0.01441 0.03746 -0.02465 0.0511 C -0.02795 0.07307 -0.04097 0.08579 -0.05243 0.10036 C -0.05555 0.11308 -0.06319 0.12072 -0.06927 0.13112 C -0.07205 0.13598 -0.07569 0.14384 -0.07847 0.14962 C -0.08125 0.15541 -0.08698 0.15795 -0.08923 0.16396 C -0.09444 0.17738 -0.10486 0.18894 -0.11545 0.19472 C -0.12135 0.2049 -0.1276 0.20883 -0.13542 0.21507 C -0.13854 0.21762 -0.14097 0.2227 -0.14462 0.2234 C -0.14878 0.22409 -0.15278 0.22479 -0.15694 0.22548 C -0.16632 0.23751 -0.18594 0.23982 -0.19861 0.2419 C -0.21701 0.2493 -0.22795 0.24051 -0.24167 0.22756 C -0.24531 0.22409 -0.25 0.22386 -0.25399 0.22132 C -0.26441 0.21438 -0.27465 0.20628 -0.28472 0.19865 C -0.29288 0.19241 -0.3033 0.18616 -0.31076 0.1783 C -0.31423 0.1746 -0.32014 0.16604 -0.32014 0.16604 E">
                                      <p:cBhvr>
                                        <p:cTn id="201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24699E-006 C 0.00903 -0.01757 0.00417 -0.00555 0.00156 -0.04903 C 0.00087 -0.05943 -0.00347 -0.0673 -0.00764 -0.07562 C -0.01233 -0.0851 -0.01823 -0.09505 -0.02604 -0.10037 C -0.03976 -0.10962 -0.01979 -0.09297 -0.03681 -0.10638 C -0.04792 -0.11517 -0.05833 -0.12141 -0.07066 -0.12696 C -0.19497 -0.12488 -0.15712 -0.1494 -0.19688 -0.1228 E">
                                      <p:cBhvr>
                                        <p:cTn id="204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6503E-006 C -0.03507 0.01157 -0.06146 0.06198 -0.07326 0.12998 C -0.075 0.15033 -0.07691 0.16906 -0.07812 0.18964 C -0.07778 0.21069 -0.07778 0.23196 -0.07691 0.25278 C -0.07622 0.26712 -0.07656 0.28261 -0.07326 0.29533 C -0.07205 0.29996 -0.06962 0.30921 -0.06962 0.31013 E">
                                      <p:cBhvr>
                                        <p:cTn id="207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6 -0.01665 C 0.05104 -0.01457 0.05 -0.01249 0.05 -0.01041 C 0.05 0.00786 0.05104 0.02544 0.05468 0.04278 C 0.05486 0.04371 0.05711 0.05828 0.05764 0.0592 C 0.05868 0.06128 0.06076 0.06198 0.06232 0.06336 C 0.07083 0.08048 0.07725 0.09967 0.08836 0.11447 C 0.09253 0.13113 0.08628 0.10916 0.09461 0.12673 C 0.09618 0.12997 0.09635 0.1339 0.09774 0.13714 C 0.09896 0.14015 0.10069 0.14246 0.10225 0.14523 C 0.10399 0.15194 0.11007 0.16373 0.11007 0.16397 C 0.11093 0.16767 0.11441 0.182 0.11614 0.18432 C 0.11875 0.18779 0.12274 0.18894 0.12534 0.19241 C 0.12691 0.19449 0.12812 0.19704 0.13003 0.19866 C 0.1335 0.20189 0.13993 0.20282 0.14392 0.20467 C 0.17725 0.20259 0.16649 0.2086 0.17916 0.20074 E">
                                      <p:cBhvr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1221E-006 C 0.01424 -0.00925 0.00781 -0.00671 0.01858 -0.01018 C 0.03073 -0.02128 0.06702 -0.02475 0.08004 -0.03053 C 0.09861 -0.03885 0.11441 -0.04533 0.13386 -0.04903 C 0.16024 -0.06707 0.18767 -0.07331 0.21702 -0.07771 C 0.24827 -0.07701 0.27969 -0.07886 0.31077 -0.07562 C 0.32188 -0.07447 0.33195 -0.06545 0.34306 -0.06337 C 0.37118 -0.04857 0.35816 -0.05412 0.3816 -0.0451 C 0.39011 -0.03631 0.40208 -0.02891 0.4092 -0.01827 C 0.41649 -0.00717 0.4184 0.00208 0.42778 0.01041 C 0.43021 0.01966 0.43767 0.02752 0.44462 0.03076 C 0.44618 0.03353 0.44792 0.03608 0.44931 0.03908 C 0.45087 0.04232 0.45208 0.04602 0.45382 0.04926 C 0.45972 0.05967 0.4691 0.06938 0.4724 0.0821 C 0.47344 0.08626 0.47379 0.09066 0.47535 0.09436 C 0.48125 0.10846 0.48004 0.09644 0.48004 0.11078 E">
                                      <p:cBhvr>
                                        <p:cTn id="213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0832 C 0.0151 -0.02844 0.01528 -0.06521 -0.00156 -0.07585 C -0.00729 -0.09111 -0.01927 -0.10707 -0.03073 -0.11494 C -0.03368 -0.1265 -0.02986 -0.11655 -0.03993 -0.12511 C -0.04184 -0.12673 -0.04288 -0.12974 -0.04462 -0.13136 C -0.04653 -0.13321 -0.04861 -0.1339 -0.05069 -0.13529 C -0.05694 -0.14778 -0.07535 -0.15934 -0.08611 -0.16396 C -0.09948 -0.18177 -0.09184 -0.17738 -0.10764 -0.18038 C -0.12448 -0.19727 -0.14948 -0.19495 -0.16927 -0.20097 C -0.18871 -0.20675 -0.2092 -0.21507 -0.22917 -0.21739 C -0.24913 -0.2197 -0.26927 -0.22016 -0.28924 -0.22155 C -0.33246 -0.22016 -0.34427 -0.22386 -0.37535 -0.21322 C -0.38003 -0.20906 -0.38385 -0.20721 -0.38924 -0.20513 C -0.3974 -0.19773 -0.40503 -0.19033 -0.41389 -0.18455 C -0.42187 -0.17368 -0.43038 -0.16466 -0.43854 -0.15379 E">
                                      <p:cBhvr>
                                        <p:cTn id="216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68 -0.04024 C -0.05781 -0.04163 -0.06093 -0.04301 -0.06406 -0.0444 C -0.06562 -0.04509 -0.06857 -0.04625 -0.06857 -0.04602 C -0.10347 -0.04556 -0.13836 -0.04694 -0.17326 -0.0444 C -0.17482 -0.04417 -0.17378 -0.03978 -0.17482 -0.03816 C -0.17586 -0.03631 -0.1776 -0.03492 -0.17934 -0.03399 C -0.1901 -0.02844 -0.20086 -0.02359 -0.21163 -0.01757 C -0.22621 -0.00948 -0.24166 -0.00139 -0.25468 0.0111 C -0.26406 0.02012 -0.27205 0.03053 -0.2809 0.03978 C -0.30208 0.06152 -0.31996 0.08511 -0.33159 0.11772 C -0.33055 0.1198 -0.33038 0.12442 -0.32864 0.12373 C -0.32639 0.12304 -0.32708 0.11772 -0.32552 0.11564 C -0.32396 0.11355 -0.32135 0.11332 -0.31944 0.11147 C -0.31232 0.10454 -0.30625 0.09205 -0.29635 0.09089 C -0.27847 0.08858 -0.26111 0.08627 -0.24392 0.07863 C -0.23767 0.06591 -0.24531 0.0791 -0.23472 0.06846 C -0.22343 0.05689 -0.2342 0.06175 -0.22239 0.05828 C -0.22083 0.05689 -0.21736 0.05643 -0.21788 0.05412 C -0.21857 0.05157 -0.22187 0.05204 -0.22396 0.05204 C -0.23021 0.05204 -0.23628 0.05319 -0.24253 0.05412 C -0.28715 0.06036 -0.24982 0.05689 -0.29479 0.06013 C -0.30243 0.06152 -0.31024 0.06291 -0.31788 0.06429 C -0.32239 0.06499 -0.32725 0.06429 -0.33159 0.06638 C -0.33437 0.06776 -0.33541 0.07239 -0.33784 0.07447 C -0.34236 0.07817 -0.3526 0.08256 -0.35781 0.08488 C -0.36441 0.09112 -0.36961 0.09875 -0.37621 0.10523 C -0.37934 0.10824 -0.38559 0.11355 -0.38559 0.11379 C -0.39027 0.12396 -0.39461 0.13414 -0.3993 0.14431 C -0.40121 0.15472 -0.40295 0.15773 -0.40711 0.16675 C -0.40833 0.16929 -0.4085 0.17299 -0.41007 0.17507 C -0.41215 0.17785 -0.41527 0.179 -0.41788 0.18108 C -0.42291 0.19126 -0.42656 0.20097 -0.43316 0.20976 C -0.43593 0.22063 -0.4408 0.23104 -0.44548 0.24052 C -0.44722 0.24422 -0.44774 0.24861 -0.44861 0.25278 C -0.45104 0.26365 -0.45486 0.27429 -0.45625 0.28562 C -0.45972 0.31268 -0.45607 0.28562 -0.45937 0.3062 C -0.46319 0.3291 -0.45816 0.32262 -0.46701 0.33071 C -0.47048 0.33788 -0.46875 0.33511 -0.4717 0.33904 E">
                                      <p:cBhvr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855 C 0.00469 -0.00301 0.00764 -0.00232 0.0026 -0.01758 C 0.00208 -0.02059 -0.00035 -0.02244 -0.00226 -0.02498 C -0.00417 -0.03215 -0.00833 -0.0384 -0.01059 -0.04556 C -0.01163 -0.04973 -0.01163 -0.05482 -0.01372 -0.05875 C -0.01545 -0.06245 -0.01806 -0.06522 -0.02031 -0.068 C -0.02535 -0.07401 -0.03142 -0.07355 -0.03854 -0.07494 C -0.06389 -0.07424 -0.08958 -0.07447 -0.11476 -0.07193 C -0.11806 -0.07147 -0.11997 -0.06753 -0.12326 -0.06638 C -0.13681 -0.05967 -0.15226 -0.05828 -0.16615 -0.05297 C -0.17587 -0.0451 -0.1849 -0.04464 -0.19601 -0.04001 C -0.21181 -0.03331 -0.19253 -0.03816 -0.21111 -0.03446 C -0.22795 -0.0266 -0.24618 -0.01897 -0.26389 -0.01388 C -0.27917 -0.00093 -0.29896 -0.000240000000000001 -0.31545 0.01086 C -0.32413 0.02335 -0.32743 0.02197 -0.33854 0.02913 C -0.35885 0.0437 -0.33507 0.03075 -0.35503 0.04255 C -0.36823 0.04972 -0.38229 0.05365 -0.39497 0.06313 C -0.40642 0.08256 -0.38802 0.05342 -0.40486 0.07261 C -0.40608 0.07354 -0.40556 0.07701 -0.40642 0.07816 C -0.40851 0.08094 -0.41111 0.08279 -0.41337 0.08556 C -0.41927 0.09412 -0.42622 0.10453 -0.43142 0.11401 C -0.43524 0.12095 -0.4375 0.13552 -0.43958 0.14361 C -0.4408 0.14708 -0.44514 0.14616 -0.44809 0.14731 C -0.44965 0.14963 -0.45226 0.15078 -0.45312 0.15309 C -0.45417 0.15841 -0.45417 0.17021 -0.45417 0.17067 E">
                                      <p:cBhvr>
                                        <p:cTn id="22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2560" y="1357200"/>
            <a:ext cx="86439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тонкий систематизированный слух, обладающий способностью осуществлять операции различения и узнавания фонем, составляющих звуковую оболочку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428840" y="1700280"/>
            <a:ext cx="68580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357120" y="2000160"/>
            <a:ext cx="6429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Фонематический сл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D:\Мои рисунки\rechevaya-gotovnost-rebenka-k-shkole.jpg"/>
          <p:cNvPicPr/>
          <p:nvPr/>
        </p:nvPicPr>
        <p:blipFill>
          <a:blip r:embed="rId1"/>
          <a:stretch/>
        </p:blipFill>
        <p:spPr>
          <a:xfrm>
            <a:off x="2716200" y="3571920"/>
            <a:ext cx="3927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Зачеркните цифру, соответствующую месту заданного зв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                            Звук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отник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2 3 4 5 6 7 8 9 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1 2 3 4 5 6 7 8 9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2 3 4 5 6 7 8 9 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1 2 3 4 5 6 7 8 9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4"/>
          <p:cNvSpPr/>
          <p:nvPr/>
        </p:nvSpPr>
        <p:spPr>
          <a:xfrm>
            <a:off x="428760" y="2857680"/>
            <a:ext cx="357120" cy="357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5"/>
          <p:cNvSpPr/>
          <p:nvPr/>
        </p:nvSpPr>
        <p:spPr>
          <a:xfrm>
            <a:off x="1000080" y="2857680"/>
            <a:ext cx="357120" cy="357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6"/>
          <p:cNvSpPr/>
          <p:nvPr/>
        </p:nvSpPr>
        <p:spPr>
          <a:xfrm>
            <a:off x="5285520" y="2857680"/>
            <a:ext cx="357480" cy="357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7"/>
          <p:cNvSpPr/>
          <p:nvPr/>
        </p:nvSpPr>
        <p:spPr>
          <a:xfrm>
            <a:off x="1000080" y="4500720"/>
            <a:ext cx="357120" cy="357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8"/>
          <p:cNvSpPr/>
          <p:nvPr/>
        </p:nvSpPr>
        <p:spPr>
          <a:xfrm>
            <a:off x="5928480" y="2857680"/>
            <a:ext cx="357480" cy="357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9"/>
          <p:cNvSpPr/>
          <p:nvPr/>
        </p:nvSpPr>
        <p:spPr>
          <a:xfrm>
            <a:off x="5857920" y="4500720"/>
            <a:ext cx="357120" cy="357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0"/>
          <p:cNvSpPr/>
          <p:nvPr/>
        </p:nvSpPr>
        <p:spPr>
          <a:xfrm>
            <a:off x="5285520" y="4500720"/>
            <a:ext cx="357480" cy="357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75960"/>
            <a:ext cx="864396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ставь пропущенные слог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или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6400" y="785880"/>
            <a:ext cx="8321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 …                   …  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 …                    … н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 …                    …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 …                    … 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пиши в схемы слоги с буквами Б и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уза, пылинка, пилоты, бул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 ___                      ___ ___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 ___ ___               ___ ___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3214800" y="120960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3214800" y="170964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3214800" y="270972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5425920" y="270972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3214800" y="220968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5429160" y="170964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5425920" y="220968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5429160" y="120960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1857240" y="513864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5429160" y="5643720"/>
            <a:ext cx="574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5425920" y="513864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1928880" y="564372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3" descr="1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9280" y="1052640"/>
            <a:ext cx="8677440" cy="5533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кот Леопольд с удочкой"/>
          <p:cNvPicPr/>
          <p:nvPr/>
        </p:nvPicPr>
        <p:blipFill>
          <a:blip r:embed="rId2"/>
          <a:stretch/>
        </p:blipFill>
        <p:spPr>
          <a:xfrm>
            <a:off x="0" y="329400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5"/>
          <p:cNvSpPr/>
          <p:nvPr/>
        </p:nvSpPr>
        <p:spPr>
          <a:xfrm>
            <a:off x="4067280" y="692280"/>
            <a:ext cx="1439640" cy="57600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ЕЛЬ…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571680" y="357120"/>
            <a:ext cx="3313080" cy="1656000"/>
          </a:xfrm>
          <a:prstGeom prst="cloudCallout">
            <a:avLst>
              <a:gd name="adj1" fmla="val -36967"/>
              <a:gd name="adj2" fmla="val 130152"/>
            </a:avLst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36"/>
                </a:solidFill>
                <a:latin typeface="Arial"/>
              </a:rPr>
              <a:t>Поймайте нужную  букву и встав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36"/>
                </a:solidFill>
                <a:latin typeface="Arial"/>
              </a:rPr>
              <a:t>в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4067280" y="155736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ЛО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4067280" y="2421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Ы...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2"/>
          <p:cNvSpPr/>
          <p:nvPr/>
        </p:nvSpPr>
        <p:spPr>
          <a:xfrm>
            <a:off x="4067280" y="3284640"/>
            <a:ext cx="1439640" cy="57600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3"/>
          <p:cNvSpPr/>
          <p:nvPr/>
        </p:nvSpPr>
        <p:spPr>
          <a:xfrm>
            <a:off x="5867280" y="692280"/>
            <a:ext cx="1440000" cy="57600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4"/>
          <p:cNvSpPr/>
          <p:nvPr/>
        </p:nvSpPr>
        <p:spPr>
          <a:xfrm>
            <a:off x="5867280" y="1557360"/>
            <a:ext cx="1440000" cy="57636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"/>
          <p:cNvSpPr/>
          <p:nvPr/>
        </p:nvSpPr>
        <p:spPr>
          <a:xfrm>
            <a:off x="5867280" y="2421000"/>
            <a:ext cx="1440000" cy="57636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ЁР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9"/>
          <p:cNvSpPr/>
          <p:nvPr/>
        </p:nvSpPr>
        <p:spPr>
          <a:xfrm>
            <a:off x="3935520" y="531324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5056200" y="465624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d9d9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5214960" y="521496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d3d7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2992320" y="545616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5749920" y="452772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9c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6"/>
          <p:cNvSpPr/>
          <p:nvPr/>
        </p:nvSpPr>
        <p:spPr>
          <a:xfrm>
            <a:off x="5867280" y="3284640"/>
            <a:ext cx="1440000" cy="576000"/>
          </a:xfrm>
          <a:prstGeom prst="roundRect">
            <a:avLst>
              <a:gd name="adj" fmla="val 16667"/>
            </a:avLst>
          </a:prstGeom>
          <a:solidFill>
            <a:srgbClr val="ffffb9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СТР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3286080" y="471492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6215040" y="5214960"/>
            <a:ext cx="574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6948360" y="566100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4427640" y="573408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7"/>
          <p:cNvSpPr/>
          <p:nvPr/>
        </p:nvSpPr>
        <p:spPr>
          <a:xfrm>
            <a:off x="5796000" y="573408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8"/>
          <p:cNvSpPr/>
          <p:nvPr/>
        </p:nvSpPr>
        <p:spPr>
          <a:xfrm>
            <a:off x="7929720" y="5072040"/>
            <a:ext cx="574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9c9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0"/>
          <p:cNvSpPr/>
          <p:nvPr/>
        </p:nvSpPr>
        <p:spPr>
          <a:xfrm>
            <a:off x="6372360" y="458136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929120" y="638280"/>
            <a:ext cx="574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6786720" y="63828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286680" y="149544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6286680" y="235728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6929280" y="320976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4714920" y="149544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572000" y="235728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4714920" y="321480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864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ормирование умения дифференцировать звуки в словосочетаниях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0" descr="90.jpg"/>
          <p:cNvPicPr/>
          <p:nvPr/>
        </p:nvPicPr>
        <p:blipFill>
          <a:blip r:embed="rId1"/>
          <a:stretch/>
        </p:blipFill>
        <p:spPr>
          <a:xfrm>
            <a:off x="304920" y="2362320"/>
            <a:ext cx="2286000" cy="162072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67" name="Рисунок 12" descr="32.jpg"/>
          <p:cNvPicPr/>
          <p:nvPr/>
        </p:nvPicPr>
        <p:blipFill>
          <a:blip r:embed="rId2"/>
          <a:stretch/>
        </p:blipFill>
        <p:spPr>
          <a:xfrm>
            <a:off x="3581280" y="2362320"/>
            <a:ext cx="2133720" cy="160020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68" name="Рисунок 13" descr="67.jpg"/>
          <p:cNvPicPr/>
          <p:nvPr/>
        </p:nvPicPr>
        <p:blipFill>
          <a:blip r:embed="rId3"/>
          <a:stretch/>
        </p:blipFill>
        <p:spPr>
          <a:xfrm>
            <a:off x="6629400" y="2324160"/>
            <a:ext cx="2057400" cy="163836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69" name="Рисунок 14" descr="43.jpg"/>
          <p:cNvPicPr/>
          <p:nvPr/>
        </p:nvPicPr>
        <p:blipFill>
          <a:blip r:embed="rId4"/>
          <a:stretch/>
        </p:blipFill>
        <p:spPr>
          <a:xfrm>
            <a:off x="3657600" y="4800600"/>
            <a:ext cx="1828800" cy="180972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70" name="Рисунок 15" descr="56.jpg"/>
          <p:cNvPicPr/>
          <p:nvPr/>
        </p:nvPicPr>
        <p:blipFill>
          <a:blip r:embed="rId5"/>
          <a:stretch/>
        </p:blipFill>
        <p:spPr>
          <a:xfrm>
            <a:off x="6705720" y="4724280"/>
            <a:ext cx="1844640" cy="182880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71" name="Рисунок 11" descr="12.jpg"/>
          <p:cNvPicPr/>
          <p:nvPr/>
        </p:nvPicPr>
        <p:blipFill>
          <a:blip r:embed="rId6"/>
          <a:stretch/>
        </p:blipFill>
        <p:spPr>
          <a:xfrm>
            <a:off x="380880" y="4800600"/>
            <a:ext cx="1905120" cy="173340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72" name="Прямоугольник 16"/>
          <p:cNvSpPr/>
          <p:nvPr/>
        </p:nvSpPr>
        <p:spPr>
          <a:xfrm>
            <a:off x="428760" y="150012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ставь словосоче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7" name="drumroll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2183E-006 L 0.35417 -0.00416 E">
                                      <p:cBhvr>
                                        <p:cTn id="323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15541E-006 L -3.33333E-006 0.34829 E">
                                      <p:cBhvr>
                                        <p:cTn id="326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-4.13506E-006 L -0.35 0.00139 E">
                                      <p:cBhvr>
                                        <p:cTn id="329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833 L -0.33334 0.01665 E">
                                      <p:cBhvr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222 L -0.00087 -0.35523 E">
                                      <p:cBhvr>
                                        <p:cTn id="335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0.00972 L 0.34167 -0.00972 E">
                                      <p:cBhvr>
                                        <p:cTn id="338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429760" cy="297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ставь предложения, используя картинки.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на и Борис пригласили  . . . . .  в  . . . . 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арене выступали  . . . . . .    и   . . . . . 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одержимое 2"/>
          <p:cNvSpPr/>
          <p:nvPr/>
        </p:nvSpPr>
        <p:spPr>
          <a:xfrm>
            <a:off x="357120" y="3714840"/>
            <a:ext cx="8429760" cy="282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ставь предложения, используя слова и карти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7" descr="ук (2).jpg"/>
          <p:cNvPicPr/>
          <p:nvPr/>
        </p:nvPicPr>
        <p:blipFill>
          <a:blip r:embed="rId1"/>
          <a:stretch/>
        </p:blipFill>
        <p:spPr>
          <a:xfrm>
            <a:off x="5214960" y="857160"/>
            <a:ext cx="1015920" cy="97164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76" name="Рисунок 8" descr="7.jpg"/>
          <p:cNvPicPr/>
          <p:nvPr/>
        </p:nvPicPr>
        <p:blipFill>
          <a:blip r:embed="rId2"/>
          <a:stretch/>
        </p:blipFill>
        <p:spPr>
          <a:xfrm>
            <a:off x="6721560" y="857160"/>
            <a:ext cx="1152360" cy="97164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77" name="Рисунок 9" descr="images.jpg"/>
          <p:cNvPicPr/>
          <p:nvPr/>
        </p:nvPicPr>
        <p:blipFill>
          <a:blip r:embed="rId3"/>
          <a:stretch/>
        </p:blipFill>
        <p:spPr>
          <a:xfrm>
            <a:off x="4071960" y="2171880"/>
            <a:ext cx="1152360" cy="97128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78" name="Рисунок 10" descr="21.jpg"/>
          <p:cNvPicPr/>
          <p:nvPr/>
        </p:nvPicPr>
        <p:blipFill>
          <a:blip r:embed="rId4"/>
          <a:stretch/>
        </p:blipFill>
        <p:spPr>
          <a:xfrm>
            <a:off x="5929200" y="2171880"/>
            <a:ext cx="1152720" cy="97128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79" name="Picture 2" descr="PENGUIN"/>
          <p:cNvPicPr/>
          <p:nvPr/>
        </p:nvPicPr>
        <p:blipFill>
          <a:blip r:embed="rId5"/>
          <a:stretch/>
        </p:blipFill>
        <p:spPr>
          <a:xfrm flipH="1">
            <a:off x="785880" y="4429080"/>
            <a:ext cx="1193760" cy="1928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WATR005"/>
          <p:cNvPicPr/>
          <p:nvPr/>
        </p:nvPicPr>
        <p:blipFill>
          <a:blip r:embed="rId6"/>
          <a:stretch/>
        </p:blipFill>
        <p:spPr>
          <a:xfrm>
            <a:off x="6715080" y="4214880"/>
            <a:ext cx="1965240" cy="12142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2071800" y="414324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Garamond"/>
              </a:rPr>
              <a:t>живу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357720" y="5214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Garamond"/>
              </a:rPr>
              <a:t>На</a:t>
            </a: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143240" y="46767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Garamond"/>
              </a:rPr>
              <a:t>север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467320" y="553392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Garamond"/>
              </a:rPr>
              <a:t>Крайнем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143080" y="5572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Garamond"/>
              </a:rPr>
              <a:t>и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033560" y="628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 Крайнем севере живут пингвины и бел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71320" y="1214280"/>
            <a:ext cx="8143560" cy="542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и условные обозначения буквами П или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читай сколько слов с заданным зву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ь пропущенные буквы в слова в структур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ушка  о(─)ирается  на  (─)а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ша  о(─)ирается  на  ( ~ )ал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ору  надо  за( ~ )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арство  надо  за(─)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синем  море  звезды  ( ~ )лещ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синем  море  волны  (─)лещ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Формирование умения дифференцировать звуки в текст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0"/>
          <p:cNvSpPr/>
          <p:nvPr/>
        </p:nvSpPr>
        <p:spPr>
          <a:xfrm>
            <a:off x="5140440" y="507204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0"/>
          <p:cNvSpPr/>
          <p:nvPr/>
        </p:nvSpPr>
        <p:spPr>
          <a:xfrm>
            <a:off x="3643200" y="399564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5286240" y="3357720"/>
            <a:ext cx="574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0"/>
          <p:cNvSpPr/>
          <p:nvPr/>
        </p:nvSpPr>
        <p:spPr>
          <a:xfrm>
            <a:off x="3068640" y="292896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2568600" y="335772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4286160" y="442440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4572000" y="550080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/>
          <p:cNvSpPr/>
          <p:nvPr/>
        </p:nvSpPr>
        <p:spPr>
          <a:xfrm>
            <a:off x="5643720" y="2928960"/>
            <a:ext cx="574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642960" y="3706920"/>
            <a:ext cx="8001000" cy="2793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2416320" y="1428840"/>
            <a:ext cx="6156360" cy="1670040"/>
          </a:xfrm>
          <a:prstGeom prst="rect">
            <a:avLst/>
          </a:prstGeom>
          <a:ln w="0">
            <a:noFill/>
          </a:ln>
        </p:spPr>
      </p:pic>
      <p:sp>
        <p:nvSpPr>
          <p:cNvPr id="299" name="Заголовок 3"/>
          <p:cNvSpPr/>
          <p:nvPr/>
        </p:nvSpPr>
        <p:spPr>
          <a:xfrm>
            <a:off x="0" y="428760"/>
            <a:ext cx="914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Формирование умения дифференцировать звуки в текст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57280" y="3000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и символы буквами, прочитай и запиши 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8435880" cy="588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авь пропущенные буквы П или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  дом  …ольшой  и  красивый.  На …ервом  этаже  магазин.   В  магазине …родают  одежду,  о…увь.  У  …одъезда  дома  растут  то…оля  и  …ерезы.  Вокруг  дома  ре…ята  …осадили  много 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rId1" action="ppaction://hlinksldjump"/>
          </p:cNvPr>
          <p:cNvSpPr/>
          <p:nvPr/>
        </p:nvSpPr>
        <p:spPr>
          <a:xfrm>
            <a:off x="824400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0"/>
          <p:cNvSpPr/>
          <p:nvPr/>
        </p:nvSpPr>
        <p:spPr>
          <a:xfrm>
            <a:off x="5711760" y="2924280"/>
            <a:ext cx="574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0"/>
          <p:cNvSpPr/>
          <p:nvPr/>
        </p:nvSpPr>
        <p:spPr>
          <a:xfrm>
            <a:off x="4000680" y="342432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854600" y="242892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3500280" y="149544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0"/>
          <p:cNvSpPr/>
          <p:nvPr/>
        </p:nvSpPr>
        <p:spPr>
          <a:xfrm>
            <a:off x="3929040" y="292428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0"/>
          <p:cNvSpPr/>
          <p:nvPr/>
        </p:nvSpPr>
        <p:spPr>
          <a:xfrm>
            <a:off x="6711840" y="2428920"/>
            <a:ext cx="574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5283360" y="3424320"/>
            <a:ext cx="574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714240" y="2428920"/>
            <a:ext cx="574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857160" y="1995480"/>
            <a:ext cx="5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Заголовок 1"/>
          <p:cNvSpPr/>
          <p:nvPr/>
        </p:nvSpPr>
        <p:spPr>
          <a:xfrm>
            <a:off x="357120" y="285840"/>
            <a:ext cx="87868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Упражнение "Корректурная прав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214200" y="857160"/>
            <a:ext cx="85726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ачеркнуть  заданные бук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дну  бук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оглас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 которой есть проблемы, по од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ерез 5 - 6 д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Две букв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одна зачеркивается, другая подчеркивается или обводится в кружоч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е, если текст не будет прочитан (поэтому книжка нужна скучная). Все внимание необходимо сконцентрировать на нахождении заданного облика буквы, одной или двух,  и работать только с ним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786040" y="1285920"/>
            <a:ext cx="6072120" cy="242892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ая соединительная линия 5"/>
          <p:cNvSpPr/>
          <p:nvPr/>
        </p:nvSpPr>
        <p:spPr>
          <a:xfrm>
            <a:off x="5857200" y="1500120"/>
            <a:ext cx="142920" cy="214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6"/>
          <p:cNvSpPr/>
          <p:nvPr/>
        </p:nvSpPr>
        <p:spPr>
          <a:xfrm>
            <a:off x="2999520" y="1857240"/>
            <a:ext cx="142920" cy="214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7"/>
          <p:cNvSpPr/>
          <p:nvPr/>
        </p:nvSpPr>
        <p:spPr>
          <a:xfrm>
            <a:off x="4928400" y="2643120"/>
            <a:ext cx="142920" cy="214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8"/>
          <p:cNvSpPr/>
          <p:nvPr/>
        </p:nvSpPr>
        <p:spPr>
          <a:xfrm>
            <a:off x="3714120" y="2286000"/>
            <a:ext cx="14292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9"/>
          <p:cNvSpPr/>
          <p:nvPr/>
        </p:nvSpPr>
        <p:spPr>
          <a:xfrm>
            <a:off x="8000280" y="3071880"/>
            <a:ext cx="14292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00040" y="2071440"/>
            <a:ext cx="4286160" cy="45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слогов,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ка пропущенных сомнительных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дительные дикт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6" descr="0000073616-preview[1]"/>
          <p:cNvPicPr/>
          <p:nvPr/>
        </p:nvPicPr>
        <p:blipFill>
          <a:blip r:embed="rId1"/>
          <a:stretch/>
        </p:blipFill>
        <p:spPr>
          <a:xfrm>
            <a:off x="4929120" y="2071800"/>
            <a:ext cx="4000680" cy="45003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4"/>
          <p:cNvSpPr/>
          <p:nvPr/>
        </p:nvSpPr>
        <p:spPr>
          <a:xfrm>
            <a:off x="285840" y="428760"/>
            <a:ext cx="8358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абота по слуховой дифференциации звуков обязательно должна сопровождаться письменными упраж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9680" y="1928880"/>
            <a:ext cx="8286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общеречевое развитие ребенка: усвоение грамматического  строя, словаря, артикуляции и ди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овладение операциями звук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анализа и  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ыработка орфограф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успешность обучения грам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овладение чт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214200" y="500040"/>
            <a:ext cx="8715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Аспекты, на которые оказывает влияние фонематический слу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20060901093927.jpg"/>
          <p:cNvPicPr/>
          <p:nvPr/>
        </p:nvPicPr>
        <p:blipFill>
          <a:blip r:embed="rId1"/>
          <a:stretch/>
        </p:blipFill>
        <p:spPr>
          <a:xfrm>
            <a:off x="5929200" y="3500280"/>
            <a:ext cx="2928960" cy="2928960"/>
          </a:xfrm>
          <a:prstGeom prst="rect">
            <a:avLst/>
          </a:prstGeom>
          <a:ln w="12600">
            <a:solidFill>
              <a:srgbClr val="bfbf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2" descr="1219805204_shokola-1.jpg"/>
          <p:cNvPicPr/>
          <p:nvPr/>
        </p:nvPicPr>
        <p:blipFill>
          <a:blip r:embed="rId1"/>
          <a:stretch/>
        </p:blipFill>
        <p:spPr>
          <a:xfrm>
            <a:off x="3000240" y="2071800"/>
            <a:ext cx="3319560" cy="4519440"/>
          </a:xfrm>
          <a:prstGeom prst="rect">
            <a:avLst/>
          </a:prstGeom>
          <a:ln w="0">
            <a:noFill/>
          </a:ln>
        </p:spPr>
      </p:pic>
      <p:pic>
        <p:nvPicPr>
          <p:cNvPr id="324" name="WordArt 4" descr=""/>
          <p:cNvPicPr/>
          <p:nvPr/>
        </p:nvPicPr>
        <p:blipFill>
          <a:blip r:embed="rId2"/>
          <a:stretch/>
        </p:blipFill>
        <p:spPr>
          <a:xfrm>
            <a:off x="517680" y="201600"/>
            <a:ext cx="8321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5840" y="207144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звонкие- глух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кала” –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ка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фин” –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ф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” –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“карто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ь” – карто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свистящие – шипящие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” – ча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пиро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е” – пиро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е “ка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и” – ка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во” –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во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отистый” –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от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шибки возникающие из-за несформированности фонематического слух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000160" y="1500120"/>
            <a:ext cx="53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мешение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18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вердые – мягкие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поте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а” – поте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ла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яго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” – яго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си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я” – си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онорные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е связанные с нарушением звукопроизношения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 [р] на [л] и обра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 ” –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т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” – т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 [м] на [н] и обрат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бель ” –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бель, “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ок” –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ш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 [й] на  [л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” –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и [р] и [л] на [й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бо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” – бо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ффрикат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[ц,ч]  с составляющими их звуками  [т + с; т + ш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вселился” – вцепи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ы” –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ы,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пти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” – пти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ы” –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с] и [з] со звуками [т] и [д]    “кра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” – кра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кор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ка” – кор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285840" y="274680"/>
            <a:ext cx="86439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шибки возникающие из-за несформированности фонематического слух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иды ошибок в письм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шения и замены парных соглас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ильная пози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3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иды ошибок в письм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1000080"/>
            <a:ext cx="86421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льное обозначение мягкости согласн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57160" y="1911240"/>
            <a:ext cx="76438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иды ошибок в письм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981000"/>
            <a:ext cx="828036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шения глас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- у, ё- ю, и-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2205000"/>
            <a:ext cx="393552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диктанты 005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539640" y="4854600"/>
            <a:ext cx="3816360" cy="154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диктанты 005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5148360" y="3500280"/>
            <a:ext cx="345600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аправления работы по формированию фонематического сл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92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28840" y="1700280"/>
            <a:ext cx="68580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285840" y="1643040"/>
            <a:ext cx="86439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лухового вос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 развитие представлений о зв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онематического анализа и 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навыка дифференци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шиваемых звуков по звон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глухости, по твердости и мяг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произносительн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хового образа каждого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шиваемы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ение смешиваемых зву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износительном и слуховом пл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5233116.jpg"/>
          <p:cNvPicPr/>
          <p:nvPr/>
        </p:nvPicPr>
        <p:blipFill>
          <a:blip r:embed="rId1"/>
          <a:stretch/>
        </p:blipFill>
        <p:spPr>
          <a:xfrm>
            <a:off x="6572160" y="3143160"/>
            <a:ext cx="24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0:20:26Z</dcterms:created>
  <dc:creator>шиловы</dc:creator>
  <dc:description/>
  <dc:language>en-US</dc:language>
  <cp:lastModifiedBy>1</cp:lastModifiedBy>
  <dcterms:modified xsi:type="dcterms:W3CDTF">2012-03-12T05:33:11Z</dcterms:modified>
  <cp:revision>234</cp:revision>
  <dc:subject/>
  <dc:title>Слайд 1</dc:title>
</cp:coreProperties>
</file>