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3A81-6499-4997-AF27-F2F4A539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E3A0-C43C-4870-976F-2547E909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A821-7EB8-49C1-AD10-7DAFD01F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56D5-06FB-45D3-8C22-0901642C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4EF3-D2E0-47AF-ACBE-B8E55BA3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8276-244F-4C17-9C2B-7F0DB13F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D1BA-7566-4DA8-ABEE-89FC56AA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2541-7893-41FD-961D-5220BBAF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FD7F-B9BB-489B-A0B2-849E3C41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486-8582-4CAD-8918-69E74B3A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9F36-1FAC-4E6F-AD70-96B2EBB2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9FAA-CF10-442B-8FA2-0D562FB7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6274-9F24-4BEE-8CAC-BE65854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7389-F668-472A-AF4B-10E2A17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2CED-4878-485E-93C0-C32BA820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E239-DB64-4251-865C-BF44575F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FC37-9088-4277-A6A6-000FBA97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E01E-D632-42D0-969B-00A39596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FF44-F3F0-4E55-9515-056C37C6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3C1E-2EC6-4D8C-8037-999B7264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A27D-3577-4DD8-AF74-A8551C1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1825-D2A1-4412-A147-561ACD1B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1F0F-B70D-4247-ACE6-548B66BB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0B2A-16F4-44D2-B13F-26526CDD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F119-4881-4C1F-AD79-01CE9DB49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170D-AF56-4E65-9CCC-DE875A1B6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00"/>
                </a:solidFill>
                <a:latin typeface="Times New Roman"/>
              </a:rPr>
              <a:t>ТРУД  ЛЮДЕЙ В РАЗНЫЕ ИСТОРИЧЕСКИЕ ВРЕМЕН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66"/>
                </a:solidFill>
                <a:latin typeface="Times New Roman"/>
              </a:rPr>
              <a:t>ЖИВЫЕ СУЩЕ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66"/>
                </a:solidFill>
                <a:latin typeface="Times New Roman"/>
              </a:rPr>
              <a:t>ПРОЦЕ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66"/>
                </a:solidFill>
                <a:latin typeface="Times New Roman"/>
              </a:rPr>
              <a:t>ПРЕДМ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0066"/>
                </a:solidFill>
                <a:latin typeface="Times New Roman"/>
              </a:rPr>
              <a:t>ЯВЛЕНИЕ ПРИРО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04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11280" y="3500280"/>
            <a:ext cx="4762800" cy="3133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809880" cy="1780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27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993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Задание № 1 (в парах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Что когда нужно сеять в открытый гру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Отметьте ранние посевы (р), средние(с), поздние (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редис            огурцы         петрушка         укр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лук                 салат           кабачки            свек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морковь         горох           фасоль             ты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Ученики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Ранние: земля обсохла, не прилипает к лопате (апр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Средние: земля прогрелась (конец апреля, начало м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Поздние: стало 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249228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2920" y="249228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249228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92428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92428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2920" y="292428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292428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35592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335592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2920" y="335592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72360" y="3355920"/>
            <a:ext cx="360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Blackadder ITC"/>
              </a:rPr>
              <a:t>Проверь свою раб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00cc"/>
                </a:solidFill>
                <a:uFillTx/>
                <a:latin typeface="Blackadder ITC"/>
              </a:rPr>
              <a:t>Ранние культуры:</a:t>
            </a:r>
            <a:r>
              <a:rPr b="0" i="1" lang="en-US" sz="3600" spc="-1" strike="noStrike">
                <a:solidFill>
                  <a:srgbClr val="9900cc"/>
                </a:solidFill>
                <a:latin typeface="Blackadder ITC"/>
              </a:rPr>
              <a:t> редис, лук, морковь, салат, петрушка, укро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00cc"/>
                </a:solidFill>
                <a:uFillTx/>
                <a:latin typeface="Blackadder ITC"/>
              </a:rPr>
              <a:t>Средние культуры:</a:t>
            </a:r>
            <a:r>
              <a:rPr b="0" i="1" lang="en-US" sz="3600" spc="-1" strike="noStrike">
                <a:solidFill>
                  <a:srgbClr val="9900cc"/>
                </a:solidFill>
                <a:latin typeface="Blackadder ITC"/>
              </a:rPr>
              <a:t> горох, фасоль, све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00cc"/>
                </a:solidFill>
                <a:uFillTx/>
                <a:latin typeface="Blackadder ITC"/>
              </a:rPr>
              <a:t>Поздние культуры:</a:t>
            </a:r>
            <a:r>
              <a:rPr b="0" i="1" lang="en-US" sz="3600" spc="-1" strike="noStrike">
                <a:solidFill>
                  <a:srgbClr val="9900cc"/>
                </a:solidFill>
                <a:latin typeface="Blackadder ITC"/>
              </a:rPr>
              <a:t> огурцы, кабачки, ты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55640" y="1197000"/>
            <a:ext cx="7632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9:08:08Z</dcterms:created>
  <dc:creator>User</dc:creator>
  <dc:description/>
  <dc:language>en-US</dc:language>
  <cp:lastModifiedBy>User</cp:lastModifiedBy>
  <dcterms:modified xsi:type="dcterms:W3CDTF">2012-02-28T20:03:06Z</dcterms:modified>
  <cp:revision>2</cp:revision>
  <dc:subject/>
  <dc:title>ТРУД  ЛЮДЕЙ В РАЗНЫЕ ИСТОРИЧЕСКИЕ ВРЕМЕНА</dc:title>
</cp:coreProperties>
</file>