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37B-208E-4200-AE3A-21B182D4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8F5-3D5D-4CA5-A683-2752B26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2C9-BE0D-442A-A544-9B74D5F1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415-B17D-46A5-A8C7-1788A4CE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3B5-F5DC-4CB6-AD30-E86E3D13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689D-969C-49C5-85A7-B6EE4E7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41A9-6117-4631-A83D-2EC6337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0029-0413-4D3C-B3EA-2E8D2551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DE0C-9843-43B5-B017-E560DE33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675-2A77-4AFD-B400-C44305C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3B5B-71DA-4E74-96C6-E4C9687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56-0DE5-4466-B740-6E5F5856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F668-F93A-436F-B602-DBE8DFF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3BC6-3E02-40DE-BA5E-7870769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408-3184-4E86-AAE8-0CCB78F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F9B-129A-4FCC-A456-E82C6656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4DD-7A0A-46A9-9633-90AB1F5F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48C5-688A-449D-B441-91323F3E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3D8C-65FD-4F32-87E7-461AF15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C769-71C8-434D-B6A5-434F9E2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2EA3-2303-4373-B283-2A0BECE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54AA-8A62-4551-9507-A16AE9E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B25-CBA2-40E5-9844-A9CE2EE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5306-4E79-4FCA-9D9D-70079E0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A090-6CE7-435F-9CC7-70DE81B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E1FB-3461-4935-9DA5-30BCD1D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9D13-2C84-4985-9E79-2C12BB2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074E-051B-45B8-8C31-64E53987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1975-C18D-4538-B4A9-BC138B06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AA97-4F7B-42F5-A93B-E419E73E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BDAB-715E-4B1A-8D7A-91838CDD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1301-C8BB-450F-8368-1EEDAA9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FDDA-44DB-4E79-BCD2-EE767D7D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77F-ACD4-4EDC-A53A-B4378686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EBD3-760E-455E-868B-64C0CF98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633C-EC06-4549-A1EF-AD7EA01C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0F9A-C9D9-4175-913D-8677CE1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7079-24BC-4D51-AB40-0620ADD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9C4C-15DC-4FB7-B27E-342E737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FA50-0DAC-4394-A631-8ABBD00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1886-9CD4-4F71-BE17-85D0509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D7B4-54D8-4C59-8779-3FF46226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7D6B-304C-428D-83AE-79B488D0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3DF0-CB1C-4671-B7AF-8992ED56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209-D917-4707-BC63-6D06D11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5641-8784-4F39-8561-8459B18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05C6-BE0A-4B13-82DF-CBCE1B3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6F46-A205-429E-A161-FA8BFA3D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5575-6882-422D-B6E1-E8610514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D58D0-5E31-496A-AF79-DC73C8C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B5140-6D6A-4D35-9EF9-C0AE530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3EB0-23F3-4123-A4E0-47D657E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208F-C1C0-4BC6-A703-5691FD2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F7F6-380E-434C-9878-26EF9EE5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1F9D-B88E-45D6-AF7E-1B7F869A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8B5-0420-4346-B6AE-2BE11DF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A21C-9FF4-4ED0-84E7-45A6974E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1478-1218-4999-AED7-4E6016CE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D29BE-0B66-4267-A64C-80A22E9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0924-99C7-4FC5-AE88-20577BF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E868-F02A-44C7-AADE-937126D4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A2455-1629-4C93-9F2C-5CF8953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E891-4F2C-44BA-AE19-C4DEAC7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95D3-99BC-44FC-B7CA-7B2DF44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B184-B8BB-4F56-8E3A-637E78A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9E70-858C-43D2-A782-5CC843B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024-46FB-4393-90D5-54A029B1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5F48C-C30D-40EA-B3F4-51E0CCD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5463-B3AF-4554-84EE-E977AAE6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E55C-61F7-4BF6-AF18-F146BE6B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C8CCE-2A29-43FA-8BD9-AE662C69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77D2A-B5E5-4F91-8673-172FC19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B7F0-4DAF-4F30-9C40-370352F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0E8C-2AF8-4B9B-9B75-869C51F7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62D2-3A31-4E9C-84FB-DD3518AE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16AC7-F259-4612-B884-8AF7B644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7102D-55D2-41CC-8694-A21F0FF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C79-5EF7-41D5-942F-7D3E767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79B0-7A32-4B38-AF0B-6F37BD2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6949-8D79-4D75-BE12-135FDCD3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AD7F-6A2A-4777-B7A5-6338F59A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60B94-D9E5-415B-81F8-51B344FE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3C10-0BFD-4387-8E03-A7705EC9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1E45D-DE30-45EB-8CA3-EF1A540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DAD2F7-8D7D-4E4A-8CF5-38E53BC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981644-2B79-4F78-8A2E-68BB769A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46FFA-C3A6-48D4-9E25-1CFC5B37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D43E3-AF18-421E-9827-82FF318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B8C-88B7-4561-917B-F52A237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24B5E-15C1-442F-BB45-64BF58AF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361F9-A6D9-49A4-9124-110C30B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38561-C36F-409D-BA28-F058E5D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9307B-F885-41C5-9905-32C87F6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4C483-9606-41D4-832D-1BD2D17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DE40C-7800-4705-9179-55768F9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BCE5BD-4678-4A48-81BC-4D848B0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DCC-2D35-4D10-9526-C8DAFFEEB15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BE12-DB23-4D87-898C-B535F1CE736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5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DD17-7E04-4000-92E2-E3813B1223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9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3B66-58C5-4766-B992-6D5CDB71EB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FDF-1C18-4CFD-BBF2-FA06393B35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B7A-F57E-4579-BCC3-22F1F89EB0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C81E-A014-4148-A5C7-6FF83DF9C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023-2089-466E-A593-7EB431CE0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доровое питание – успех в учёбе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ыполнил ученик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 «А» класса ГОУ СОШ №48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Большаков Дмитри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0" y="305424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Рациональное питание ребенка любого возраста является одним из важнейших условий его здоровья и активности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имо питания и режима, детям для полноценного развития необходима и физическая активность, и закаливание. Все это входит в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доровый образ жизни школьни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залог успеха ребенка не только на школьной скамье, но и в будущей жизни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одерж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зовые правила здорового пит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тание должно быть сбалансирован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щевая пирам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жим питания нарушать нельз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лорийность рац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ежие продук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4140360" y="1052640"/>
            <a:ext cx="475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питаться так, чтобы ваше питание было здоровы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беспечить сбалансированность и полноценность пищи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Базовые правила здорового питан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итание должно быть сбалансированны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348000" y="1557000"/>
            <a:ext cx="558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ежедневном рационе должны в достаточном, но не в избыточном количестве присутствовать все основные питательные вещества (белки, жиры, углеводы, балластные вещества), вода, минералы, витамины и микроэлемент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685800" y="301320"/>
            <a:ext cx="7772400" cy="5794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Должен соблюдаться правильный режим пит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тимальным считается кушать четыре раза в день, в одно и то же время, с интервалами между приемами пищи в 4-5 часов.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Калорийность рацио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лорийность рациона должна быть достаточной для покрытия наших энергозатрат, но не избыточной.</a:t>
            </a: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вежие продукты – залог здоровья и хорошей учёб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до употреблять свежие, доброкачественные, натуральные продукт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43:04Z</dcterms:created>
  <dc:creator>пользователь</dc:creator>
  <dc:description/>
  <dc:language>en-US</dc:language>
  <cp:lastModifiedBy>пользователь</cp:lastModifiedBy>
  <dcterms:modified xsi:type="dcterms:W3CDTF">2010-11-14T10:29:44Z</dcterms:modified>
  <cp:revision>4</cp:revision>
  <dc:subject/>
  <dc:title>Здоровое питание – успех в учёбе.</dc:title>
</cp:coreProperties>
</file>