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383E-6930-41A5-8D65-D8A2DB37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D2DB-7043-4F96-A91B-12316FAF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5472B-F882-4FAA-993A-91ADB0B3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E4AC-EB9C-4432-ADC3-06BDE354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2A5F-2FE4-4EDF-976E-E970D9A0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7EBD-0ADB-4371-A028-04E2B5B1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2E4A-D4D0-436C-BD6B-0134DD3A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13B8-F5A8-48D1-9115-3324007B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7FDF-D36D-49C7-96A5-FD339744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3172-29CD-4251-92B7-9AEBF26D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BE06-B35D-4BA6-8601-7D9DE599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F503-192E-4363-99F6-141684FD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5397-CD78-4C50-8E0B-C8379D7F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9645-4CB4-4326-A1BB-2A2E0EF7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454E-CD02-49F5-A680-2E997C3E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B2FB-B217-444A-9DF7-7BFA2671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CA25-E242-4423-ADC5-046DC0B6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1C50-DA33-44CD-9050-3A48A09F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A899F-5BFF-4510-A5B4-2A14DDF6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5FDDF-452B-451D-8280-9757FAA8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D5F9-FB9C-4DE1-9264-CE6205AA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6A550-078F-4D87-BFCC-9FA10968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29159-4F45-4D34-A40E-156DC493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D65C6-BB5B-4784-82AE-092E1115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2DDC-35D1-4A98-9149-C9C88D6F6D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20C1-A809-4A5B-97A6-10E06A426C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ru/" TargetMode="External"/><Relationship Id="rId2" Type="http://schemas.openxmlformats.org/officeDocument/2006/relationships/hyperlink" Target="http://www.biografguru.ru/" TargetMode="External"/><Relationship Id="rId3" Type="http://schemas.openxmlformats.org/officeDocument/2006/relationships/hyperlink" Target="http://www.biografguru.ru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Государственное бюджетное образовательное учреждение</a:t>
            </a:r>
            <a:br>
              <a:rPr sz="2000"/>
            </a:b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средняя общеобразовательная школа №153</a:t>
            </a:r>
            <a:br>
              <a:rPr sz="2000"/>
            </a:b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г. Москвы</a:t>
            </a:r>
            <a:endParaRPr b="1" lang="en-US" sz="2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ЕНЩИНЫ – МАТЕМАТ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ительный матери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 уроку математ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втор: Куклянова Екатерина Владимировна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читель математики, информат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fe9"/>
                </a:solidFill>
                <a:latin typeface="Garamond"/>
              </a:rPr>
              <a:t>Список используемых источников</a:t>
            </a:r>
            <a:endParaRPr b="1" lang="en-US" sz="32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енкевич Г.И. Судьба таланта. Очерки о женщинах-математиках. - Брянский рабочий, 1964 г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://www.google.ru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://www.biografguru.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ru.wikipedia.org/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81120" y="2205000"/>
            <a:ext cx="7562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Garamond"/>
              </a:rPr>
              <a:t>«Женщина из-за своего пола и наших пред-рассудков встречается со значительно более  трудными препятствиями, чем мужчина, пос-тигая сложные научные проблемы. Но когда она преодолевает эти барьеры и проникает в тайны мироздания, она, несомненно, прояв-ляет благородную смелость, исключительный талант и высшую гениальность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Garamond"/>
              </a:rPr>
              <a:t>К.Ф. Гау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4000" y="189000"/>
            <a:ext cx="8640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200">
                        <a:alpha val="50196"/>
                      </a:srgbClr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енщины - математи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200">
                      <a:alpha val="50196"/>
                    </a:srgbClr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321440" cy="4681440"/>
          </a:xfrm>
          <a:prstGeom prst="rect">
            <a:avLst/>
          </a:prstGeom>
          <a:ln w="38160">
            <a:solidFill>
              <a:srgbClr val="9900ff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468360" y="5013360"/>
            <a:ext cx="3672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ff"/>
                </a:solidFill>
                <a:latin typeface="Garamond"/>
              </a:rPr>
              <a:t>Гипат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ff"/>
                </a:solidFill>
                <a:latin typeface="Garamond"/>
              </a:rPr>
              <a:t>(370-415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20680"/>
            <a:ext cx="4753080" cy="81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cccc"/>
                </a:solidFill>
                <a:latin typeface="Garamond"/>
              </a:rPr>
              <a:t>Первая женщина-математик.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Научный комментарий к трудам по решению неопределённых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уравне-ний первой степени («Арифме-тики») Диофанта и к трудам по ко-ническим сечениям  Апполония Пергск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оздал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реометр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прибор для определения плотности жидкости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стролябию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прибор для опре-деления широт и долгот в астро-номии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ланисферу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изображе-ние небесной сферы на плоско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ти, на котором можно вычислять восход и заход небесных светил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745080" cy="4248000"/>
          </a:xfrm>
          <a:prstGeom prst="rect">
            <a:avLst/>
          </a:prstGeom>
          <a:ln w="38160">
            <a:solidFill>
              <a:srgbClr val="9900ff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0" y="4508640"/>
            <a:ext cx="41767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Garamond"/>
              </a:rPr>
              <a:t>Мария Гаэтана Аньез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Garamond"/>
              </a:rPr>
              <a:t>(16.05.1718 - 09.01.179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0"/>
            <a:ext cx="5148360" cy="72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cccc"/>
                </a:solidFill>
                <a:latin typeface="Garamond"/>
              </a:rPr>
              <a:t>Обладала яркими математически-ми способностями и эрудици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ервая женщина, занявшая должность профессора в Болонском университете, основанном в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XI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лучила европейскую известность, ко-торую ей принёс учебник по математике, изданный в 1748 г. под названием «Курс анализа для употребления итальянского юношества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Доказала, что любое кубическое уравне-ние имеет три корн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честь Аньези плоскую кривую, выра-женную уравнением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назвали «локон Аньези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еподавала математику в университете до 1771 го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588000" y="4437000"/>
                <a:ext cx="215928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84720" cy="4824360"/>
          </a:xfrm>
          <a:prstGeom prst="rect">
            <a:avLst/>
          </a:prstGeom>
          <a:ln w="28440">
            <a:solidFill>
              <a:srgbClr val="9900ff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-181080" y="5013360"/>
            <a:ext cx="39243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Garamond"/>
              </a:rPr>
              <a:t>Софи Жерме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Garamond"/>
              </a:rPr>
              <a:t>(1.04.1776 – 27.06.183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87840" y="0"/>
            <a:ext cx="545616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cccc"/>
                </a:solidFill>
                <a:latin typeface="Garamond"/>
              </a:rPr>
              <a:t>Выдающийся математик. Добилась важных результатов в теории чисел и теории упруг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крыла, что уравнение Ферма                      гд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, y, z, n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целые числа не имеет реше-ния, когда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-1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гд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-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стое число вида 8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+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оказала, что если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, y, z-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лые числа и, если                 , то либо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x,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ибо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,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ибо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должны делиться на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урсе теории вибраций пыталась объяснить поведение упругих пласт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убликовала обзор своих работ по теории упруг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рмен определённо заслужила свои-ми работами учёной степени, но так ни-когда её и не получи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8028000" y="1197000"/>
                <a:ext cx="11160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716360" y="2997360"/>
                <a:ext cx="1152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84720" cy="4608360"/>
          </a:xfrm>
          <a:prstGeom prst="rect">
            <a:avLst/>
          </a:prstGeom>
          <a:ln w="28440">
            <a:solidFill>
              <a:srgbClr val="9900f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4876920"/>
            <a:ext cx="37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Garamond"/>
              </a:rPr>
              <a:t>Ада Август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Garamond"/>
              </a:rPr>
              <a:t>Лавлей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Garamond"/>
              </a:rPr>
              <a:t>(10.12.1815 - 185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59120" y="4680"/>
            <a:ext cx="5384880" cy="72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300" spc="-1" strike="noStrike">
                <a:solidFill>
                  <a:srgbClr val="ffcccc"/>
                </a:solidFill>
                <a:latin typeface="Garamond"/>
              </a:rPr>
              <a:t>Великий математик. </a:t>
            </a:r>
            <a:r>
              <a:rPr b="1" lang="en-US" sz="2400" spc="-1" strike="noStrike">
                <a:solidFill>
                  <a:srgbClr val="ffcccc"/>
                </a:solidFill>
                <a:latin typeface="Garamond"/>
              </a:rPr>
              <a:t>Написала пер-вую в мире программу для аналити-ческой машины Чарльза Беббидж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Ей принадлежат 8 примечаний к стать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Менабреа, посвящённых трём взаимосвязан-ным вопросам уточнения и пояснения для читателя некоторых принципов и особен-ностей работы аналитической машины; рас-смотрение теоретических возможностей ма-шины; программирование решения задач на этой машин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В память об Аде Лавлейс назван разрабо-танный в1980 году язык АДА – один из универсальных языков программир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711600" cy="4824360"/>
          </a:xfrm>
          <a:prstGeom prst="rect">
            <a:avLst/>
          </a:prstGeom>
          <a:ln w="28440">
            <a:solidFill>
              <a:srgbClr val="9900ff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-361440" y="5013360"/>
            <a:ext cx="488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Garamond"/>
              </a:rPr>
              <a:t>Елизавета Фёдо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Garamond"/>
              </a:rPr>
              <a:t>Литвин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Garamond"/>
              </a:rPr>
              <a:t>(21.09.1845 - 1919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189000"/>
            <a:ext cx="493236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ffcccc"/>
                </a:solidFill>
                <a:latin typeface="Garamond"/>
              </a:rPr>
              <a:t>Математик – педагог, популяриза-тор, литерато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До 13 лет воспитывалась в имении своего отца. затем в 1860 году в Мариин-ской гимнази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1876 году окончила математический факультет Цюрихского университе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1887 году за выдающиеся педагоги-ческие заслуги была допущена к препо-даванию математики в старших классах и стала одним из ведущих преподавате-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 1897 г. была членом Петербургского Математического общест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Ей принадлежат свыше 70 журнальных статей посвящённых различным матема-тическим вопросам, 11 рецензий на вы-ходившие в свет учебники математики для средней школ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673440" cy="4608360"/>
          </a:xfrm>
          <a:prstGeom prst="rect">
            <a:avLst/>
          </a:prstGeom>
          <a:ln w="28440">
            <a:solidFill>
              <a:srgbClr val="9900ff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0" y="4797360"/>
            <a:ext cx="45720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ff"/>
                </a:solidFill>
                <a:latin typeface="Garamond"/>
              </a:rPr>
              <a:t>Софья Васильевна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ff"/>
                </a:solidFill>
                <a:latin typeface="Garamond"/>
              </a:rPr>
              <a:t>Ковалевска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Garamond"/>
              </a:rPr>
              <a:t>(3.01.1850 – 29.01.189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4200" y="7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48200" y="4680"/>
            <a:ext cx="5095800" cy="66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cccc"/>
                </a:solidFill>
                <a:latin typeface="Garamond"/>
              </a:rPr>
              <a:t>Выдающийся математик, талант-ливый литератор и общественный дея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Самая важная научная работа была пос-вящена задачи о вращении тяжёлого твёр-дого тела вокруг неподвижной точки. В 1888 г. за эту работу ей была присуждена премия Парижской академии нау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«Софья Васильевна не только превзош-ла своих немногих предшественниц в ма-тематическом образовании, но заняла между современными математиками одно из самых видных мест…» - Э. Дюбуа – Раймон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529080" cy="4824360"/>
          </a:xfrm>
          <a:prstGeom prst="rect">
            <a:avLst/>
          </a:prstGeom>
          <a:ln w="28440">
            <a:solidFill>
              <a:srgbClr val="9900ff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-181080" y="5084640"/>
            <a:ext cx="41403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Garamond"/>
              </a:rPr>
              <a:t>Людмила Всеволод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Garamond"/>
              </a:rPr>
              <a:t>Келды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Garamond"/>
              </a:rPr>
              <a:t>(12.03(27.02).1904-16.02.197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75120" y="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0"/>
            <a:ext cx="5473800" cy="78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cccc"/>
                </a:solidFill>
                <a:latin typeface="Garamond"/>
              </a:rPr>
              <a:t>Замечательный математ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Закончила физико – математический фа-культет Московского университета под науч-ным руководством Н. Н. Лузи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Основными результатами довоенного пе-риода были построение арифметических примеров для всех эффективно заданных счётных трансфинитов и полное описание структуры произвольного В-множества, ос-нованное на введённом ею понятии канони-ческого элемен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Работа в области дескриптивной теории множеств завершилась непосредственно перед войной защитой докторской диссер-тации в 1941 г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Доказала существование основного, един-ственного топологического типа элементов некоторого класс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1:52:53Z</dcterms:created>
  <dc:creator>Катя</dc:creator>
  <dc:description/>
  <dc:language>en-US</dc:language>
  <cp:lastModifiedBy>КМН</cp:lastModifiedBy>
  <dcterms:modified xsi:type="dcterms:W3CDTF">2012-03-12T17:39:59Z</dcterms:modified>
  <cp:revision>21</cp:revision>
  <dc:subject/>
  <dc:title>Слайд 1</dc:title>
</cp:coreProperties>
</file>