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761-8F34-4E34-B175-2A391301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6A6-4D4C-4928-BDAC-1CAC05A1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F12-4A02-4F15-9649-E5B362F4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727-393B-479B-8B66-6CECC5DE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C5B-C4AD-4A3D-902A-BAC74486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66E-6E71-4985-9A9B-F4DD68C5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020-1D3B-42AB-A349-BCF36709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20B-30F2-444A-85A5-A2C1EB86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4EC-34BD-4FD0-A630-69C4C181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459-3079-4E10-9A9B-EA17458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091-E5AC-4067-83E2-CE2F94A4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5B6-C540-4B2F-96E1-23F2A62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21FB-2D3C-4EA0-B1E1-08F985041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can0107.jpg"/>
          <p:cNvPicPr/>
          <p:nvPr/>
        </p:nvPicPr>
        <p:blipFill>
          <a:blip r:embed="rId1"/>
          <a:stretch/>
        </p:blipFill>
        <p:spPr>
          <a:xfrm>
            <a:off x="971640" y="2349360"/>
            <a:ext cx="3960720" cy="4178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ЖИВОТНЫЙ МИР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УНД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63640" y="2708280"/>
            <a:ext cx="3024360" cy="3384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Выполнила ученица 4 Б клас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Евнукова Евдок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42920" y="4365360"/>
            <a:ext cx="712944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вотный мир тундр беден числом видов. Лишь немногие из них приспособились к существованию в суровых зимних условиях и не покидают тундру круглый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1208950194tundra_s_vozduha_kolesnikov.jpg"/>
          <p:cNvPicPr/>
          <p:nvPr/>
        </p:nvPicPr>
        <p:blipFill>
          <a:blip r:embed="rId1"/>
          <a:stretch/>
        </p:blipFill>
        <p:spPr>
          <a:xfrm>
            <a:off x="2050920" y="620640"/>
            <a:ext cx="47466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332000" y="5516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лемминг, заяц-беля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2" descr="леминг заполяр.jpg"/>
          <p:cNvPicPr/>
          <p:nvPr/>
        </p:nvPicPr>
        <p:blipFill>
          <a:blip r:embed="rId1"/>
          <a:stretch/>
        </p:blipFill>
        <p:spPr>
          <a:xfrm>
            <a:off x="468360" y="1341360"/>
            <a:ext cx="4464000" cy="3013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Lepus_timidus.jpg"/>
          <p:cNvPicPr/>
          <p:nvPr/>
        </p:nvPicPr>
        <p:blipFill>
          <a:blip r:embed="rId2"/>
          <a:stretch/>
        </p:blipFill>
        <p:spPr>
          <a:xfrm>
            <a:off x="5435640" y="549360"/>
            <a:ext cx="3232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900000" y="5661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сец, волк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1228335328_18.jpg"/>
          <p:cNvPicPr/>
          <p:nvPr/>
        </p:nvPicPr>
        <p:blipFill>
          <a:blip r:embed="rId1"/>
          <a:stretch/>
        </p:blipFill>
        <p:spPr>
          <a:xfrm>
            <a:off x="324000" y="1989000"/>
            <a:ext cx="482436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19.jpg"/>
          <p:cNvPicPr/>
          <p:nvPr/>
        </p:nvPicPr>
        <p:blipFill>
          <a:blip r:embed="rId2"/>
          <a:stretch/>
        </p:blipFill>
        <p:spPr>
          <a:xfrm>
            <a:off x="5508720" y="1197000"/>
            <a:ext cx="332424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42920" y="573264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ая куропатка, полярная с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Owl-009.jpg"/>
          <p:cNvPicPr/>
          <p:nvPr/>
        </p:nvPicPr>
        <p:blipFill>
          <a:blip r:embed="rId1"/>
          <a:stretch/>
        </p:blipFill>
        <p:spPr>
          <a:xfrm>
            <a:off x="3780000" y="1773360"/>
            <a:ext cx="5087880" cy="3816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475906398.jpg"/>
          <p:cNvPicPr/>
          <p:nvPr/>
        </p:nvPicPr>
        <p:blipFill>
          <a:blip r:embed="rId2"/>
          <a:stretch/>
        </p:blipFill>
        <p:spPr>
          <a:xfrm>
            <a:off x="250920" y="260280"/>
            <a:ext cx="4298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50920" y="450864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верный олень зимой откочевывает в лесотундру, где не так сильны ветры, поэтому снег менее плотный, и из-под него легче добывать яге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caribu_0_70.jpg"/>
          <p:cNvPicPr/>
          <p:nvPr/>
        </p:nvPicPr>
        <p:blipFill>
          <a:blip r:embed="rId1"/>
          <a:stretch/>
        </p:blipFill>
        <p:spPr>
          <a:xfrm>
            <a:off x="1692360" y="189000"/>
            <a:ext cx="5688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468360" y="4581360"/>
            <a:ext cx="820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том тундра преображается. Появляется масса перелетных птиц, привлекаемых обилием разнообразного корма. Особенно многочисленны среди них водоплавающие (гуси, утки, лебеди) и кули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100.jpg"/>
          <p:cNvPicPr/>
          <p:nvPr/>
        </p:nvPicPr>
        <p:blipFill>
          <a:blip r:embed="rId1"/>
          <a:stretch/>
        </p:blipFill>
        <p:spPr>
          <a:xfrm>
            <a:off x="5724360" y="2349360"/>
            <a:ext cx="2986200" cy="2318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White-fronted.goose.750pix.jpg"/>
          <p:cNvPicPr/>
          <p:nvPr/>
        </p:nvPicPr>
        <p:blipFill>
          <a:blip r:embed="rId2"/>
          <a:stretch/>
        </p:blipFill>
        <p:spPr>
          <a:xfrm>
            <a:off x="2987640" y="189000"/>
            <a:ext cx="3384720" cy="2652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180.jpg"/>
          <p:cNvPicPr/>
          <p:nvPr/>
        </p:nvPicPr>
        <p:blipFill>
          <a:blip r:embed="rId3"/>
          <a:stretch/>
        </p:blipFill>
        <p:spPr>
          <a:xfrm>
            <a:off x="395280" y="1825560"/>
            <a:ext cx="3456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24000" y="501336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енность животных в тундре резко колеблется от года к году в зависимости от обеспеченности корм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48.jpg"/>
          <p:cNvPicPr/>
          <p:nvPr/>
        </p:nvPicPr>
        <p:blipFill>
          <a:blip r:embed="rId1"/>
          <a:stretch/>
        </p:blipFill>
        <p:spPr>
          <a:xfrm>
            <a:off x="1547640" y="189000"/>
            <a:ext cx="62359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7:26:31Z</dcterms:created>
  <dc:creator>А</dc:creator>
  <dc:description/>
  <dc:language>en-US</dc:language>
  <cp:lastModifiedBy>Каталевич</cp:lastModifiedBy>
  <dcterms:modified xsi:type="dcterms:W3CDTF">2011-02-17T06:14:01Z</dcterms:modified>
  <cp:revision>4</cp:revision>
  <dc:subject/>
  <dc:title>ЖИВОТНЫЙ МИР ТУНДРЫ</dc:title>
</cp:coreProperties>
</file>