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339-6DC4-41CB-9DE9-050F828B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70E-23DC-465D-BBB1-0D2A2678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650-26E2-4B00-A39A-35D08349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FB5-095A-40FE-B5A2-4112820D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FE0A-2D89-4AEE-80C7-274A59BA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CD54-BB7A-4EE0-BD27-4A4B8A0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63AA-517D-4B77-AE69-19CF396D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4EF7-3EEC-45DB-AB84-CB2501D2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B7AA-405D-4D49-8186-685000D1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C9C7-C43A-42C0-80C0-37FEEABF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F83C-27D5-47EC-A10E-5FB9F83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0AC-E844-42B0-9B73-D56A8E14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86B0-20DF-4513-98BB-BE0730A2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833F-66B8-423F-9E78-676D8A47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8C2D-A33B-40DD-B0A3-429CE57B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4E2-2460-4DB0-8D4E-006D881B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A4F1-D4D9-4C79-86F2-6E69716C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2EA-4ED4-4237-803C-638A109D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3C4-DB7B-447E-91A1-62319F0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606-F060-491A-B2B8-4351DBC1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DBC-48DD-436F-AAA9-015AF1F5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457-7A03-4767-8B4A-5950469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74F-B8D8-45FE-9976-306A42C5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E09-794E-4075-A61A-015E7B7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C3B3-E12E-419F-8F3A-58BE5DB428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8209-5020-4EB0-B2BB-9695B126F8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89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Урок географии, 9 класс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915920"/>
            <a:ext cx="8209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ОРОДСКОЕ И СЕЛЬСКО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СЕЛЕНИЕ РОССИ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ССЕЛЕНИЕ НАСЕЛЕ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географ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«Житнинская СОШ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щеева Е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ЕЛЬСКИЕ НАСЕЛЕННЫЕ ПУНКТЫ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льскими называют населенные пункты с населением менее 12 тыс. челов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жителей сельских населенных пунктов основной сферой деятельности является сельское хозяйство- земледелие,животноводство,птицевд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ыболов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заселения сельских населенных пунктов зависит от плодородия почвы, наличия пастбищ,рек,близость транспортных пу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ло хранит традиции, город распространяет нов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РАЗНООБРАЗИЕ СЕЛЬСКИХ НАСЕЛЕННЫХ ПУНКТОВ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рев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ут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у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ходная форма поселения- поселок городского тип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личительные черты сельских населенных пункт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ло- школа, детский сад, больница, церковь, магазины, предприятия сельскохозяйственного назначения, служба быта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ревня- поменьше села, нет церкви, есть ФА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тор- несколько домов вдали от сел и дереве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ГТ- хорошо развита инфраструктура, есть промышленные предприятия, предприятия по переработке сельскохозяйственной проду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 ПГТ являются районными цент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ОЛЯ ГОРОДСКОГО И СЕЛЬСКОГО НАСЕЛЕНИЯ РОСС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долю городского приходитс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78% населени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долю сельского приходитс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2% насел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мещение насел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няя плотность населения составляет 8,6 человека на 1 кв.к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Европейской части России плотность составляет 29 человек на 1 кв.к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ибири- 2,5 человек на 1 кв.к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ПРОС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 чем связано неравномерное распределение населения на территории Росси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ть сообщения на тему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блемы современных город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блемы села, дерев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учебник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стр.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еревни и села Росс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http://prv1.lori-images.net/traditsionnye-derevenskie-doma-na-russkom-severe-0002205937-preview.jpg"/>
          <p:cNvPicPr/>
          <p:nvPr/>
        </p:nvPicPr>
        <p:blipFill>
          <a:blip r:embed="rId1"/>
          <a:stretch/>
        </p:blipFill>
        <p:spPr>
          <a:xfrm>
            <a:off x="611280" y="1571760"/>
            <a:ext cx="7921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еревни бывают разные…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2" descr="Картинка 115 из 63472"/>
          <p:cNvPicPr/>
          <p:nvPr/>
        </p:nvPicPr>
        <p:blipFill>
          <a:blip r:embed="rId1"/>
          <a:stretch/>
        </p:blipFill>
        <p:spPr>
          <a:xfrm>
            <a:off x="395280" y="1143000"/>
            <a:ext cx="83534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557360"/>
            <a:ext cx="829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http://avtoshka.www.nn.ru/users/foto/304444-2011-11-18-top68.ru-svoyu-sudbu-my-tvorim-sami-1345.jpg"/>
          <p:cNvPicPr/>
          <p:nvPr/>
        </p:nvPicPr>
        <p:blipFill>
          <a:blip r:embed="rId1"/>
          <a:stretch/>
        </p:blipFill>
        <p:spPr>
          <a:xfrm>
            <a:off x="324000" y="765000"/>
            <a:ext cx="84391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орный аул на Кавказ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Picture 2" descr="Картинка 180 из 63472"/>
          <p:cNvPicPr/>
          <p:nvPr/>
        </p:nvPicPr>
        <p:blipFill>
          <a:blip r:embed="rId1"/>
          <a:stretch/>
        </p:blipFill>
        <p:spPr>
          <a:xfrm>
            <a:off x="826920" y="1417680"/>
            <a:ext cx="69850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 ИСТОР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Древней Руси насчитывалось около 300 город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а создавались на реках- торговых путей. Самыми крупными городами Древней Руси были Новгород, Смоленск, Муром, Белозерск и д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ериод царствования Петр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а территории России было построено много новых городов, в т.ч. Санкт-Петербур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ел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2268360" y="314172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2" descr="Картинка 4 из 153452"/>
          <p:cNvPicPr/>
          <p:nvPr/>
        </p:nvPicPr>
        <p:blipFill>
          <a:blip r:embed="rId1"/>
          <a:stretch/>
        </p:blipFill>
        <p:spPr>
          <a:xfrm>
            <a:off x="539640" y="1511280"/>
            <a:ext cx="7848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ссийский город Перм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2" descr="Картинка 25 из 355898"/>
          <p:cNvPicPr/>
          <p:nvPr/>
        </p:nvPicPr>
        <p:blipFill>
          <a:blip r:embed="rId1"/>
          <a:stretch/>
        </p:blipFill>
        <p:spPr>
          <a:xfrm>
            <a:off x="324000" y="1143000"/>
            <a:ext cx="83516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ке были построены города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Дальнем Востоке- Владивосток, Благовещенс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авказе- Владикавказ,Грозный,Петровский пор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Южном Казахстане- Верный (Алма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 города были опорными государственными пунктами, эащищающими границы импе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оветское время было построено 600 городов, которые являлись промышленными центр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городов было построено на Севере страны в районах Сибири и Дальнего Вост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Чем город отличается от деревн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исленностью населения (городом считается населенный пункт, где население превышает 12 тыс. человек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ункциональной особенностью населения ( городские жители заняты в различных отраслях промышленности, в науке,т.е. заняты несельскохозяйственной деятельностью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лассификация городов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 по численности насе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ЫЕ -  - до 20 тыс. жи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Е - более 100 тыс жи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ПНЫЕ -  более 250 тыс. жи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ПНЕЙШИЕ- более 500 тыс. жи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А МИЛЛИОНЕРЫ- 1 млн и более ж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2. По функция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НТРАЛЬНЫЕ МЕСТ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олица(Москва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официальные столицы экономических районов -(Санкт-Петербург, Нижний Новгород,Новосибирск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тры республик,краев, областей (Казань, Тверь и т.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РАСЛЕВЫЕ ЦЕНТ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мышленные центры (Нижний Таги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анспортные центры (порты Находка,Новороссийск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укограды (Обнинск,Зеленоград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уристические центры (Суздал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а-курорты (Соч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ГАПОЛИ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ОДСКАЯ АГЛОМЕ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РА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БАНИЗ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остоятельно подготовить толкование терми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06:50Z</dcterms:created>
  <dc:creator>пользователь</dc:creator>
  <dc:description/>
  <dc:language>en-US</dc:language>
  <cp:lastModifiedBy>Елена</cp:lastModifiedBy>
  <dcterms:modified xsi:type="dcterms:W3CDTF">2012-03-13T19:37:50Z</dcterms:modified>
  <cp:revision>9</cp:revision>
  <dc:subject/>
  <dc:title>Урок географии, 9 класс</dc:title>
</cp:coreProperties>
</file>