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144-B943-49F0-B768-96BD2FEA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03D-9616-4DE1-A076-947E78B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E91-E1A9-46F3-8868-10BCBF65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F3D-E570-4370-A5F0-CD4F67DA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B1A-FF9F-4E0C-8126-1D7D78C2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BF0E-EB80-455E-A40F-2C99B0B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0B01-5B7D-4CF4-B805-8AEA92D8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3EB6-B661-45D6-BB4B-202D01F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86A1-1ECC-4A35-B9E9-FC70BE82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ACC9-FB4B-4A21-82D2-B0DFF975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B4E-E1E9-4698-8C96-0AC6DBC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E34-6235-46EF-808E-24E24414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CCB2-AF74-46E2-906E-D5035C7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4FB7-1174-4C98-8D3E-E6DB03C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3DD-3054-43EE-82BC-0359557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0484-EE06-4ABA-8401-0181DBC5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B3E-5283-4C2D-B579-3E5CCEC4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B47-23F0-4D47-A72D-A4EC37AC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CFC-2334-4395-96BA-E89F1BA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D49-2DCA-4F1F-8844-4549B8B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627-59AE-4E9F-9991-08B6A12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8EB-A763-49DA-9B81-0A27C43D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A05-3BA5-4487-9798-FB7ABA4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2FA-8FBC-43F5-9DC3-A1B98DC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48A-BE69-429B-839C-B5F93ECA4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EC54-7A6E-41B2-A210-1672C539E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052640"/>
            <a:ext cx="7772400" cy="25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ксиомы параллельности прямы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ометрия 7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казательство от противного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ается предположение, противное дан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сняется, что следует из сделанного предположения на основе известных аксиом, теор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навливается противореч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 о том, что предположение неверно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 зада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5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тный опр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паралле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секущ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 углы, образованные параллельными прямыми и секущ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знаки параллельности прям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 устных задач по готовым чертеж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1542960"/>
            <a:ext cx="5324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бл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точку , не лежащую на данной прямой, можно провести параллельную прям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параллельных  прямых можно провести через данную точ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ксиома параллельных  прямых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точку , не лежащую на данной прямой, можно провести параллельную прямую, притом только од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8:03:35Z</dcterms:created>
  <dc:creator>Lanser Client</dc:creator>
  <dc:description/>
  <dc:language>en-US</dc:language>
  <cp:lastModifiedBy>Lanser Client</cp:lastModifiedBy>
  <dcterms:modified xsi:type="dcterms:W3CDTF">2012-02-14T18:43:48Z</dcterms:modified>
  <cp:revision>2</cp:revision>
  <dc:subject/>
  <dc:title>Аксиомы параллельности прям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