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12.gif" ContentType="image/gif"/>
  <Override PartName="/ppt/media/image8.gif" ContentType="image/gif"/>
  <Override PartName="/ppt/media/image10.jpeg" ContentType="image/jpeg"/>
  <Override PartName="/ppt/media/image2.gif" ContentType="image/gif"/>
  <Override PartName="/ppt/media/image19.gif" ContentType="image/gif"/>
  <Override PartName="/ppt/media/image1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635-C4BA-460A-887E-41ACD6C0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170-4883-410B-A4B2-4DD32EEC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CD2-5E52-461D-8C1D-2E2E05F4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D7E-1EBB-47D1-B54D-1944B7B2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705A-EE80-4B98-AD2B-AE29C520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DDD4-9325-4AD0-9FE0-61E2E763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7B36-CF98-4FA0-8D59-EFC1F35C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83F3-1DB3-4D49-A646-8DD27440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0CDC-CDE6-40BB-A335-9635F20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DA9E-AC3E-4407-B51B-050D0B0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2A80-8D76-4C71-8793-D4FFC36B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5FF-79B6-4B17-9223-EB9BCE0D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4EDA-5733-4F1A-95AA-E9E749F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66FE-CDD7-4F96-B892-95528B3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B6FA-0312-4AB6-8572-DD93366D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FD27-2176-4240-84C9-701BD169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1E99-A5B2-438B-8CC2-A3DEBBFC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92EF-BA94-41F9-914A-C663E001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63B1-E91F-46F6-AA48-8A1A4AEA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EBF7-E59E-4887-AE33-B49E733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4732-8242-43B7-B885-F44F969E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0E5D-3E4A-4551-A799-1C5E7892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616-FA43-45E2-89E2-C1090C24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4101-A5F0-4FDA-B3E6-D25999E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20A5-8D70-4A1F-8B6C-7EEA355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6626-B46B-44A4-B3C0-F4669CD0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0B01-3561-41CD-B89A-8BC6AAAB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83BC-A1BB-4016-BBE6-B5200CF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F264-86E9-4B90-B34A-F8B0107C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D3AC6-B174-45BC-878C-55BF9A43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9901-FCDC-4C37-A227-9A36F5A2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113D-D406-4B88-BCF1-42BA4C5C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ED5D-DAE5-40C2-B51A-4F64493A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913-9636-4437-BFD4-DAB52C07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9385-D9BD-4E45-BC3E-C750AF82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4935-D83B-440A-AF74-65358118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3CA39-0C71-4D09-8391-36FD6D8A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494D-2221-489E-9BF2-CA27C359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D409-6B44-4D8B-81AB-76763FC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FFFC-8E1B-4FD7-A6E7-19241AC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C322-7D73-40BE-B573-7C9009A7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AEF0-DE2F-40DD-9E6D-854411C5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67BA-611A-41B1-94F8-4B0A40DD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13F4-CF2A-4EDB-B6D2-2BC0DDAC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B31-D089-4548-86DF-9FF5F45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7BB56-8ECD-4304-BAB7-41142F33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17B42-0E75-4472-B5DE-D13589B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526A5-7C2B-43A8-9D28-0DA35321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FCD56-FF72-4CED-B0DC-9104BE5A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7CF5B-4D47-490E-9628-4C1369E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CA08-65CF-4D8E-8126-084B3BC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AB1C-B8C8-4E36-8510-7346C90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AE1A-3796-4EE3-93B4-86822E0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4E2A-6732-45EF-A6F2-6D83E93D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CD5A-098B-45B5-AB26-4AEAFCA4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BD6-479C-467E-A6DB-2F49F269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3862-F84E-4704-9847-6AACFF70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A757-4CD1-4388-9635-F2506015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6CE53-1253-4D78-840E-EF4C54AA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AF4F4-C1BF-43DF-8B49-480BD861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166C-A9F3-4C3F-A067-C98B5B02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7979-04D8-4ABB-97A7-8BF6DB1F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C3BDD-E7CD-4DA3-BEB5-C55E009D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3B87-9A5C-4A51-9F09-4E005C5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F785E-3409-48C7-A710-9F16F63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A68C-D147-417E-ACAB-127925F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C29-555F-4BF9-A147-74D0093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1E1FB-F348-4BCB-B8EF-A3428C2A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B07F4-0DD1-4755-8F80-8107F357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52536-33FE-416A-8AC0-095F5B22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E1232-BFFA-4A1A-A0ED-69E9946D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6082-4AD0-4AFE-ACC7-1CF8A33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2178A-8B5B-47B0-AA6D-C17D8AA1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8251-DED0-4322-A784-AB5C800D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9D6DB-0E9F-433B-B942-4CB50C9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5C947-1C62-465C-9EA4-62213DBA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8F924-91F9-4537-83F3-0F595CD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044-296F-47FB-AFD9-107E001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D30A-5E86-4C03-8506-43565B19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DA9D1-5B74-4B10-BED4-BCA5E17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F3E9E-069C-438E-8CC0-0F4486C8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27066-7585-4ABB-A203-29AE008F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8EAE3-4120-446F-8AAF-115D589F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DC0-E8BB-42A8-BABF-AA86A975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6bb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bad9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9c2d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cb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cb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6bb1c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E23-602C-4917-AF7E-B6E094929843}" type="slidenum">
              <a:rPr b="0" lang="en-US" sz="12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6bb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bad9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9c2d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cb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cb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6bb1c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F78B-B292-4C6F-8DEF-E653FBBB015C}" type="slidenum">
              <a:rPr b="0" lang="en-US" sz="12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6bb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9cb084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9cb084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76737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76737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76737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6737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bad9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9c2d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cb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cb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6bb1c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EC18-6DA1-4BA5-A5D9-49B1FB9F7AC4}" type="slidenum">
              <a:rPr b="0" lang="en-US" sz="12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bad9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9c2d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cb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cb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6bb1c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1279-4406-4F65-8A86-ECC8DCE54182}" type="slidenum">
              <a:rPr b="0" lang="en-US" sz="12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6737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bad9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9c2d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cb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cb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6bb1c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53C-3A51-47B2-BA47-731CA4A41473}" type="slidenum">
              <a:rPr b="0" lang="en-US" sz="12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bad9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9c2d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cb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cb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6bb1c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BE2D-9748-437D-8238-76AF6C3AA577}" type="slidenum">
              <a:rPr b="0" lang="en-US" sz="12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6bb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bad9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9bad9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9c2d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cb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cb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6bb1c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27D8-099A-4C0C-B355-E1CB715F24A2}" type="slidenum">
              <a:rPr b="0" lang="en-US" sz="12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4968720" cy="49690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405360" y="-304200"/>
            <a:ext cx="1570680" cy="1491480"/>
            <a:chOff x="405360" y="-304200"/>
            <a:chExt cx="1570680" cy="1491480"/>
          </a:xfrm>
        </p:grpSpPr>
        <p:sp>
          <p:nvSpPr>
            <p:cNvPr id="370" name=""/>
            <p:cNvSpPr/>
            <p:nvPr/>
          </p:nvSpPr>
          <p:spPr>
            <a:xfrm rot="2241600">
              <a:off x="539640" y="0"/>
              <a:ext cx="1301760" cy="882720"/>
            </a:xfrm>
            <a:custGeom>
              <a:avLst/>
              <a:gdLst>
                <a:gd name="textAreaLeft" fmla="*/ 536400 w 1301760"/>
                <a:gd name="textAreaRight" fmla="*/ 765360 w 1301760"/>
                <a:gd name="textAreaTop" fmla="*/ 363600 h 882720"/>
                <a:gd name="textAreaBottom" fmla="*/ 519120 h 88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957400">
              <a:off x="539280" y="52920"/>
              <a:ext cx="1266840" cy="799920"/>
            </a:xfrm>
            <a:custGeom>
              <a:avLst/>
              <a:gdLst>
                <a:gd name="textAreaLeft" fmla="*/ 522000 w 1266840"/>
                <a:gd name="textAreaRight" fmla="*/ 744840 w 1266840"/>
                <a:gd name="textAreaTop" fmla="*/ 329400 h 799920"/>
                <a:gd name="textAreaBottom" fmla="*/ 47052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373880" y="968760"/>
            <a:ext cx="1308240" cy="1339200"/>
            <a:chOff x="7373880" y="968760"/>
            <a:chExt cx="1308240" cy="1339200"/>
          </a:xfrm>
        </p:grpSpPr>
        <p:sp>
          <p:nvSpPr>
            <p:cNvPr id="373" name=""/>
            <p:cNvSpPr/>
            <p:nvPr/>
          </p:nvSpPr>
          <p:spPr>
            <a:xfrm rot="2241600">
              <a:off x="7596000" y="1125360"/>
              <a:ext cx="863280" cy="1025640"/>
            </a:xfrm>
            <a:custGeom>
              <a:avLst/>
              <a:gdLst>
                <a:gd name="textAreaLeft" fmla="*/ 355680 w 863280"/>
                <a:gd name="textAreaRight" fmla="*/ 507600 w 863280"/>
                <a:gd name="textAreaTop" fmla="*/ 422640 h 1025640"/>
                <a:gd name="textAreaBottom" fmla="*/ 603000 h 10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957400">
              <a:off x="7596000" y="1186920"/>
              <a:ext cx="840240" cy="929520"/>
            </a:xfrm>
            <a:custGeom>
              <a:avLst/>
              <a:gdLst>
                <a:gd name="textAreaLeft" fmla="*/ 346320 w 840240"/>
                <a:gd name="textAreaRight" fmla="*/ 493920 w 840240"/>
                <a:gd name="textAreaTop" fmla="*/ 383040 h 929520"/>
                <a:gd name="textAreaBottom" fmla="*/ 546480 h 92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213680" y="4684320"/>
            <a:ext cx="1194840" cy="1252800"/>
            <a:chOff x="7213680" y="4684320"/>
            <a:chExt cx="1194840" cy="1252800"/>
          </a:xfrm>
        </p:grpSpPr>
        <p:sp>
          <p:nvSpPr>
            <p:cNvPr id="376" name=""/>
            <p:cNvSpPr/>
            <p:nvPr/>
          </p:nvSpPr>
          <p:spPr>
            <a:xfrm rot="2241600">
              <a:off x="7451280" y="4797000"/>
              <a:ext cx="719280" cy="1027080"/>
            </a:xfrm>
            <a:custGeom>
              <a:avLst/>
              <a:gdLst>
                <a:gd name="textAreaLeft" fmla="*/ 296280 w 719280"/>
                <a:gd name="textAreaRight" fmla="*/ 423000 w 719280"/>
                <a:gd name="textAreaTop" fmla="*/ 423000 h 1027080"/>
                <a:gd name="textAreaBottom" fmla="*/ 60408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957400">
              <a:off x="7451640" y="4858920"/>
              <a:ext cx="699840" cy="930960"/>
            </a:xfrm>
            <a:custGeom>
              <a:avLst/>
              <a:gdLst>
                <a:gd name="textAreaLeft" fmla="*/ 288360 w 699840"/>
                <a:gd name="textAreaRight" fmla="*/ 411480 w 699840"/>
                <a:gd name="textAreaTop" fmla="*/ 383400 h 930960"/>
                <a:gd name="textAreaBottom" fmla="*/ 54756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97800" y="2801520"/>
            <a:ext cx="1728000" cy="1635840"/>
            <a:chOff x="397800" y="2801520"/>
            <a:chExt cx="1728000" cy="1635840"/>
          </a:xfrm>
        </p:grpSpPr>
        <p:sp>
          <p:nvSpPr>
            <p:cNvPr id="379" name=""/>
            <p:cNvSpPr/>
            <p:nvPr/>
          </p:nvSpPr>
          <p:spPr>
            <a:xfrm rot="2241600">
              <a:off x="539280" y="3141720"/>
              <a:ext cx="1444680" cy="955440"/>
            </a:xfrm>
            <a:custGeom>
              <a:avLst/>
              <a:gdLst>
                <a:gd name="textAreaLeft" fmla="*/ 595080 w 1444680"/>
                <a:gd name="textAreaRight" fmla="*/ 849600 w 144468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957400">
              <a:off x="539280" y="3199320"/>
              <a:ext cx="1405800" cy="866160"/>
            </a:xfrm>
            <a:custGeom>
              <a:avLst/>
              <a:gdLst>
                <a:gd name="textAreaLeft" fmla="*/ 579240 w 1405800"/>
                <a:gd name="textAreaRight" fmla="*/ 826560 w 1405800"/>
                <a:gd name="textAreaTop" fmla="*/ 356760 h 866160"/>
                <a:gd name="textAreaBottom" fmla="*/ 509400 h 86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411280" y="3284640"/>
            <a:ext cx="1886040" cy="2808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1428480" cy="17146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5651640" y="189000"/>
            <a:ext cx="2190600" cy="23032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164360" y="476280"/>
            <a:ext cx="1781280" cy="1871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5580000" y="386064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395280" y="4292640"/>
            <a:ext cx="1711440" cy="22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8"/>
          <a:stretch/>
        </p:blipFill>
        <p:spPr>
          <a:xfrm>
            <a:off x="3924360" y="1700280"/>
            <a:ext cx="26607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4613760" y="4038120"/>
            <a:ext cx="1215000" cy="1277280"/>
            <a:chOff x="4613760" y="4038120"/>
            <a:chExt cx="1215000" cy="1277280"/>
          </a:xfrm>
        </p:grpSpPr>
        <p:sp>
          <p:nvSpPr>
            <p:cNvPr id="513" name=""/>
            <p:cNvSpPr/>
            <p:nvPr/>
          </p:nvSpPr>
          <p:spPr>
            <a:xfrm rot="2241600">
              <a:off x="4858920" y="414936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0957400">
              <a:off x="4858920" y="421344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478840" y="2596680"/>
            <a:ext cx="1215000" cy="1277280"/>
            <a:chOff x="5478840" y="2596680"/>
            <a:chExt cx="1215000" cy="1277280"/>
          </a:xfrm>
        </p:grpSpPr>
        <p:sp>
          <p:nvSpPr>
            <p:cNvPr id="516" name=""/>
            <p:cNvSpPr/>
            <p:nvPr/>
          </p:nvSpPr>
          <p:spPr>
            <a:xfrm rot="2241600">
              <a:off x="5724000" y="270792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957400">
              <a:off x="5724000" y="277200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238840" y="1733040"/>
            <a:ext cx="1215000" cy="1277280"/>
            <a:chOff x="2238840" y="1733040"/>
            <a:chExt cx="1215000" cy="1277280"/>
          </a:xfrm>
        </p:grpSpPr>
        <p:sp>
          <p:nvSpPr>
            <p:cNvPr id="519" name=""/>
            <p:cNvSpPr/>
            <p:nvPr/>
          </p:nvSpPr>
          <p:spPr>
            <a:xfrm rot="2241600">
              <a:off x="2484000" y="1844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957400">
              <a:off x="2484000" y="1908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047200" y="5189040"/>
            <a:ext cx="1215000" cy="1277280"/>
            <a:chOff x="5047200" y="5189040"/>
            <a:chExt cx="1215000" cy="1277280"/>
          </a:xfrm>
        </p:grpSpPr>
        <p:sp>
          <p:nvSpPr>
            <p:cNvPr id="522" name=""/>
            <p:cNvSpPr/>
            <p:nvPr/>
          </p:nvSpPr>
          <p:spPr>
            <a:xfrm rot="2241600">
              <a:off x="5292360" y="5300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957400">
              <a:off x="5292360" y="5364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41480" cy="2808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6084720" y="4049640"/>
            <a:ext cx="1941840" cy="2808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2700360" y="4049640"/>
            <a:ext cx="1941480" cy="2808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6732720" y="189000"/>
            <a:ext cx="1941480" cy="28083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179280" y="4049640"/>
            <a:ext cx="1941480" cy="2808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6"/>
          <a:stretch/>
        </p:blipFill>
        <p:spPr>
          <a:xfrm>
            <a:off x="3419640" y="476280"/>
            <a:ext cx="1952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6990480" y="5333400"/>
            <a:ext cx="1214640" cy="1276920"/>
            <a:chOff x="6990480" y="5333400"/>
            <a:chExt cx="1214640" cy="1276920"/>
          </a:xfrm>
        </p:grpSpPr>
        <p:sp>
          <p:nvSpPr>
            <p:cNvPr id="531" name=""/>
            <p:cNvSpPr/>
            <p:nvPr/>
          </p:nvSpPr>
          <p:spPr>
            <a:xfrm rot="2241600">
              <a:off x="7235640" y="5444640"/>
              <a:ext cx="723600" cy="1054080"/>
            </a:xfrm>
            <a:custGeom>
              <a:avLst/>
              <a:gdLst>
                <a:gd name="textAreaLeft" fmla="*/ 298080 w 723600"/>
                <a:gd name="textAreaRight" fmla="*/ 425520 w 72360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957400">
              <a:off x="7235640" y="5508720"/>
              <a:ext cx="704160" cy="955440"/>
            </a:xfrm>
            <a:custGeom>
              <a:avLst/>
              <a:gdLst>
                <a:gd name="textAreaLeft" fmla="*/ 290160 w 704160"/>
                <a:gd name="textAreaRight" fmla="*/ 414000 w 70416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518120" y="5405040"/>
            <a:ext cx="1215000" cy="1277280"/>
            <a:chOff x="1518120" y="5405040"/>
            <a:chExt cx="1215000" cy="1277280"/>
          </a:xfrm>
        </p:grpSpPr>
        <p:sp>
          <p:nvSpPr>
            <p:cNvPr id="534" name=""/>
            <p:cNvSpPr/>
            <p:nvPr/>
          </p:nvSpPr>
          <p:spPr>
            <a:xfrm rot="2241600">
              <a:off x="1763280" y="5516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957400">
              <a:off x="1763280" y="5580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-66240" y="2380680"/>
            <a:ext cx="1215000" cy="1277280"/>
            <a:chOff x="-66240" y="2380680"/>
            <a:chExt cx="1215000" cy="1277280"/>
          </a:xfrm>
        </p:grpSpPr>
        <p:sp>
          <p:nvSpPr>
            <p:cNvPr id="537" name=""/>
            <p:cNvSpPr/>
            <p:nvPr/>
          </p:nvSpPr>
          <p:spPr>
            <a:xfrm rot="2241600">
              <a:off x="178920" y="249192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957400">
              <a:off x="178920" y="255600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198120" y="509040"/>
            <a:ext cx="1215000" cy="1277280"/>
            <a:chOff x="6198120" y="509040"/>
            <a:chExt cx="1215000" cy="1277280"/>
          </a:xfrm>
        </p:grpSpPr>
        <p:sp>
          <p:nvSpPr>
            <p:cNvPr id="540" name=""/>
            <p:cNvSpPr/>
            <p:nvPr/>
          </p:nvSpPr>
          <p:spPr>
            <a:xfrm rot="2241600">
              <a:off x="6443280" y="620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957400">
              <a:off x="6443280" y="684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94480" y="-111600"/>
            <a:ext cx="1215000" cy="1277280"/>
            <a:chOff x="2094480" y="-111600"/>
            <a:chExt cx="1215000" cy="1277280"/>
          </a:xfrm>
        </p:grpSpPr>
        <p:sp>
          <p:nvSpPr>
            <p:cNvPr id="543" name=""/>
            <p:cNvSpPr/>
            <p:nvPr/>
          </p:nvSpPr>
          <p:spPr>
            <a:xfrm rot="2241600">
              <a:off x="2339640" y="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957400">
              <a:off x="2339640" y="6372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3671640" cy="36720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2880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6990480" y="5333400"/>
            <a:ext cx="1214640" cy="1276920"/>
            <a:chOff x="6990480" y="5333400"/>
            <a:chExt cx="1214640" cy="1276920"/>
          </a:xfrm>
        </p:grpSpPr>
        <p:sp>
          <p:nvSpPr>
            <p:cNvPr id="548" name=""/>
            <p:cNvSpPr/>
            <p:nvPr/>
          </p:nvSpPr>
          <p:spPr>
            <a:xfrm rot="2241600">
              <a:off x="7235640" y="5444640"/>
              <a:ext cx="723600" cy="1054080"/>
            </a:xfrm>
            <a:custGeom>
              <a:avLst/>
              <a:gdLst>
                <a:gd name="textAreaLeft" fmla="*/ 298080 w 723600"/>
                <a:gd name="textAreaRight" fmla="*/ 425520 w 72360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957400">
              <a:off x="7235640" y="5508720"/>
              <a:ext cx="704160" cy="955440"/>
            </a:xfrm>
            <a:custGeom>
              <a:avLst/>
              <a:gdLst>
                <a:gd name="textAreaLeft" fmla="*/ 290160 w 704160"/>
                <a:gd name="textAreaRight" fmla="*/ 414000 w 70416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518120" y="5405040"/>
            <a:ext cx="1215000" cy="1277280"/>
            <a:chOff x="1518120" y="5405040"/>
            <a:chExt cx="1215000" cy="1277280"/>
          </a:xfrm>
        </p:grpSpPr>
        <p:sp>
          <p:nvSpPr>
            <p:cNvPr id="551" name=""/>
            <p:cNvSpPr/>
            <p:nvPr/>
          </p:nvSpPr>
          <p:spPr>
            <a:xfrm rot="2241600">
              <a:off x="1763280" y="5516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957400">
              <a:off x="1763280" y="5580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-66240" y="2380680"/>
            <a:ext cx="1215000" cy="1277280"/>
            <a:chOff x="-66240" y="2380680"/>
            <a:chExt cx="1215000" cy="1277280"/>
          </a:xfrm>
        </p:grpSpPr>
        <p:sp>
          <p:nvSpPr>
            <p:cNvPr id="554" name=""/>
            <p:cNvSpPr/>
            <p:nvPr/>
          </p:nvSpPr>
          <p:spPr>
            <a:xfrm rot="2241600">
              <a:off x="178920" y="249192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957400">
              <a:off x="178920" y="255600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198120" y="509040"/>
            <a:ext cx="1215000" cy="1277280"/>
            <a:chOff x="6198120" y="509040"/>
            <a:chExt cx="1215000" cy="1277280"/>
          </a:xfrm>
        </p:grpSpPr>
        <p:sp>
          <p:nvSpPr>
            <p:cNvPr id="557" name=""/>
            <p:cNvSpPr/>
            <p:nvPr/>
          </p:nvSpPr>
          <p:spPr>
            <a:xfrm rot="2241600">
              <a:off x="6443280" y="620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957400">
              <a:off x="6443280" y="684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094480" y="-111600"/>
            <a:ext cx="1215000" cy="1277280"/>
            <a:chOff x="2094480" y="-111600"/>
            <a:chExt cx="1215000" cy="1277280"/>
          </a:xfrm>
        </p:grpSpPr>
        <p:sp>
          <p:nvSpPr>
            <p:cNvPr id="560" name=""/>
            <p:cNvSpPr/>
            <p:nvPr/>
          </p:nvSpPr>
          <p:spPr>
            <a:xfrm rot="2241600">
              <a:off x="2339640" y="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957400">
              <a:off x="2339640" y="6372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761080" cy="57610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003560" y="2060640"/>
            <a:ext cx="2860920" cy="288108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2238840" y="3965040"/>
            <a:ext cx="1215000" cy="1277280"/>
            <a:chOff x="2238840" y="3965040"/>
            <a:chExt cx="1215000" cy="1277280"/>
          </a:xfrm>
        </p:grpSpPr>
        <p:sp>
          <p:nvSpPr>
            <p:cNvPr id="566" name=""/>
            <p:cNvSpPr/>
            <p:nvPr/>
          </p:nvSpPr>
          <p:spPr>
            <a:xfrm rot="2241600">
              <a:off x="2484000" y="4076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957400">
              <a:off x="2484000" y="4140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7279200" y="4757400"/>
            <a:ext cx="1215000" cy="1277280"/>
            <a:chOff x="7279200" y="4757400"/>
            <a:chExt cx="1215000" cy="1277280"/>
          </a:xfrm>
        </p:grpSpPr>
        <p:sp>
          <p:nvSpPr>
            <p:cNvPr id="569" name=""/>
            <p:cNvSpPr/>
            <p:nvPr/>
          </p:nvSpPr>
          <p:spPr>
            <a:xfrm rot="2241600">
              <a:off x="7524360" y="486864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957400">
              <a:off x="7524360" y="493272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206120" y="580680"/>
            <a:ext cx="1215000" cy="1277280"/>
            <a:chOff x="7206120" y="580680"/>
            <a:chExt cx="1215000" cy="1277280"/>
          </a:xfrm>
        </p:grpSpPr>
        <p:sp>
          <p:nvSpPr>
            <p:cNvPr id="572" name=""/>
            <p:cNvSpPr/>
            <p:nvPr/>
          </p:nvSpPr>
          <p:spPr>
            <a:xfrm rot="2241600">
              <a:off x="7451280" y="69192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957400">
              <a:off x="7451280" y="75600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965760" y="293040"/>
            <a:ext cx="1215360" cy="1277280"/>
            <a:chOff x="3965760" y="293040"/>
            <a:chExt cx="1215360" cy="1277280"/>
          </a:xfrm>
        </p:grpSpPr>
        <p:sp>
          <p:nvSpPr>
            <p:cNvPr id="575" name=""/>
            <p:cNvSpPr/>
            <p:nvPr/>
          </p:nvSpPr>
          <p:spPr>
            <a:xfrm rot="2241600">
              <a:off x="4211280" y="404280"/>
              <a:ext cx="723960" cy="105444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520 h 1054440"/>
                <a:gd name="textAreaBottom" fmla="*/ 619920 h 105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957400">
              <a:off x="4211280" y="468360"/>
              <a:ext cx="704520" cy="95580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840 h 955800"/>
                <a:gd name="textAreaBottom" fmla="*/ 561960 h 9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65760" y="1949040"/>
            <a:ext cx="1215000" cy="1277280"/>
            <a:chOff x="2165760" y="1949040"/>
            <a:chExt cx="1215000" cy="1277280"/>
          </a:xfrm>
        </p:grpSpPr>
        <p:sp>
          <p:nvSpPr>
            <p:cNvPr id="578" name=""/>
            <p:cNvSpPr/>
            <p:nvPr/>
          </p:nvSpPr>
          <p:spPr>
            <a:xfrm rot="2241600">
              <a:off x="2410920" y="2060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957400">
              <a:off x="2410920" y="2124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54480" y="4685760"/>
            <a:ext cx="1215000" cy="1277280"/>
            <a:chOff x="654480" y="4685760"/>
            <a:chExt cx="1215000" cy="1277280"/>
          </a:xfrm>
        </p:grpSpPr>
        <p:sp>
          <p:nvSpPr>
            <p:cNvPr id="581" name=""/>
            <p:cNvSpPr/>
            <p:nvPr/>
          </p:nvSpPr>
          <p:spPr>
            <a:xfrm rot="2241600">
              <a:off x="899640" y="479700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957400">
              <a:off x="899640" y="486108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086480" y="437760"/>
            <a:ext cx="1215000" cy="1277280"/>
            <a:chOff x="1086480" y="437760"/>
            <a:chExt cx="1215000" cy="1277280"/>
          </a:xfrm>
        </p:grpSpPr>
        <p:sp>
          <p:nvSpPr>
            <p:cNvPr id="584" name=""/>
            <p:cNvSpPr/>
            <p:nvPr/>
          </p:nvSpPr>
          <p:spPr>
            <a:xfrm rot="2241600">
              <a:off x="1331640" y="54900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957400">
              <a:off x="1331640" y="61308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13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4611960" y="-9360"/>
            <a:ext cx="1544040" cy="1566720"/>
            <a:chOff x="4611960" y="-9360"/>
            <a:chExt cx="1544040" cy="1566720"/>
          </a:xfrm>
        </p:grpSpPr>
        <p:sp>
          <p:nvSpPr>
            <p:cNvPr id="389" name=""/>
            <p:cNvSpPr/>
            <p:nvPr/>
          </p:nvSpPr>
          <p:spPr>
            <a:xfrm rot="2241600">
              <a:off x="4859280" y="189000"/>
              <a:ext cx="1049400" cy="1170000"/>
            </a:xfrm>
            <a:custGeom>
              <a:avLst/>
              <a:gdLst>
                <a:gd name="textAreaLeft" fmla="*/ 432360 w 1049400"/>
                <a:gd name="textAreaRight" fmla="*/ 617040 w 1049400"/>
                <a:gd name="textAreaTop" fmla="*/ 482040 h 1170000"/>
                <a:gd name="textAreaBottom" fmla="*/ 68796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0957400">
              <a:off x="4859280" y="259200"/>
              <a:ext cx="1021320" cy="1060560"/>
            </a:xfrm>
            <a:custGeom>
              <a:avLst/>
              <a:gdLst>
                <a:gd name="textAreaLeft" fmla="*/ 420840 w 1021320"/>
                <a:gd name="textAreaRight" fmla="*/ 600480 w 1021320"/>
                <a:gd name="textAreaTop" fmla="*/ 437040 h 1060560"/>
                <a:gd name="textAreaBottom" fmla="*/ 623520 h 10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571840" y="4659480"/>
            <a:ext cx="1701720" cy="1663200"/>
            <a:chOff x="2571840" y="4659480"/>
            <a:chExt cx="1701720" cy="1663200"/>
          </a:xfrm>
        </p:grpSpPr>
        <p:sp>
          <p:nvSpPr>
            <p:cNvPr id="392" name=""/>
            <p:cNvSpPr/>
            <p:nvPr/>
          </p:nvSpPr>
          <p:spPr>
            <a:xfrm rot="2241600">
              <a:off x="2771640" y="4941360"/>
              <a:ext cx="1301760" cy="1098720"/>
            </a:xfrm>
            <a:custGeom>
              <a:avLst/>
              <a:gdLst>
                <a:gd name="textAreaLeft" fmla="*/ 536400 w 1301760"/>
                <a:gd name="textAreaRight" fmla="*/ 765360 w 1301760"/>
                <a:gd name="textAreaTop" fmla="*/ 452520 h 1098720"/>
                <a:gd name="textAreaBottom" fmla="*/ 64620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957400">
              <a:off x="2771640" y="5007600"/>
              <a:ext cx="1266840" cy="995760"/>
            </a:xfrm>
            <a:custGeom>
              <a:avLst/>
              <a:gdLst>
                <a:gd name="textAreaLeft" fmla="*/ 522000 w 1266840"/>
                <a:gd name="textAreaRight" fmla="*/ 744840 w 1266840"/>
                <a:gd name="textAreaTop" fmla="*/ 410400 h 995760"/>
                <a:gd name="textAreaBottom" fmla="*/ 585360 h 99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235120" y="4141800"/>
            <a:ext cx="1486440" cy="1475280"/>
            <a:chOff x="5235120" y="4141800"/>
            <a:chExt cx="1486440" cy="1475280"/>
          </a:xfrm>
        </p:grpSpPr>
        <p:sp>
          <p:nvSpPr>
            <p:cNvPr id="395" name=""/>
            <p:cNvSpPr/>
            <p:nvPr/>
          </p:nvSpPr>
          <p:spPr>
            <a:xfrm rot="2241600">
              <a:off x="5435280" y="4365720"/>
              <a:ext cx="1085760" cy="1027080"/>
            </a:xfrm>
            <a:custGeom>
              <a:avLst/>
              <a:gdLst>
                <a:gd name="textAreaLeft" fmla="*/ 447480 w 1085760"/>
                <a:gd name="textAreaRight" fmla="*/ 638280 w 1085760"/>
                <a:gd name="textAreaTop" fmla="*/ 423000 h 1027080"/>
                <a:gd name="textAreaBottom" fmla="*/ 60408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957400">
              <a:off x="5435280" y="4427280"/>
              <a:ext cx="1056600" cy="930960"/>
            </a:xfrm>
            <a:custGeom>
              <a:avLst/>
              <a:gdLst>
                <a:gd name="textAreaLeft" fmla="*/ 435240 w 1056600"/>
                <a:gd name="textAreaRight" fmla="*/ 621360 w 1056600"/>
                <a:gd name="textAreaTop" fmla="*/ 383400 h 930960"/>
                <a:gd name="textAreaBottom" fmla="*/ 54756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02120" y="221760"/>
            <a:ext cx="1215000" cy="1277280"/>
            <a:chOff x="1302120" y="221760"/>
            <a:chExt cx="1215000" cy="1277280"/>
          </a:xfrm>
        </p:grpSpPr>
        <p:sp>
          <p:nvSpPr>
            <p:cNvPr id="398" name=""/>
            <p:cNvSpPr/>
            <p:nvPr/>
          </p:nvSpPr>
          <p:spPr>
            <a:xfrm rot="2241600">
              <a:off x="1547280" y="33300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957400">
              <a:off x="1547280" y="39708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00" name=""/>
          <p:cNvSpPr txBox="1"/>
          <p:nvPr/>
        </p:nvSpPr>
        <p:spPr>
          <a:xfrm>
            <a:off x="4427640" y="2565360"/>
            <a:ext cx="28144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01" name="Picture 4" descr="ра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95640" y="2276640"/>
            <a:ext cx="1946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92593E-006 C -0.00365 -0.01504 -0.00191 -0.00879 -0.00486 -0.01921 C -0.00764 -0.06226 -0.0066 -0.10532 -0.00313 -0.14837 C -0.00122 -0.24421 -0.02136 -0.23148 0.04201 -0.22569 C 0.04375 -0.22546 0.04531 -0.2243 0.04687 -0.22361 C 0.11927 -0.22499 0.18941 -0.23032 0.26128 -0.23449 C 0.28298 -0.24004 0.25486 -0.23333 0.30173 -0.23865 C 0.30503 -0.23912 0.31302 -0.24259 0.31302 -0.24722 E">
                                      <p:cBhvr>
                                        <p:cTn id="6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4611960" y="-9360"/>
            <a:ext cx="1544040" cy="1566720"/>
            <a:chOff x="4611960" y="-9360"/>
            <a:chExt cx="1544040" cy="1566720"/>
          </a:xfrm>
        </p:grpSpPr>
        <p:sp>
          <p:nvSpPr>
            <p:cNvPr id="403" name=""/>
            <p:cNvSpPr/>
            <p:nvPr/>
          </p:nvSpPr>
          <p:spPr>
            <a:xfrm rot="2241600">
              <a:off x="4859280" y="189000"/>
              <a:ext cx="1049400" cy="1170000"/>
            </a:xfrm>
            <a:custGeom>
              <a:avLst/>
              <a:gdLst>
                <a:gd name="textAreaLeft" fmla="*/ 432360 w 1049400"/>
                <a:gd name="textAreaRight" fmla="*/ 617040 w 1049400"/>
                <a:gd name="textAreaTop" fmla="*/ 482040 h 1170000"/>
                <a:gd name="textAreaBottom" fmla="*/ 68796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957400">
              <a:off x="4859280" y="259200"/>
              <a:ext cx="1021320" cy="1060560"/>
            </a:xfrm>
            <a:custGeom>
              <a:avLst/>
              <a:gdLst>
                <a:gd name="textAreaLeft" fmla="*/ 420840 w 1021320"/>
                <a:gd name="textAreaRight" fmla="*/ 600480 w 1021320"/>
                <a:gd name="textAreaTop" fmla="*/ 437040 h 1060560"/>
                <a:gd name="textAreaBottom" fmla="*/ 623520 h 10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71840" y="4659480"/>
            <a:ext cx="1701720" cy="1663200"/>
            <a:chOff x="2571840" y="4659480"/>
            <a:chExt cx="1701720" cy="1663200"/>
          </a:xfrm>
        </p:grpSpPr>
        <p:sp>
          <p:nvSpPr>
            <p:cNvPr id="406" name=""/>
            <p:cNvSpPr/>
            <p:nvPr/>
          </p:nvSpPr>
          <p:spPr>
            <a:xfrm rot="2241600">
              <a:off x="2771640" y="4941360"/>
              <a:ext cx="1301760" cy="1098720"/>
            </a:xfrm>
            <a:custGeom>
              <a:avLst/>
              <a:gdLst>
                <a:gd name="textAreaLeft" fmla="*/ 536400 w 1301760"/>
                <a:gd name="textAreaRight" fmla="*/ 765360 w 1301760"/>
                <a:gd name="textAreaTop" fmla="*/ 452520 h 1098720"/>
                <a:gd name="textAreaBottom" fmla="*/ 64620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20957400">
              <a:off x="2771640" y="5007600"/>
              <a:ext cx="1266840" cy="995760"/>
            </a:xfrm>
            <a:custGeom>
              <a:avLst/>
              <a:gdLst>
                <a:gd name="textAreaLeft" fmla="*/ 522000 w 1266840"/>
                <a:gd name="textAreaRight" fmla="*/ 744840 w 1266840"/>
                <a:gd name="textAreaTop" fmla="*/ 410400 h 995760"/>
                <a:gd name="textAreaBottom" fmla="*/ 585360 h 99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235120" y="4141800"/>
            <a:ext cx="1486440" cy="1475280"/>
            <a:chOff x="5235120" y="4141800"/>
            <a:chExt cx="1486440" cy="1475280"/>
          </a:xfrm>
        </p:grpSpPr>
        <p:sp>
          <p:nvSpPr>
            <p:cNvPr id="409" name=""/>
            <p:cNvSpPr/>
            <p:nvPr/>
          </p:nvSpPr>
          <p:spPr>
            <a:xfrm rot="2241600">
              <a:off x="5435280" y="4365720"/>
              <a:ext cx="1085760" cy="1027080"/>
            </a:xfrm>
            <a:custGeom>
              <a:avLst/>
              <a:gdLst>
                <a:gd name="textAreaLeft" fmla="*/ 447480 w 1085760"/>
                <a:gd name="textAreaRight" fmla="*/ 638280 w 1085760"/>
                <a:gd name="textAreaTop" fmla="*/ 423000 h 1027080"/>
                <a:gd name="textAreaBottom" fmla="*/ 60408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957400">
              <a:off x="5435280" y="4427280"/>
              <a:ext cx="1056600" cy="930960"/>
            </a:xfrm>
            <a:custGeom>
              <a:avLst/>
              <a:gdLst>
                <a:gd name="textAreaLeft" fmla="*/ 435240 w 1056600"/>
                <a:gd name="textAreaRight" fmla="*/ 621360 w 1056600"/>
                <a:gd name="textAreaTop" fmla="*/ 383400 h 930960"/>
                <a:gd name="textAreaBottom" fmla="*/ 54756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302120" y="221760"/>
            <a:ext cx="1215000" cy="1277280"/>
            <a:chOff x="1302120" y="221760"/>
            <a:chExt cx="1215000" cy="1277280"/>
          </a:xfrm>
        </p:grpSpPr>
        <p:sp>
          <p:nvSpPr>
            <p:cNvPr id="412" name=""/>
            <p:cNvSpPr/>
            <p:nvPr/>
          </p:nvSpPr>
          <p:spPr>
            <a:xfrm rot="2241600">
              <a:off x="1547280" y="33300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0957400">
              <a:off x="1547280" y="39708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4427640" y="2565360"/>
            <a:ext cx="28144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79640" y="2492280"/>
            <a:ext cx="2171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395280" y="0"/>
            <a:ext cx="4573440" cy="31719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6990480" y="5333400"/>
            <a:ext cx="1214640" cy="1276920"/>
            <a:chOff x="6990480" y="5333400"/>
            <a:chExt cx="1214640" cy="1276920"/>
          </a:xfrm>
        </p:grpSpPr>
        <p:sp>
          <p:nvSpPr>
            <p:cNvPr id="419" name=""/>
            <p:cNvSpPr/>
            <p:nvPr/>
          </p:nvSpPr>
          <p:spPr>
            <a:xfrm rot="2241600">
              <a:off x="7235640" y="5444640"/>
              <a:ext cx="723600" cy="1054080"/>
            </a:xfrm>
            <a:custGeom>
              <a:avLst/>
              <a:gdLst>
                <a:gd name="textAreaLeft" fmla="*/ 298080 w 723600"/>
                <a:gd name="textAreaRight" fmla="*/ 425520 w 72360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0957400">
              <a:off x="7235640" y="5508720"/>
              <a:ext cx="704160" cy="955440"/>
            </a:xfrm>
            <a:custGeom>
              <a:avLst/>
              <a:gdLst>
                <a:gd name="textAreaLeft" fmla="*/ 290160 w 704160"/>
                <a:gd name="textAreaRight" fmla="*/ 414000 w 70416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518120" y="5405040"/>
            <a:ext cx="1215000" cy="1277280"/>
            <a:chOff x="1518120" y="5405040"/>
            <a:chExt cx="1215000" cy="1277280"/>
          </a:xfrm>
        </p:grpSpPr>
        <p:sp>
          <p:nvSpPr>
            <p:cNvPr id="422" name=""/>
            <p:cNvSpPr/>
            <p:nvPr/>
          </p:nvSpPr>
          <p:spPr>
            <a:xfrm rot="2241600">
              <a:off x="1763280" y="5516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957400">
              <a:off x="1763280" y="5580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-66240" y="2380680"/>
            <a:ext cx="1215000" cy="1277280"/>
            <a:chOff x="-66240" y="2380680"/>
            <a:chExt cx="1215000" cy="1277280"/>
          </a:xfrm>
        </p:grpSpPr>
        <p:sp>
          <p:nvSpPr>
            <p:cNvPr id="425" name=""/>
            <p:cNvSpPr/>
            <p:nvPr/>
          </p:nvSpPr>
          <p:spPr>
            <a:xfrm rot="2241600">
              <a:off x="178920" y="249192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0957400">
              <a:off x="178920" y="255600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198120" y="509040"/>
            <a:ext cx="1215000" cy="1277280"/>
            <a:chOff x="6198120" y="509040"/>
            <a:chExt cx="1215000" cy="1277280"/>
          </a:xfrm>
        </p:grpSpPr>
        <p:sp>
          <p:nvSpPr>
            <p:cNvPr id="428" name=""/>
            <p:cNvSpPr/>
            <p:nvPr/>
          </p:nvSpPr>
          <p:spPr>
            <a:xfrm rot="2241600">
              <a:off x="6443280" y="620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20957400">
              <a:off x="6443280" y="684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094480" y="-111600"/>
            <a:ext cx="1215000" cy="1277280"/>
            <a:chOff x="2094480" y="-111600"/>
            <a:chExt cx="1215000" cy="1277280"/>
          </a:xfrm>
        </p:grpSpPr>
        <p:sp>
          <p:nvSpPr>
            <p:cNvPr id="431" name=""/>
            <p:cNvSpPr/>
            <p:nvPr/>
          </p:nvSpPr>
          <p:spPr>
            <a:xfrm rot="2241600">
              <a:off x="2339640" y="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0957400">
              <a:off x="2339640" y="6372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3671640" cy="3672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2880000" cy="40338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2987640" y="189000"/>
            <a:ext cx="48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смические вой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7206120" y="941040"/>
            <a:ext cx="1215000" cy="1277280"/>
            <a:chOff x="7206120" y="941040"/>
            <a:chExt cx="1215000" cy="1277280"/>
          </a:xfrm>
        </p:grpSpPr>
        <p:sp>
          <p:nvSpPr>
            <p:cNvPr id="437" name=""/>
            <p:cNvSpPr/>
            <p:nvPr/>
          </p:nvSpPr>
          <p:spPr>
            <a:xfrm rot="2241600">
              <a:off x="7451280" y="1052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957400">
              <a:off x="7451280" y="1116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686480" y="3749040"/>
            <a:ext cx="1215360" cy="1277280"/>
            <a:chOff x="4686480" y="3749040"/>
            <a:chExt cx="1215360" cy="1277280"/>
          </a:xfrm>
        </p:grpSpPr>
        <p:sp>
          <p:nvSpPr>
            <p:cNvPr id="440" name=""/>
            <p:cNvSpPr/>
            <p:nvPr/>
          </p:nvSpPr>
          <p:spPr>
            <a:xfrm rot="2241600">
              <a:off x="4932000" y="3860280"/>
              <a:ext cx="723960" cy="105444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520 h 1054440"/>
                <a:gd name="textAreaBottom" fmla="*/ 619920 h 105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0957400">
              <a:off x="4932000" y="3924360"/>
              <a:ext cx="704520" cy="95580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840 h 955800"/>
                <a:gd name="textAreaBottom" fmla="*/ 561960 h 9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839200" y="77400"/>
            <a:ext cx="1215000" cy="1277280"/>
            <a:chOff x="5839200" y="77400"/>
            <a:chExt cx="1215000" cy="1277280"/>
          </a:xfrm>
        </p:grpSpPr>
        <p:sp>
          <p:nvSpPr>
            <p:cNvPr id="443" name=""/>
            <p:cNvSpPr/>
            <p:nvPr/>
          </p:nvSpPr>
          <p:spPr>
            <a:xfrm rot="2241600">
              <a:off x="6084360" y="18864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0957400">
              <a:off x="6084360" y="25272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734120" y="2741040"/>
            <a:ext cx="1215000" cy="1277280"/>
            <a:chOff x="1734120" y="2741040"/>
            <a:chExt cx="1215000" cy="1277280"/>
          </a:xfrm>
        </p:grpSpPr>
        <p:sp>
          <p:nvSpPr>
            <p:cNvPr id="446" name=""/>
            <p:cNvSpPr/>
            <p:nvPr/>
          </p:nvSpPr>
          <p:spPr>
            <a:xfrm rot="2241600">
              <a:off x="1979280" y="2852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20957400">
              <a:off x="1979280" y="2916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801800" cy="2664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04000" y="549360"/>
            <a:ext cx="1801800" cy="26636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2916360" y="3933720"/>
            <a:ext cx="1801800" cy="26640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1801800" cy="266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6443640" y="3860640"/>
            <a:ext cx="18018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3462840" y="4254120"/>
            <a:ext cx="1215000" cy="1277280"/>
            <a:chOff x="3462840" y="4254120"/>
            <a:chExt cx="1215000" cy="1277280"/>
          </a:xfrm>
        </p:grpSpPr>
        <p:sp>
          <p:nvSpPr>
            <p:cNvPr id="454" name=""/>
            <p:cNvSpPr/>
            <p:nvPr/>
          </p:nvSpPr>
          <p:spPr>
            <a:xfrm rot="2241600">
              <a:off x="3708000" y="436536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0957400">
              <a:off x="3708000" y="442944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2824200" y="333360"/>
            <a:ext cx="2467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7206120" y="941040"/>
            <a:ext cx="1215000" cy="1277280"/>
            <a:chOff x="7206120" y="941040"/>
            <a:chExt cx="1215000" cy="1277280"/>
          </a:xfrm>
        </p:grpSpPr>
        <p:sp>
          <p:nvSpPr>
            <p:cNvPr id="458" name=""/>
            <p:cNvSpPr/>
            <p:nvPr/>
          </p:nvSpPr>
          <p:spPr>
            <a:xfrm rot="2241600">
              <a:off x="7451280" y="1052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20957400">
              <a:off x="7451280" y="1116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734120" y="-111600"/>
            <a:ext cx="1215000" cy="1277280"/>
            <a:chOff x="1734120" y="-111600"/>
            <a:chExt cx="1215000" cy="1277280"/>
          </a:xfrm>
        </p:grpSpPr>
        <p:sp>
          <p:nvSpPr>
            <p:cNvPr id="461" name=""/>
            <p:cNvSpPr/>
            <p:nvPr/>
          </p:nvSpPr>
          <p:spPr>
            <a:xfrm rot="2241600">
              <a:off x="1979280" y="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0957400">
              <a:off x="1979280" y="6372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839200" y="77400"/>
            <a:ext cx="1215000" cy="1277280"/>
            <a:chOff x="5839200" y="77400"/>
            <a:chExt cx="1215000" cy="1277280"/>
          </a:xfrm>
        </p:grpSpPr>
        <p:sp>
          <p:nvSpPr>
            <p:cNvPr id="464" name=""/>
            <p:cNvSpPr/>
            <p:nvPr/>
          </p:nvSpPr>
          <p:spPr>
            <a:xfrm rot="2241600">
              <a:off x="6084360" y="18864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20957400">
              <a:off x="6084360" y="25272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918840" y="5117760"/>
            <a:ext cx="1215000" cy="1277280"/>
            <a:chOff x="6918840" y="5117760"/>
            <a:chExt cx="1215000" cy="1277280"/>
          </a:xfrm>
        </p:grpSpPr>
        <p:sp>
          <p:nvSpPr>
            <p:cNvPr id="467" name=""/>
            <p:cNvSpPr/>
            <p:nvPr/>
          </p:nvSpPr>
          <p:spPr>
            <a:xfrm rot="2241600">
              <a:off x="7164000" y="522900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0957400">
              <a:off x="7164000" y="529308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1806480" cy="2590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1806840" cy="25909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3780000" y="4076640"/>
            <a:ext cx="1806480" cy="2590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95280" y="549360"/>
            <a:ext cx="1806480" cy="25905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5940360" y="981000"/>
            <a:ext cx="1806480" cy="25909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0" y="3068640"/>
            <a:ext cx="291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-Артиллери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2916360" y="404640"/>
            <a:ext cx="23446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597760" y="1804680"/>
            <a:ext cx="1215000" cy="1277280"/>
            <a:chOff x="2597760" y="1804680"/>
            <a:chExt cx="1215000" cy="1277280"/>
          </a:xfrm>
        </p:grpSpPr>
        <p:sp>
          <p:nvSpPr>
            <p:cNvPr id="477" name=""/>
            <p:cNvSpPr/>
            <p:nvPr/>
          </p:nvSpPr>
          <p:spPr>
            <a:xfrm rot="2241600">
              <a:off x="2842920" y="191592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957400">
              <a:off x="2842920" y="198000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022840" y="3822120"/>
            <a:ext cx="1215000" cy="1277280"/>
            <a:chOff x="2022840" y="3822120"/>
            <a:chExt cx="1215000" cy="1277280"/>
          </a:xfrm>
        </p:grpSpPr>
        <p:sp>
          <p:nvSpPr>
            <p:cNvPr id="480" name=""/>
            <p:cNvSpPr/>
            <p:nvPr/>
          </p:nvSpPr>
          <p:spPr>
            <a:xfrm rot="2241600">
              <a:off x="2268000" y="393336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957400">
              <a:off x="2268000" y="399744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334480" y="4181040"/>
            <a:ext cx="1215000" cy="1277280"/>
            <a:chOff x="5334480" y="4181040"/>
            <a:chExt cx="1215000" cy="1277280"/>
          </a:xfrm>
        </p:grpSpPr>
        <p:sp>
          <p:nvSpPr>
            <p:cNvPr id="483" name=""/>
            <p:cNvSpPr/>
            <p:nvPr/>
          </p:nvSpPr>
          <p:spPr>
            <a:xfrm rot="2241600">
              <a:off x="5579640" y="4292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0957400">
              <a:off x="5579640" y="4356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78480" y="2453760"/>
            <a:ext cx="1214640" cy="1276920"/>
            <a:chOff x="78480" y="2453760"/>
            <a:chExt cx="1214640" cy="1276920"/>
          </a:xfrm>
        </p:grpSpPr>
        <p:sp>
          <p:nvSpPr>
            <p:cNvPr id="486" name=""/>
            <p:cNvSpPr/>
            <p:nvPr/>
          </p:nvSpPr>
          <p:spPr>
            <a:xfrm rot="2241600">
              <a:off x="323640" y="2565000"/>
              <a:ext cx="723600" cy="1054080"/>
            </a:xfrm>
            <a:custGeom>
              <a:avLst/>
              <a:gdLst>
                <a:gd name="textAreaLeft" fmla="*/ 298080 w 723600"/>
                <a:gd name="textAreaRight" fmla="*/ 425520 w 72360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957400">
              <a:off x="323640" y="2629080"/>
              <a:ext cx="704160" cy="955440"/>
            </a:xfrm>
            <a:custGeom>
              <a:avLst/>
              <a:gdLst>
                <a:gd name="textAreaLeft" fmla="*/ 290160 w 704160"/>
                <a:gd name="textAreaRight" fmla="*/ 414000 w 70416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946160" cy="28306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6516720" y="476280"/>
            <a:ext cx="1946160" cy="28303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3492360" y="3716280"/>
            <a:ext cx="1946520" cy="28306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6659640" y="3645000"/>
            <a:ext cx="1946160" cy="2830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5"/>
          <a:stretch/>
        </p:blipFill>
        <p:spPr>
          <a:xfrm>
            <a:off x="250920" y="3716280"/>
            <a:ext cx="1946160" cy="28306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6"/>
          <a:stretch/>
        </p:blipFill>
        <p:spPr>
          <a:xfrm>
            <a:off x="3348000" y="260280"/>
            <a:ext cx="18511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1878480" y="4397040"/>
            <a:ext cx="1215000" cy="1277280"/>
            <a:chOff x="1878480" y="4397040"/>
            <a:chExt cx="1215000" cy="1277280"/>
          </a:xfrm>
        </p:grpSpPr>
        <p:sp>
          <p:nvSpPr>
            <p:cNvPr id="495" name=""/>
            <p:cNvSpPr/>
            <p:nvPr/>
          </p:nvSpPr>
          <p:spPr>
            <a:xfrm rot="2241600">
              <a:off x="2123640" y="4508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20957400">
              <a:off x="2123640" y="4572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702840" y="2741040"/>
            <a:ext cx="1215000" cy="1277280"/>
            <a:chOff x="6702840" y="2741040"/>
            <a:chExt cx="1215000" cy="1277280"/>
          </a:xfrm>
        </p:grpSpPr>
        <p:sp>
          <p:nvSpPr>
            <p:cNvPr id="498" name=""/>
            <p:cNvSpPr/>
            <p:nvPr/>
          </p:nvSpPr>
          <p:spPr>
            <a:xfrm rot="2241600">
              <a:off x="6948000" y="285228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0957400">
              <a:off x="6948000" y="291636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262840" y="4830120"/>
            <a:ext cx="1215360" cy="1277280"/>
            <a:chOff x="5262840" y="4830120"/>
            <a:chExt cx="1215360" cy="1277280"/>
          </a:xfrm>
        </p:grpSpPr>
        <p:sp>
          <p:nvSpPr>
            <p:cNvPr id="501" name=""/>
            <p:cNvSpPr/>
            <p:nvPr/>
          </p:nvSpPr>
          <p:spPr>
            <a:xfrm rot="2241600">
              <a:off x="5508360" y="4941360"/>
              <a:ext cx="723960" cy="105444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520 h 1054440"/>
                <a:gd name="textAreaBottom" fmla="*/ 619920 h 105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0957400">
              <a:off x="5508360" y="5005440"/>
              <a:ext cx="704520" cy="95580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840 h 955800"/>
                <a:gd name="textAreaBottom" fmla="*/ 561960 h 9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97400" y="2812680"/>
            <a:ext cx="1215000" cy="1277280"/>
            <a:chOff x="797400" y="2812680"/>
            <a:chExt cx="1215000" cy="1277280"/>
          </a:xfrm>
        </p:grpSpPr>
        <p:sp>
          <p:nvSpPr>
            <p:cNvPr id="504" name=""/>
            <p:cNvSpPr/>
            <p:nvPr/>
          </p:nvSpPr>
          <p:spPr>
            <a:xfrm rot="2241600">
              <a:off x="1042560" y="2923920"/>
              <a:ext cx="723960" cy="1054080"/>
            </a:xfrm>
            <a:custGeom>
              <a:avLst/>
              <a:gdLst>
                <a:gd name="textAreaLeft" fmla="*/ 298440 w 723960"/>
                <a:gd name="textAreaRight" fmla="*/ 425520 w 723960"/>
                <a:gd name="textAreaTop" fmla="*/ 434160 h 1054080"/>
                <a:gd name="textAreaBottom" fmla="*/ 6199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20957400">
              <a:off x="1042560" y="2988000"/>
              <a:ext cx="704520" cy="955440"/>
            </a:xfrm>
            <a:custGeom>
              <a:avLst/>
              <a:gdLst>
                <a:gd name="textAreaLeft" fmla="*/ 290160 w 704520"/>
                <a:gd name="textAreaRight" fmla="*/ 414360 w 704520"/>
                <a:gd name="textAreaTop" fmla="*/ 393480 h 955440"/>
                <a:gd name="textAreaBottom" fmla="*/ 5619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059280" y="3716280"/>
            <a:ext cx="1996920" cy="28339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1996920" cy="28335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6443640" y="3716280"/>
            <a:ext cx="1996920" cy="2833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996920" cy="28339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6804000" y="260280"/>
            <a:ext cx="1997280" cy="2833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3492360" y="333360"/>
            <a:ext cx="2005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5:59:20Z</dcterms:created>
  <dc:creator>Марина</dc:creator>
  <dc:description/>
  <dc:language>en-US</dc:language>
  <cp:lastModifiedBy>Owner</cp:lastModifiedBy>
  <dcterms:modified xsi:type="dcterms:W3CDTF">2012-02-21T16:26:25Z</dcterms:modified>
  <cp:revision>9</cp:revision>
  <dc:subject/>
  <dc:title>Слайд 1</dc:title>
</cp:coreProperties>
</file>