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548-1ADE-49BC-9782-9A74F549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7D5-160E-4A38-9ABF-7EB9BBD3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813-5580-4AC8-A516-91601D7B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998-6BCE-4475-A60E-3E57BC61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41EC-E24A-483D-9FFF-67F2710F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09CA-C728-493F-A8A0-B28139A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B41B-F54D-4897-9942-B9FCDC2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079D-8629-4621-A0EF-5959EFF3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31C-10E8-47D9-86B3-7D132B5A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E6D0-6FA7-4DB2-9D99-81F26D1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FB9-893B-470B-B30A-BEF5224B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A23-CAF4-4F8F-81C5-729A2614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27D9-10D8-459F-949C-A4E6F0B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96C5-12F7-4EE6-82E8-2278EDB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2D9-6B1B-4E11-AB26-8C14F53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F004-A745-451B-8AC2-64299750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1AF8-A436-4B04-9E3D-23508B88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2B9-D78C-49CF-BEF7-DB554213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E29-78A0-4D7C-92A7-E0C0BFA6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B4D-E1D1-420F-8195-CFE9D5F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8ED-0BF9-4432-B259-27D26C9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E3D-833E-4F74-9639-AD1BEBF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D37-80BE-4175-92D9-BD6552F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F3E-58A3-4952-AC17-1BBB42B9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138-01FA-4EE9-BE12-612A09147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619-DB23-4A81-971C-239C3520D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Темазы: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Де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ң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нелгени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ң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тайылбыр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домаа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Шуурмак ортумак школазынын тыва дыл болгаш чогаал башкызы Сагаан Сайзуу Дарган-ооловна 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тургускан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Шуурмак - 2009 чыл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чалза-да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)-даа болза,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чалз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) -болза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484000" y="1916280"/>
            <a:ext cx="453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91628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87640" y="3141720"/>
            <a:ext cx="36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3141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жыглаан литератур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.      Алдын-оол Х.С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ва дыл методиказы. – Кызыл: Тываның ном үңдүрер чери, 1972. – 126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2.    Биче-оол М.Д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ва чугаа культуразы. – Кызыл: Тываның ном үңдүрер чери, 1974. – 106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.   Биче-оол М.Д., Монгуш Д.А., Бавуу-Сюрюн М.В., Ойдан-оол А.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ва дыл. 8-9 класстарга. – Кызыл: Тываның ном үңдүрер чери, 2001. – 237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4.  Март-оол К.Б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5-9 класстарга тыва дылды башкылаарының методиказы. - Кызыл: Тываның ном үңдүрер чери , 2002. – 271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5.   Оргу К.Х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ва дылды ортумак школага башкылаарының методиказы. - Кызыл: Тываның ном үңдүрер чери, 1968. – 185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  Тыва дылдың орфографтыг словары. – Кызыл: Тываның ном үңдүрер чери, 1967. – 445 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ЛУУ-БИЛЕ ЧЕТТИРДИМ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пчуз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нелгениң тайылбыр дома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бажыр арга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жик демдээн салы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тиг онаалг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жыглаан литерату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л домакта кылдыныгны тайылбыр домакта кылдыныг-биле д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п к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рг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ү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зер, 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</a:rPr>
              <a:t>канчалдыр? канчаар?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деп айтырыгларга харыылаттынар домакты 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</a:rPr>
              <a:t>де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ң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</a:rPr>
              <a:t>нелгени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ң</a:t>
            </a:r>
            <a:r>
              <a:rPr b="1" i="1" lang="ru-RU" sz="4800" spc="-1" strike="noStrike">
                <a:solidFill>
                  <a:srgbClr val="ff9900"/>
                </a:solidFill>
                <a:latin typeface="Times New Roman"/>
              </a:rPr>
              <a:t> тайылбыр домаа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дээр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олбажыр аргалары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ru-RU" sz="5400" spc="-1" strike="noStrike">
                <a:solidFill>
                  <a:srgbClr val="b76a03"/>
                </a:solidFill>
                <a:latin typeface="Times New Roman"/>
              </a:rPr>
              <a:t>дег, ышкаш, ч</a:t>
            </a:r>
            <a:r>
              <a:rPr b="1" i="1" lang="ru-RU" sz="5400" spc="-1" strike="noStrike">
                <a:solidFill>
                  <a:srgbClr val="b76a03"/>
                </a:solidFill>
                <a:latin typeface="Times New Roman"/>
                <a:ea typeface="Times New Roman"/>
              </a:rPr>
              <a:t>ү</a:t>
            </a:r>
            <a:r>
              <a:rPr b="1" i="1" lang="ru-RU" sz="5400" spc="-1" strike="noStrike">
                <a:solidFill>
                  <a:srgbClr val="b76a03"/>
                </a:solidFill>
                <a:latin typeface="Times New Roman"/>
              </a:rPr>
              <a:t>ве дег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деп артынчылар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ru-RU" sz="5400" spc="-1" strike="noStrike">
                <a:solidFill>
                  <a:srgbClr val="bb5f03"/>
                </a:solidFill>
                <a:latin typeface="Times New Roman"/>
              </a:rPr>
              <a:t>-зыг</a:t>
            </a:r>
            <a:r>
              <a:rPr b="1" i="1" lang="en-US" sz="5400" spc="-1" strike="noStrike">
                <a:solidFill>
                  <a:srgbClr val="bb5f03"/>
                </a:solidFill>
                <a:latin typeface="Times New Roman"/>
                <a:ea typeface="Arial"/>
              </a:rPr>
              <a:t>/</a:t>
            </a:r>
            <a:r>
              <a:rPr b="1" i="1" lang="ru-RU" sz="5400" spc="-1" strike="noStrike">
                <a:solidFill>
                  <a:srgbClr val="bb5f03"/>
                </a:solidFill>
                <a:latin typeface="Times New Roman"/>
              </a:rPr>
              <a:t>-зиг, -сыг</a:t>
            </a:r>
            <a:r>
              <a:rPr b="1" i="1" lang="en-US" sz="5400" spc="-1" strike="noStrike">
                <a:solidFill>
                  <a:srgbClr val="bb5f03"/>
                </a:solidFill>
                <a:latin typeface="Times New Roman"/>
                <a:ea typeface="Arial"/>
              </a:rPr>
              <a:t>/</a:t>
            </a:r>
            <a:r>
              <a:rPr b="1" i="1" lang="ru-RU" sz="5400" spc="-1" strike="noStrike">
                <a:solidFill>
                  <a:srgbClr val="bb5f03"/>
                </a:solidFill>
                <a:latin typeface="Times New Roman"/>
              </a:rPr>
              <a:t>-сиг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деп кожумактар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лгени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тайылбыр домаан кол домактан </a:t>
            </a:r>
            <a:r>
              <a:rPr b="0" i="1" lang="ru-RU" sz="4800" spc="-1" strike="noStrike">
                <a:solidFill>
                  <a:srgbClr val="ff9933"/>
                </a:solidFill>
                <a:latin typeface="Times New Roman"/>
              </a:rPr>
              <a:t>биче сек-би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а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ылаар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Иезин эмген ч</a:t>
            </a:r>
            <a:r>
              <a:rPr b="0" i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ү</a:t>
            </a: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ве ышкаш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хураган эмискикти шашкылап-шашкылап, соруп турган.</a:t>
            </a: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ла эник, </a:t>
            </a: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оюн эрээн ч</a:t>
            </a:r>
            <a:r>
              <a:rPr b="0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ү</a:t>
            </a: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ве дег,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оолду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тонуну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эдээн ызыргылаан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хемаларга домактар чогааткаш, тайылбыр домактарны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хевирлерин тодарадыр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uva New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? кандыг чылдагаан-бил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) болгаш,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ү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? кандыг сорулга-бил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) дээш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10920" y="1844640"/>
            <a:ext cx="45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916360" y="450864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450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14:06Z</dcterms:created>
  <dc:creator>Барс</dc:creator>
  <dc:description/>
  <dc:language>en-US</dc:language>
  <cp:lastModifiedBy>oem</cp:lastModifiedBy>
  <dcterms:modified xsi:type="dcterms:W3CDTF">2009-10-30T01:27:19Z</dcterms:modified>
  <cp:revision>20</cp:revision>
  <dc:subject/>
  <dc:title>Деёнелгениё тайылбыр домаа</dc:title>
</cp:coreProperties>
</file>