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19.png" ContentType="image/png"/>
  <Override PartName="/ppt/media/image26.gif" ContentType="image/gif"/>
  <Override PartName="/ppt/media/image21.jpeg" ContentType="image/jpeg"/>
  <Override PartName="/ppt/media/image29.png" ContentType="image/png"/>
  <Override PartName="/ppt/media/image17.gif" ContentType="image/gif"/>
  <Override PartName="/ppt/media/image20.png" ContentType="image/png"/>
  <Override PartName="/ppt/media/image36.jpeg" ContentType="image/jpeg"/>
  <Override PartName="/ppt/media/image15.gif" ContentType="image/gif"/>
  <Override PartName="/ppt/media/image22.gif" ContentType="image/gif"/>
  <Override PartName="/ppt/media/image18.jpeg" ContentType="image/jpeg"/>
  <Override PartName="/ppt/media/image2.png" ContentType="image/png"/>
  <Override PartName="/ppt/media/image32.png" ContentType="image/png"/>
  <Override PartName="/ppt/media/image23.gif" ContentType="image/gif"/>
  <Override PartName="/ppt/media/image16.png" ContentType="image/png"/>
  <Override PartName="/ppt/media/image12.gif" ContentType="image/gif"/>
  <Override PartName="/ppt/media/image14.png" ContentType="image/png"/>
  <Override PartName="/ppt/media/image11.gif" ContentType="image/gif"/>
  <Override PartName="/ppt/media/image13.gif" ContentType="image/gif"/>
  <Override PartName="/ppt/media/image37.gif" ContentType="image/gif"/>
  <Override PartName="/ppt/media/image42.png" ContentType="image/png"/>
  <Override PartName="/ppt/media/image9.gif" ContentType="image/gif"/>
  <Override PartName="/ppt/media/image35.wmf" ContentType="image/x-wmf"/>
  <Override PartName="/ppt/media/image39.gif" ContentType="image/gif"/>
  <Override PartName="/ppt/media/image30.png" ContentType="image/png"/>
  <Override PartName="/ppt/media/image31.png" ContentType="image/png"/>
  <Override PartName="/ppt/media/image6.png" ContentType="image/png"/>
  <Override PartName="/ppt/media/image43.png" ContentType="image/png"/>
  <Override PartName="/ppt/media/image45.gif" ContentType="image/gif"/>
  <Override PartName="/ppt/media/image10.gif" ContentType="image/gif"/>
  <Override PartName="/ppt/media/image38.gif" ContentType="image/gif"/>
  <Override PartName="/ppt/media/image8.gif" ContentType="image/gif"/>
  <Override PartName="/ppt/media/image44.gif" ContentType="image/gif"/>
  <Override PartName="/ppt/media/image7.png" ContentType="image/png"/>
  <Override PartName="/ppt/media/image1.jpeg" ContentType="image/jpeg"/>
  <Override PartName="/ppt/media/image27.gif" ContentType="image/gif"/>
  <Override PartName="/ppt/media/image5.gif" ContentType="image/gif"/>
  <Override PartName="/ppt/media/image28.gif" ContentType="image/gif"/>
  <Override PartName="/ppt/media/image3.png" ContentType="image/png"/>
  <Override PartName="/ppt/media/image40.gif" ContentType="image/gif"/>
  <Override PartName="/ppt/media/image33.png" ContentType="image/png"/>
  <Override PartName="/ppt/media/image41.gif" ContentType="image/gif"/>
  <Override PartName="/ppt/media/image34.png" ContentType="image/png"/>
  <Override PartName="/ppt/media/image4.png" ContentType="image/png"/>
  <Override PartName="/ppt/media/image2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407-E7C7-41A1-9F66-6735B88F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CBF-4F4A-4956-AFC0-F0B0AE6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950-768E-40D3-9EF6-AD0F1083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A6F-0484-4113-8E83-06C66922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0E4-ECBC-4725-8C04-5925895F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CC2-A99B-483A-8A45-BDA71646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03C-C1F5-4DDD-BAA5-4D98FC36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64A-757F-45EC-B898-8EF97BED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8F0-A7CC-46FB-8BEF-4EAFAB12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3C8-A340-4A5A-8EBA-88201816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6E7-0419-459B-AA96-0EA1BECB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B83-167A-47CE-9891-13A8551C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5771-1C66-47E7-80D0-6E93EE3161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6.png"/><Relationship Id="rId20" Type="http://schemas.openxmlformats.org/officeDocument/2006/relationships/image" Target="../media/image13.gif"/><Relationship Id="rId21" Type="http://schemas.openxmlformats.org/officeDocument/2006/relationships/image" Target="../media/image14.png"/><Relationship Id="rId22" Type="http://schemas.openxmlformats.org/officeDocument/2006/relationships/image" Target="../media/image15.gif"/><Relationship Id="rId23" Type="http://schemas.openxmlformats.org/officeDocument/2006/relationships/image" Target="../media/image16.png"/><Relationship Id="rId24" Type="http://schemas.openxmlformats.org/officeDocument/2006/relationships/image" Target="../media/image17.gi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20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image" Target="../media/image18.jpeg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gif"/><Relationship Id="rId10" Type="http://schemas.openxmlformats.org/officeDocument/2006/relationships/image" Target="../media/image28.gif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1.png"/><Relationship Id="rId17" Type="http://schemas.openxmlformats.org/officeDocument/2006/relationships/image" Target="../media/image23.gif"/><Relationship Id="rId18" Type="http://schemas.openxmlformats.org/officeDocument/2006/relationships/image" Target="../media/image21.jpeg"/><Relationship Id="rId19" Type="http://schemas.openxmlformats.org/officeDocument/2006/relationships/image" Target="../media/image34.png"/><Relationship Id="rId20" Type="http://schemas.openxmlformats.org/officeDocument/2006/relationships/image" Target="../media/image35.wmf"/><Relationship Id="rId21" Type="http://schemas.openxmlformats.org/officeDocument/2006/relationships/image" Target="../media/image22.gif"/><Relationship Id="rId22" Type="http://schemas.openxmlformats.org/officeDocument/2006/relationships/image" Target="../media/image16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image" Target="../media/image41.gif"/><Relationship Id="rId11" Type="http://schemas.openxmlformats.org/officeDocument/2006/relationships/image" Target="../media/image41.gif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gif"/><Relationship Id="rId15" Type="http://schemas.openxmlformats.org/officeDocument/2006/relationships/image" Target="../media/image45.gif"/><Relationship Id="rId16" Type="http://schemas.openxmlformats.org/officeDocument/2006/relationships/image" Target="../media/image38.gif"/><Relationship Id="rId17" Type="http://schemas.openxmlformats.org/officeDocument/2006/relationships/image" Target="../media/image38.gif"/><Relationship Id="rId18" Type="http://schemas.openxmlformats.org/officeDocument/2006/relationships/image" Target="../media/image38.gif"/><Relationship Id="rId19" Type="http://schemas.openxmlformats.org/officeDocument/2006/relationships/image" Target="../media/image38.gi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Копия DSC00106.JPG"/>
          <p:cNvPicPr/>
          <p:nvPr/>
        </p:nvPicPr>
        <p:blipFill>
          <a:blip r:embed="rId1"/>
          <a:stretch/>
        </p:blipFill>
        <p:spPr>
          <a:xfrm>
            <a:off x="0" y="2214720"/>
            <a:ext cx="9144000" cy="25700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-73080" y="-360360"/>
            <a:ext cx="9302760" cy="31701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2146320" y="4724280"/>
            <a:ext cx="4711680" cy="2078280"/>
          </a:xfrm>
          <a:prstGeom prst="rect">
            <a:avLst/>
          </a:prstGeom>
          <a:ln w="0">
            <a:noFill/>
          </a:ln>
        </p:spPr>
      </p:pic>
      <p:grpSp>
        <p:nvGrpSpPr>
          <p:cNvPr id="44" name="Рамка 4"/>
          <p:cNvGrpSpPr/>
          <p:nvPr/>
        </p:nvGrpSpPr>
        <p:grpSpPr>
          <a:xfrm>
            <a:off x="-285840" y="-262080"/>
            <a:ext cx="9715680" cy="7437600"/>
            <a:chOff x="-285840" y="-262080"/>
            <a:chExt cx="9715680" cy="7437600"/>
          </a:xfrm>
        </p:grpSpPr>
        <p:pic>
          <p:nvPicPr>
            <p:cNvPr id="45" name="Рамка 4" descr=""/>
            <p:cNvPicPr/>
            <p:nvPr/>
          </p:nvPicPr>
          <p:blipFill>
            <a:blip r:embed="rId4"/>
            <a:stretch/>
          </p:blipFill>
          <p:spPr>
            <a:xfrm>
              <a:off x="-285840" y="-262080"/>
              <a:ext cx="9715680" cy="743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0280" y="260280"/>
              <a:ext cx="862344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7" descr="703172850.gif"/>
          <p:cNvPicPr/>
          <p:nvPr/>
        </p:nvPicPr>
        <p:blipFill>
          <a:blip r:embed="rId1"/>
          <a:stretch/>
        </p:blipFill>
        <p:spPr>
          <a:xfrm>
            <a:off x="6786720" y="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904736112.jpg"/>
          <p:cNvPicPr/>
          <p:nvPr/>
        </p:nvPicPr>
        <p:blipFill>
          <a:blip r:embed="rId2"/>
          <a:stretch/>
        </p:blipFill>
        <p:spPr>
          <a:xfrm>
            <a:off x="639720" y="360360"/>
            <a:ext cx="1066680" cy="1017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7" descr="904736112.jpg"/>
          <p:cNvPicPr/>
          <p:nvPr/>
        </p:nvPicPr>
        <p:blipFill>
          <a:blip r:embed="rId3"/>
          <a:stretch/>
        </p:blipFill>
        <p:spPr>
          <a:xfrm>
            <a:off x="2859120" y="360360"/>
            <a:ext cx="1066680" cy="1017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9" descr="904736112.jpg"/>
          <p:cNvPicPr/>
          <p:nvPr/>
        </p:nvPicPr>
        <p:blipFill>
          <a:blip r:embed="rId4"/>
          <a:stretch/>
        </p:blipFill>
        <p:spPr>
          <a:xfrm>
            <a:off x="5072040" y="360360"/>
            <a:ext cx="1066680" cy="1017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0" descr="904736112.jpg"/>
          <p:cNvPicPr/>
          <p:nvPr/>
        </p:nvPicPr>
        <p:blipFill>
          <a:blip r:embed="rId5"/>
          <a:stretch/>
        </p:blipFill>
        <p:spPr>
          <a:xfrm>
            <a:off x="7284960" y="360360"/>
            <a:ext cx="1067040" cy="1017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1" descr="904736112.jpg"/>
          <p:cNvPicPr/>
          <p:nvPr/>
        </p:nvPicPr>
        <p:blipFill>
          <a:blip r:embed="rId6"/>
          <a:stretch/>
        </p:blipFill>
        <p:spPr>
          <a:xfrm>
            <a:off x="7570800" y="2571840"/>
            <a:ext cx="106668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2" descr="904736112.jpg"/>
          <p:cNvPicPr/>
          <p:nvPr/>
        </p:nvPicPr>
        <p:blipFill>
          <a:blip r:embed="rId7"/>
          <a:stretch/>
        </p:blipFill>
        <p:spPr>
          <a:xfrm>
            <a:off x="7643880" y="5145120"/>
            <a:ext cx="1066680" cy="1017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3" descr="904736112.jpg"/>
          <p:cNvPicPr/>
          <p:nvPr/>
        </p:nvPicPr>
        <p:blipFill>
          <a:blip r:embed="rId8"/>
          <a:stretch/>
        </p:blipFill>
        <p:spPr>
          <a:xfrm>
            <a:off x="5284800" y="5284800"/>
            <a:ext cx="106668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4" descr="904736112.jpg"/>
          <p:cNvPicPr/>
          <p:nvPr/>
        </p:nvPicPr>
        <p:blipFill>
          <a:blip r:embed="rId9"/>
          <a:stretch/>
        </p:blipFill>
        <p:spPr>
          <a:xfrm>
            <a:off x="2859120" y="5284800"/>
            <a:ext cx="106668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5" descr="904736112.jpg"/>
          <p:cNvPicPr/>
          <p:nvPr/>
        </p:nvPicPr>
        <p:blipFill>
          <a:blip r:embed="rId10"/>
          <a:stretch/>
        </p:blipFill>
        <p:spPr>
          <a:xfrm>
            <a:off x="712800" y="5284800"/>
            <a:ext cx="1066680" cy="1019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6" descr="904736112.jpg"/>
          <p:cNvPicPr/>
          <p:nvPr/>
        </p:nvPicPr>
        <p:blipFill>
          <a:blip r:embed="rId11"/>
          <a:stretch/>
        </p:blipFill>
        <p:spPr>
          <a:xfrm>
            <a:off x="500040" y="2646360"/>
            <a:ext cx="1066680" cy="1017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7" descr="904736112.jpg"/>
          <p:cNvPicPr/>
          <p:nvPr/>
        </p:nvPicPr>
        <p:blipFill>
          <a:blip r:embed="rId12"/>
          <a:stretch/>
        </p:blipFill>
        <p:spPr>
          <a:xfrm>
            <a:off x="3998880" y="2571840"/>
            <a:ext cx="1066680" cy="1019160"/>
          </a:xfrm>
          <a:prstGeom prst="rect">
            <a:avLst/>
          </a:prstGeom>
          <a:ln w="0">
            <a:noFill/>
          </a:ln>
        </p:spPr>
      </p:pic>
      <p:grpSp>
        <p:nvGrpSpPr>
          <p:cNvPr id="59" name="Овал 28"/>
          <p:cNvGrpSpPr/>
          <p:nvPr/>
        </p:nvGrpSpPr>
        <p:grpSpPr>
          <a:xfrm>
            <a:off x="3486240" y="2077920"/>
            <a:ext cx="2244600" cy="2256120"/>
            <a:chOff x="3486240" y="2077920"/>
            <a:chExt cx="2244600" cy="2256120"/>
          </a:xfrm>
        </p:grpSpPr>
        <p:pic>
          <p:nvPicPr>
            <p:cNvPr id="60" name="Овал 28" descr=""/>
            <p:cNvPicPr/>
            <p:nvPr/>
          </p:nvPicPr>
          <p:blipFill>
            <a:blip r:embed="rId13"/>
            <a:stretch/>
          </p:blipFill>
          <p:spPr>
            <a:xfrm>
              <a:off x="3486240" y="2077920"/>
              <a:ext cx="2244600" cy="22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925800" y="2496960"/>
              <a:ext cx="136368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" name="Picture 23" descr="mars"/>
          <p:cNvPicPr/>
          <p:nvPr/>
        </p:nvPicPr>
        <p:blipFill>
          <a:blip r:embed="rId14"/>
          <a:stretch/>
        </p:blipFill>
        <p:spPr>
          <a:xfrm>
            <a:off x="928800" y="6429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112"/>
          <p:cNvPicPr/>
          <p:nvPr/>
        </p:nvPicPr>
        <p:blipFill>
          <a:blip r:embed="rId15"/>
          <a:stretch/>
        </p:blipFill>
        <p:spPr>
          <a:xfrm>
            <a:off x="7643880" y="521496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earth"/>
          <p:cNvPicPr/>
          <p:nvPr/>
        </p:nvPicPr>
        <p:blipFill>
          <a:blip r:embed="rId16"/>
          <a:stretch/>
        </p:blipFill>
        <p:spPr>
          <a:xfrm>
            <a:off x="1214280" y="42148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42"/>
          <p:cNvPicPr/>
          <p:nvPr/>
        </p:nvPicPr>
        <p:blipFill>
          <a:blip r:embed="rId17"/>
          <a:stretch/>
        </p:blipFill>
        <p:spPr>
          <a:xfrm>
            <a:off x="500040" y="37861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56r2"/>
          <p:cNvPicPr/>
          <p:nvPr/>
        </p:nvPicPr>
        <p:blipFill>
          <a:blip r:embed="rId18"/>
          <a:stretch/>
        </p:blipFill>
        <p:spPr>
          <a:xfrm>
            <a:off x="9929880" y="2857680"/>
            <a:ext cx="1515960" cy="857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6" descr="904736112.jpg"/>
          <p:cNvPicPr/>
          <p:nvPr/>
        </p:nvPicPr>
        <p:blipFill>
          <a:blip r:embed="rId19"/>
          <a:stretch/>
        </p:blipFill>
        <p:spPr>
          <a:xfrm>
            <a:off x="10144080" y="2998800"/>
            <a:ext cx="106668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0" descr="14.gif"/>
          <p:cNvPicPr/>
          <p:nvPr/>
        </p:nvPicPr>
        <p:blipFill>
          <a:blip r:embed="rId20"/>
          <a:stretch/>
        </p:blipFill>
        <p:spPr>
          <a:xfrm>
            <a:off x="-2357280" y="4286160"/>
            <a:ext cx="1919160" cy="1897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3" descr="19.gif"/>
          <p:cNvPicPr/>
          <p:nvPr/>
        </p:nvPicPr>
        <p:blipFill>
          <a:blip r:embed="rId21"/>
          <a:stretch/>
        </p:blipFill>
        <p:spPr>
          <a:xfrm>
            <a:off x="7143840" y="4572000"/>
            <a:ext cx="1353960" cy="190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8" descr="06.gif"/>
          <p:cNvPicPr/>
          <p:nvPr/>
        </p:nvPicPr>
        <p:blipFill>
          <a:blip r:embed="rId22"/>
          <a:stretch/>
        </p:blipFill>
        <p:spPr>
          <a:xfrm>
            <a:off x="1643040" y="96840"/>
            <a:ext cx="5715000" cy="6500880"/>
          </a:xfrm>
          <a:prstGeom prst="rect">
            <a:avLst/>
          </a:prstGeom>
          <a:ln w="0">
            <a:noFill/>
          </a:ln>
        </p:spPr>
      </p:pic>
      <p:pic>
        <p:nvPicPr>
          <p:cNvPr id="71" name="gibons_-_kosmicheskaya.mp3" descr=""/>
          <p:cNvPicPr/>
          <p:nvPr/>
        </p:nvPicPr>
        <p:blipFill>
          <a:blip r:embed="rId23"/>
          <a:stretch/>
        </p:blipFill>
        <p:spPr>
          <a:xfrm>
            <a:off x="8215200" y="21420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black43"/>
          <p:cNvPicPr/>
          <p:nvPr/>
        </p:nvPicPr>
        <p:blipFill>
          <a:blip r:embed="rId24"/>
          <a:stretch/>
        </p:blipFill>
        <p:spPr>
          <a:xfrm>
            <a:off x="-85680" y="0"/>
            <a:ext cx="922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5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3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7" nodeType="afterEffect" fill="hold" presetClass="path" presetID="34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439 C 0.01268 -0.01757 0.03212 -0.02428 0.04757 -0.02428 C 0.07032 -0.02428 0.09237 -0.01433 0.10521 0.00231 C 0.15921 0.06821 0.20053 0.21272 0.20053 0.38451 C 0.20053 0.3852 0.20053 0.38729 0.20053 0.38798 C 0.20053 0.38729 0.20053 0.39098 0.20053 0.39145 C 0.20053 0.56278 0.15921 0.71075 0.10521 0.77665 C 0.09237 0.78983 0.07032 0.79977 0.04757 0.79977 C 0.03212 0.79977 0.01268 0.7933 0.00018 0.77965 C -0.0125 0.76694 -0.01892 0.75029 -0.01892 0.73018 C -0.01892 0.70729 -0.00937 0.68763 0.00678 0.67468 C 0.07032 0.61526 0.21007 0.57226 0.3757 0.57226 C 0.3757 0.57295 0.3783 0.57226 0.3783 0.57295 C 0.3783 0.57226 0.38178 0.57226 0.38178 0.57295 C 0.5474 0.57226 0.69063 0.61526 0.754 0.67468 C 0.76667 0.68763 0.77639 0.70729 0.77639 0.73018 C 0.77639 0.75029 0.7698 0.76694 0.7573 0.77965 C 0.74462 0.7933 0.72848 0.79977 0.70938 0.79977 C 0.68716 0.79977 0.66841 0.78983 0.65573 0.77665 C 0.59827 0.71075 0.55678 0.56278 0.55678 0.39098 C 0.55678 0.39145 0.55678 0.38729 0.55678 0.38798 C 0.55678 0.38729 0.55678 0.38451 0.55678 0.3852 C 0.55678 0.21272 0.59827 0.06821 0.65573 -0.00115 C 0.66841 -0.01433 0.68716 -0.02428 0.70938 -0.02428 C 0.72848 -0.02428 0.74462 -0.01757 0.7573 -0.00439 C 0.7698 0.00856 0.77639 0.02867 0.77639 0.04486 C 0.77639 0.06821 0.76667 0.08763 0.754 0.10428 C 0.69063 0.16023 0.5474 0.20324 0.38178 0.20324 C 0.38178 0.2037 0.38178 0.20324 0.3783 0.20324 C 0.3783 0.2037 0.3757 0.20324 0.3757 0.2037 C 0.21007 0.20324 0.07032 0.16023 0.00678 0.10428 C -0.00937 0.08763 -0.01892 0.06821 -0.01892 0.04486 C -0.01892 0.02867 -0.0125 0.00856 0.00018 -0.00439 Z">
                                      <p:cBhvr>
                                        <p:cTn id="118" dur="1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4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0296E-006 L -0.80347 2.80296E-006 L -0.80347 -0.71994 L 2.77778E-007 -0.71994 L 2.77778E-007 2.80296E-006 Z">
                                      <p:cBhvr>
                                        <p:cTn id="125" dur="10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8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0"/>
                            </p:stCondLst>
                            <p:childTnLst>
                              <p:par>
                                <p:cTn id="134" nodeType="afterEffect" fill="hold" presetClass="path" presetID="2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4385E-006 C -2.77778E-007 -0.05388 0.03247 -0.09759 0.07257 -0.09759 L 0.24132 -0.09759 C 0.28142 -0.09759 0.31441 -0.05388 0.31441 -4.64385E-006 L 0.31441 0.22248 C 0.31441 0.2766 0.28142 0.32216 0.24132 0.32216 L 0.07257 0.32216 C 0.03247 0.32216 -2.77778E-007 0.2766 -2.77778E-007 0.22248 Z">
                                      <p:cBhvr>
                                        <p:cTn id="135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6000"/>
                            </p:stCondLst>
                            <p:childTnLst>
                              <p:par>
                                <p:cTn id="137" nodeType="afterEffect" fill="hold" presetClass="entr" presetID="49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7500"/>
                            </p:stCondLst>
                            <p:childTnLst>
                              <p:par>
                                <p:cTn id="144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4798E-006 C 4.16667E-006 -0.19561 -0.12969 -0.35677 -0.28889 -0.35677 C -0.47657 -0.35677 -0.5441 -0.17804 -0.57257 -0.07099 L -0.60174 0.07144 C -0.63091 0.17849 -0.70313 0.35653 -0.91511 0.35653 C -1.0507 0.35653 -1.20487 0.1963 -1.20487 2.94798E-006 C -1.20487 -0.19561 -1.0507 -0.35677 -0.91511 -0.35677 C -0.70313 -0.35677 -0.63091 -0.17804 -0.60174 -0.07099 L -0.57257 0.07144 C -0.5441 0.17849 -0.47657 0.35653 -0.28889 0.35653 C -0.12969 0.35653 4.16667E-006 0.1963 4.16667E-006 2.94798E-006 Z">
                                      <p:cBhvr>
                                        <p:cTn id="145" dur="10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47" nodeType="after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3261 L -0.62518 0.61109 L -1.25174 -0.03261 L -0.62518 -0.67885 L 0.00069 -0.03261 Z">
                                      <p:cBhvr>
                                        <p:cTn id="14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7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950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13873E-006 L 1.29063 -0.02173 E">
                                      <p:cBhvr>
                                        <p:cTn id="155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25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1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2222 -0.2837 L -0.00868 -0.27329 E">
                                      <p:cBhvr>
                                        <p:cTn id="161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7500"/>
                            </p:stCondLst>
                            <p:childTnLst>
                              <p:par>
                                <p:cTn id="1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15 -0.57873 L 1.27743 -0.58797 E">
                                      <p:cBhvr>
                                        <p:cTn id="164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55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9.82659E-007 C -0.01042 -0.02774 -0.0415 -0.03838 -0.06025 -0.05271 C -0.07309 -0.06266 -0.07535 -0.06982 -0.09045 -0.08231 C -0.10851 -0.09734 -0.12813 -0.10913 -0.14601 -0.12462 C -0.15504 -0.13248 -0.16389 -0.14011 -0.17309 -0.14797 C -0.17778 -0.15214 -0.18733 -0.16046 -0.18733 -0.16046 C -0.19809 -0.18011 -0.18368 -0.15676 -0.20643 -0.17757 C -0.21077 -0.1815 -0.21354 -0.18774 -0.21736 -0.19237 C -0.22587 -0.20185 -0.23473 -0.20994 -0.24288 -0.21965 C -0.2533 -0.23214 -0.26059 -0.24786 -0.27292 -0.2578 C -0.2816 -0.27676 -0.27275 -0.26173 -0.2875 -0.27468 C -0.30452 -0.28994 -0.3165 -0.30844 -0.33663 -0.31283 C -0.35747 -0.32948 -0.37986 -0.33641 -0.4033 -0.34659 C -0.41893 -0.35352 -0.43004 -0.36208 -0.44601 -0.36555 C -0.44966 -0.36832 -0.45313 -0.37179 -0.45712 -0.3741 C -0.46163 -0.37688 -0.46684 -0.37734 -0.47136 -0.38034 C -0.47344 -0.38173 -0.47431 -0.3852 -0.47622 -0.38682 C -0.48768 -0.3956 -0.49271 -0.39491 -0.50469 -0.40162 C -0.51563 -0.40763 -0.5257 -0.41479 -0.53663 -0.42057 C -0.54288 -0.42404 -0.54948 -0.42566 -0.55556 -0.42913 C -0.58195 -0.44346 -0.60782 -0.46081 -0.63646 -0.46497 C -0.65729 -0.47745 -0.67709 -0.48763 -0.7 -0.4904 C -0.70556 -0.49526 -0.71111 -0.50011 -0.71736 -0.50312 C -0.72639 -0.5126 -0.73056 -0.51815 -0.74132 -0.52416 C -0.75452 -0.53919 -0.76806 -0.55514 -0.77778 -0.57479 C -0.78004 -0.57919 -0.78056 -0.58497 -0.78247 -0.58959 C -0.7875 -0.60208 -0.79427 -0.61549 -0.80157 -0.62566 C -0.7941 -0.64601 -0.80035 -0.63838 -0.77778 -0.63838 C -0.73386 -0.64508 -0.69167 -0.65988 -0.64757 -0.66358 C -0.63334 -0.66289 -0.61893 -0.66312 -0.60469 -0.6615 C -0.58507 -0.65919 -0.56615 -0.65086 -0.54601 -0.64878 C -0.45417 -0.65248 -0.38976 -0.65433 -0.29705 -0.65109 C -0.25938 -0.65549 -0.22275 -0.65803 -0.18577 -0.66589 C -0.17153 -0.6652 -0.15729 -0.66358 -0.14306 -0.66358 C -0.08611 -0.66358 -0.02952 -0.68647 0.02709 -0.69318 C 0.03074 -0.69248 0.03508 -0.69364 0.0382 -0.69109 C 0.03942 -0.69017 0.03629 -0.68763 0.03473 -0.68693 C 0.03247 -0.68555 0.02709 -0.68485 0.02709 -0.68485 C 0.02223 -0.67838 0.01806 -0.66913 0.01268 -0.66358 C 0.00174 -0.65248 -0.01198 -0.63792 -0.02535 -0.6319 C -0.03854 -0.61503 -0.0283 -0.62659 -0.06181 -0.6067 C -0.06545 -0.60439 -0.06962 -0.60346 -0.07292 -0.60023 C -0.075 -0.59815 -0.07691 -0.5956 -0.07934 -0.59399 C -0.08802 -0.5882 -0.09757 -0.58497 -0.10625 -0.57919 C -0.11493 -0.56208 -0.10538 -0.57849 -0.13334 -0.55792 C -0.13993 -0.55306 -0.15243 -0.54104 -0.15243 -0.54104 C -0.15938 -0.52855 -0.16962 -0.52046 -0.17778 -0.50936 C -0.18594 -0.48716 -0.17761 -0.50474 -0.19358 -0.48601 C -0.20868 -0.46844 -0.21285 -0.43537 -0.23038 -0.42057 C -0.23334 -0.41433 -0.23698 -0.40832 -0.23959 -0.40162 C -0.24115 -0.39768 -0.2408 -0.39214 -0.24288 -0.3889 C -0.25 -0.37919 -0.25052 -0.37942 -0.25712 -0.36346 C -0.26216 -0.35144 -0.26111 -0.35029 -0.26997 -0.34242 C -0.27275 -0.32994 -0.28438 -0.32115 -0.29375 -0.31699 C -0.30886 -0.30057 -0.32657 -0.28786 -0.34288 -0.2726 C -0.35 -0.26612 -0.35486 -0.26057 -0.36354 -0.2578 C -0.36719 -0.25294 -0.37136 -0.24832 -0.37466 -0.243 C -0.37657 -0.23977 -0.37726 -0.23514 -0.37934 -0.23237 C -0.38108 -0.23052 -0.38368 -0.23098 -0.38577 -0.23029 C -0.39132 -0.22289 -0.3967 -0.21711 -0.4033 -0.21133 C -0.40469 -0.20716 -0.40556 -0.20208 -0.40799 -0.19861 C -0.41007 -0.1956 -0.4217 -0.18543 -0.42535 -0.18381 C -0.42848 -0.17965 -0.43177 -0.17526 -0.4349 -0.17109 C -0.43629 -0.16948 -0.43559 -0.1667 -0.43646 -0.16485 C -0.43768 -0.16231 -0.43976 -0.16046 -0.44132 -0.15838 C -0.44497 -0.14335 -0.44167 -0.1482 -0.44913 -0.1415 C -0.45295 -0.13179 -0.45504 -0.12716 -0.46181 -0.12046 C -0.46233 -0.11838 -0.46233 -0.1156 -0.46354 -0.11399 C -0.46476 -0.11237 -0.46684 -0.11306 -0.46823 -0.1119 C -0.47986 -0.10173 -0.4665 -0.10844 -0.47778 -0.10358 C -0.48195 -0.0978 -0.48577 -0.09248 -0.49219 -0.09086 C -0.50157 -0.08832 -0.52084 -0.08439 -0.52084 -0.08439 C -0.54827 -0.08601 -0.57934 -0.09225 -0.60625 -0.08023 C -0.60782 -0.07815 -0.6092 -0.0756 -0.61111 -0.07399 C -0.6125 -0.07283 -0.61459 -0.07306 -0.6158 -0.07167 C -0.61788 -0.06936 -0.61858 -0.0652 -0.62066 -0.06335 C -0.62483 -0.05965 -0.63021 -0.05919 -0.6349 -0.05688 C -0.63907 -0.04046 -0.65209 -0.03815 -0.66181 -0.02959 C -0.66719 -0.01896 -0.67118 -0.02266 -0.67934 -0.01896 C -0.68629 -0.00462 -0.6967 -0.00693 -0.70799 -0.00208 C -0.71459 0.01156 -0.70677 -0.00162 -0.71736 0.00648 C -0.7224 0.01018 -0.72153 0.01457 -0.72691 0.01711 C -0.73004 0.0185 -0.73334 0.0185 -0.73646 0.01919 C -0.74045 0.03515 -0.74462 0.03237 -0.75556 0.03815 C -0.75608 0.04023 -0.75712 0.0444 -0.75712 0.0444 C -0.68212 0.0481 -0.60834 0.05526 -0.53334 0.05711 C -0.49184 0.06058 -0.45122 0.0659 -0.40955 0.06359 C -0.35695 0.05596 -0.30556 0.04625 -0.25243 0.04232 C -0.19184 0.03168 -0.13073 0.02659 -0.06997 0.02127 C -0.04202 0.02729 -0.01545 0.03445 0.01112 0.04671 C 0.00782 0.03284 0.01251 0.04786 0.00313 0.03399 C 0.00052 0.03029 -0.00104 0.02544 -0.00313 0.02127 C -0.00139 0.00278 -0.0033 0.00948 5E-006 9.82659E-007 Z">
                                      <p:cBhvr>
                                        <p:cTn id="172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6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3600"/>
                            </p:stCondLst>
                            <p:childTnLst>
                              <p:par>
                                <p:cTn id="180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1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66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rem-kvartet_-_matreshki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Копия terem-kvarteatreshk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6" descr="images_c.jpg"/>
          <p:cNvPicPr/>
          <p:nvPr/>
        </p:nvPicPr>
        <p:blipFill>
          <a:blip r:embed="rId3">
            <a:lum bright="70000" contrast="-70000"/>
          </a:blip>
          <a:srcRect l="6450" t="6173" r="8876" b="61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10102004190732_M4341"/>
          <p:cNvPicPr/>
          <p:nvPr/>
        </p:nvPicPr>
        <p:blipFill>
          <a:blip r:embed="rId4"/>
          <a:stretch/>
        </p:blipFill>
        <p:spPr>
          <a:xfrm>
            <a:off x="3429000" y="17859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10102004190732_M4341"/>
          <p:cNvPicPr/>
          <p:nvPr/>
        </p:nvPicPr>
        <p:blipFill>
          <a:blip r:embed="rId5"/>
          <a:stretch/>
        </p:blipFill>
        <p:spPr>
          <a:xfrm>
            <a:off x="9144000" y="4915080"/>
            <a:ext cx="257184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10102004190732_M4341"/>
          <p:cNvPicPr/>
          <p:nvPr/>
        </p:nvPicPr>
        <p:blipFill>
          <a:blip r:embed="rId6"/>
          <a:stretch/>
        </p:blipFill>
        <p:spPr>
          <a:xfrm>
            <a:off x="-2571840" y="4915080"/>
            <a:ext cx="2571840" cy="388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10102004190732_M4341"/>
          <p:cNvPicPr/>
          <p:nvPr/>
        </p:nvPicPr>
        <p:blipFill>
          <a:blip r:embed="rId7"/>
          <a:stretch/>
        </p:blipFill>
        <p:spPr>
          <a:xfrm>
            <a:off x="3929040" y="-2530440"/>
            <a:ext cx="1673280" cy="253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10102004190732_M4341"/>
          <p:cNvPicPr/>
          <p:nvPr/>
        </p:nvPicPr>
        <p:blipFill>
          <a:blip r:embed="rId8"/>
          <a:stretch/>
        </p:blipFill>
        <p:spPr>
          <a:xfrm>
            <a:off x="-1714680" y="2214720"/>
            <a:ext cx="1476720" cy="223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10102004190732_M4341"/>
          <p:cNvPicPr/>
          <p:nvPr/>
        </p:nvPicPr>
        <p:blipFill>
          <a:blip r:embed="rId9"/>
          <a:stretch/>
        </p:blipFill>
        <p:spPr>
          <a:xfrm>
            <a:off x="1143000" y="928800"/>
            <a:ext cx="1285920" cy="1942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10102004190732_M4341"/>
          <p:cNvPicPr/>
          <p:nvPr/>
        </p:nvPicPr>
        <p:blipFill>
          <a:blip r:embed="rId10"/>
          <a:stretch/>
        </p:blipFill>
        <p:spPr>
          <a:xfrm>
            <a:off x="357120" y="1428840"/>
            <a:ext cx="2347920" cy="354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10102004190732_M4341"/>
          <p:cNvPicPr/>
          <p:nvPr/>
        </p:nvPicPr>
        <p:blipFill>
          <a:blip r:embed="rId11"/>
          <a:stretch/>
        </p:blipFill>
        <p:spPr>
          <a:xfrm>
            <a:off x="1714680" y="1928880"/>
            <a:ext cx="2000160" cy="302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10102004190732_M4341"/>
          <p:cNvPicPr/>
          <p:nvPr/>
        </p:nvPicPr>
        <p:blipFill>
          <a:blip r:embed="rId12"/>
          <a:stretch/>
        </p:blipFill>
        <p:spPr>
          <a:xfrm>
            <a:off x="2786040" y="2286000"/>
            <a:ext cx="1833480" cy="27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10102004190732_M4341"/>
          <p:cNvPicPr/>
          <p:nvPr/>
        </p:nvPicPr>
        <p:blipFill>
          <a:blip r:embed="rId13"/>
          <a:stretch/>
        </p:blipFill>
        <p:spPr>
          <a:xfrm>
            <a:off x="4000680" y="2786040"/>
            <a:ext cx="171432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10102004190732_M4341"/>
          <p:cNvPicPr/>
          <p:nvPr/>
        </p:nvPicPr>
        <p:blipFill>
          <a:blip r:embed="rId14"/>
          <a:stretch/>
        </p:blipFill>
        <p:spPr>
          <a:xfrm>
            <a:off x="5000760" y="3214800"/>
            <a:ext cx="1562040" cy="2361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10102004190732_M4341"/>
          <p:cNvPicPr/>
          <p:nvPr/>
        </p:nvPicPr>
        <p:blipFill>
          <a:blip r:embed="rId15"/>
          <a:stretch/>
        </p:blipFill>
        <p:spPr>
          <a:xfrm>
            <a:off x="5857920" y="3571920"/>
            <a:ext cx="1439640" cy="21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10102004190732_M4341"/>
          <p:cNvPicPr/>
          <p:nvPr/>
        </p:nvPicPr>
        <p:blipFill>
          <a:blip r:embed="rId16"/>
          <a:stretch/>
        </p:blipFill>
        <p:spPr>
          <a:xfrm>
            <a:off x="6724800" y="4000680"/>
            <a:ext cx="1276200" cy="1928520"/>
          </a:xfrm>
          <a:prstGeom prst="rect">
            <a:avLst/>
          </a:prstGeom>
          <a:ln w="0">
            <a:noFill/>
          </a:ln>
        </p:spPr>
      </p:pic>
      <p:grpSp>
        <p:nvGrpSpPr>
          <p:cNvPr id="89" name="Группа 56"/>
          <p:cNvGrpSpPr/>
          <p:nvPr/>
        </p:nvGrpSpPr>
        <p:grpSpPr>
          <a:xfrm>
            <a:off x="9144000" y="4929120"/>
            <a:ext cx="7715160" cy="4714920"/>
            <a:chOff x="9144000" y="4929120"/>
            <a:chExt cx="7715160" cy="4714920"/>
          </a:xfrm>
        </p:grpSpPr>
        <p:pic>
          <p:nvPicPr>
            <p:cNvPr id="90" name="Picture 20" descr="10102004190732_M4341"/>
            <p:cNvPicPr/>
            <p:nvPr/>
          </p:nvPicPr>
          <p:blipFill>
            <a:blip r:embed="rId17"/>
            <a:stretch/>
          </p:blipFill>
          <p:spPr>
            <a:xfrm>
              <a:off x="9144000" y="4929120"/>
              <a:ext cx="2348640" cy="354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0" descr="10102004190732_M4341"/>
            <p:cNvPicPr/>
            <p:nvPr/>
          </p:nvPicPr>
          <p:blipFill>
            <a:blip r:embed="rId18"/>
            <a:stretch/>
          </p:blipFill>
          <p:spPr>
            <a:xfrm>
              <a:off x="10572480" y="5643360"/>
              <a:ext cx="2000160" cy="30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0" descr="10102004190732_M4341"/>
            <p:cNvPicPr/>
            <p:nvPr/>
          </p:nvPicPr>
          <p:blipFill>
            <a:blip r:embed="rId19"/>
            <a:stretch/>
          </p:blipFill>
          <p:spPr>
            <a:xfrm>
              <a:off x="11858400" y="6143400"/>
              <a:ext cx="1833120" cy="277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0" descr="10102004190732_M4341"/>
            <p:cNvPicPr/>
            <p:nvPr/>
          </p:nvPicPr>
          <p:blipFill>
            <a:blip r:embed="rId20"/>
            <a:stretch/>
          </p:blipFill>
          <p:spPr>
            <a:xfrm>
              <a:off x="12858840" y="6575400"/>
              <a:ext cx="1714320" cy="25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0" descr="10102004190732_M4341"/>
            <p:cNvPicPr/>
            <p:nvPr/>
          </p:nvPicPr>
          <p:blipFill>
            <a:blip r:embed="rId21"/>
            <a:stretch/>
          </p:blipFill>
          <p:spPr>
            <a:xfrm>
              <a:off x="13858920" y="6928920"/>
              <a:ext cx="1562040" cy="23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0" descr="10102004190732_M4341"/>
            <p:cNvPicPr/>
            <p:nvPr/>
          </p:nvPicPr>
          <p:blipFill>
            <a:blip r:embed="rId22"/>
            <a:stretch/>
          </p:blipFill>
          <p:spPr>
            <a:xfrm>
              <a:off x="14716080" y="7286400"/>
              <a:ext cx="1439280" cy="21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0" descr="10102004190732_M4341"/>
            <p:cNvPicPr/>
            <p:nvPr/>
          </p:nvPicPr>
          <p:blipFill>
            <a:blip r:embed="rId23"/>
            <a:stretch/>
          </p:blipFill>
          <p:spPr>
            <a:xfrm>
              <a:off x="15582960" y="7714800"/>
              <a:ext cx="1276200" cy="192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20" descr="10102004190732_M4341"/>
          <p:cNvPicPr/>
          <p:nvPr/>
        </p:nvPicPr>
        <p:blipFill>
          <a:blip r:embed="rId24"/>
          <a:stretch/>
        </p:blipFill>
        <p:spPr>
          <a:xfrm>
            <a:off x="7889760" y="573120"/>
            <a:ext cx="897120" cy="1355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10102004190732_M4341"/>
          <p:cNvPicPr/>
          <p:nvPr/>
        </p:nvPicPr>
        <p:blipFill>
          <a:blip r:embed="rId25"/>
          <a:stretch/>
        </p:blipFill>
        <p:spPr>
          <a:xfrm>
            <a:off x="4143240" y="214200"/>
            <a:ext cx="1027080" cy="1552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10102004190732_M4341"/>
          <p:cNvPicPr/>
          <p:nvPr/>
        </p:nvPicPr>
        <p:blipFill>
          <a:blip r:embed="rId26"/>
          <a:stretch/>
        </p:blipFill>
        <p:spPr>
          <a:xfrm>
            <a:off x="4214880" y="214200"/>
            <a:ext cx="963720" cy="155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10102004190732_M4341"/>
          <p:cNvPicPr/>
          <p:nvPr/>
        </p:nvPicPr>
        <p:blipFill>
          <a:blip r:embed="rId27"/>
          <a:stretch/>
        </p:blipFill>
        <p:spPr>
          <a:xfrm>
            <a:off x="928800" y="1285920"/>
            <a:ext cx="1357200" cy="2095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10102004190732_M4341"/>
          <p:cNvPicPr/>
          <p:nvPr/>
        </p:nvPicPr>
        <p:blipFill>
          <a:blip r:embed="rId28"/>
          <a:stretch/>
        </p:blipFill>
        <p:spPr>
          <a:xfrm>
            <a:off x="1000080" y="1285920"/>
            <a:ext cx="1285920" cy="1942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10102004190732_M4341"/>
          <p:cNvPicPr/>
          <p:nvPr/>
        </p:nvPicPr>
        <p:blipFill>
          <a:blip r:embed="rId29"/>
          <a:stretch/>
        </p:blipFill>
        <p:spPr>
          <a:xfrm>
            <a:off x="9144000" y="1357200"/>
            <a:ext cx="2347920" cy="3549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10102004190732_M4341"/>
          <p:cNvPicPr/>
          <p:nvPr/>
        </p:nvPicPr>
        <p:blipFill>
          <a:blip r:embed="rId30"/>
          <a:stretch/>
        </p:blipFill>
        <p:spPr>
          <a:xfrm>
            <a:off x="-2000160" y="1571760"/>
            <a:ext cx="2000160" cy="302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10102004190732_M4341"/>
          <p:cNvPicPr/>
          <p:nvPr/>
        </p:nvPicPr>
        <p:blipFill>
          <a:blip r:embed="rId31"/>
          <a:stretch/>
        </p:blipFill>
        <p:spPr>
          <a:xfrm>
            <a:off x="9144000" y="5562720"/>
            <a:ext cx="1714680" cy="2590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10102004190732_M4341"/>
          <p:cNvPicPr/>
          <p:nvPr/>
        </p:nvPicPr>
        <p:blipFill>
          <a:blip r:embed="rId32"/>
          <a:stretch/>
        </p:blipFill>
        <p:spPr>
          <a:xfrm>
            <a:off x="-1357200" y="-1025640"/>
            <a:ext cx="1357200" cy="205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10102004190732_M4341"/>
          <p:cNvPicPr/>
          <p:nvPr/>
        </p:nvPicPr>
        <p:blipFill>
          <a:blip r:embed="rId33"/>
          <a:stretch/>
        </p:blipFill>
        <p:spPr>
          <a:xfrm>
            <a:off x="9144000" y="-939960"/>
            <a:ext cx="1244520" cy="187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10102004190732_M4341"/>
          <p:cNvPicPr/>
          <p:nvPr/>
        </p:nvPicPr>
        <p:blipFill>
          <a:blip r:embed="rId34"/>
          <a:stretch/>
        </p:blipFill>
        <p:spPr>
          <a:xfrm>
            <a:off x="-1000080" y="61023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10102004190732_M4341"/>
          <p:cNvPicPr/>
          <p:nvPr/>
        </p:nvPicPr>
        <p:blipFill>
          <a:blip r:embed="rId35"/>
          <a:stretch/>
        </p:blipFill>
        <p:spPr>
          <a:xfrm>
            <a:off x="3857760" y="6858000"/>
            <a:ext cx="785520" cy="1187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7" descr="images_c.jpg"/>
          <p:cNvPicPr/>
          <p:nvPr/>
        </p:nvPicPr>
        <p:blipFill>
          <a:blip r:embed="rId36"/>
          <a:stretch/>
        </p:blipFill>
        <p:spPr>
          <a:xfrm>
            <a:off x="0" y="0"/>
            <a:ext cx="9144000" cy="69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93064E-006 L -1.26268 -1.09711 E">
                                      <p:cBhvr>
                                        <p:cTn id="2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3.93064E-006 L 1.34428 -1.12878 E">
                                      <p:cBhvr>
                                        <p:cTn id="21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4335E-006 L -0.02118 1.47029 E">
                                      <p:cBhvr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0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5607E-007 C -3.61111E-006 0.1859 0.10903 0.34058 0.24202 0.34058 C 0.39879 0.34058 0.45521 0.16948 0.47934 0.06705 L 0.504 -0.06913 C 0.52813 -0.1711 0.58837 -0.34081 0.76546 -0.34081 C 0.879 -0.34081 1.00799 -0.18798 1.00799 1.15607E-007 C 1.00799 0.1859 0.879 0.34058 0.76546 0.34058 C 0.58837 0.34058 0.52813 0.16948 0.504 0.06705 L 0.47934 -0.06913 C 0.45521 -0.1711 0.39879 -0.34081 0.24202 -0.34081 C 0.10903 -0.34081 -3.61111E-006 -0.18798 -3.61111E-006 1.15607E-007 Z">
                                      <p:cBhvr>
                                        <p:cTn id="231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8.23312E-007 C 0.17379 -8.23312E-007 0.31163 0.16628 0.31163 0.37118 C 0.31163 0.57609 0.17379 0.74329 0.00434 0.74329 C -0.1651 0.74329 -0.3026 0.57609 -0.3026 0.37118 C -0.3026 0.16628 -0.1651 -8.23312E-007 0.00434 -8.23312E-007 Z">
                                      <p:cBhvr>
                                        <p:cTn id="238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76411E-006 C -0.1691 -4.76411E-006 -0.30695 0.16814 -0.30695 0.37535 C -0.30695 0.58257 -0.1691 0.75139 3.33333E-006 0.75139 C 0.17031 0.75139 0.3085 0.58257 0.3085 0.37535 C 0.3085 0.16814 0.17031 -4.76411E-006 3.33333E-006 -4.76411E-006 Z">
                                      <p:cBhvr>
                                        <p:cTn id="250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64" nodeType="afterEffect" fill="hold" presetClass="path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7 3.72803E-006 C -0.01233 -0.01203 -0.03177 -0.01827 -0.04722 -0.01827 C -0.06979 -0.01827 -0.09167 -0.00902 -0.10486 0.00624 C -0.15851 0.0673 -0.19965 0.20166 -0.19965 0.361 C -0.19965 0.36147 -0.19965 0.36332 -0.19965 0.36424 C -0.19965 0.36332 -0.19965 0.36656 -0.19965 0.36725 C -0.19965 0.52613 -0.15851 0.6635 -0.10486 0.72433 C -0.09167 0.73658 -0.06979 0.74606 -0.04722 0.74606 C -0.03177 0.74606 -0.01233 0.73959 -2.77778E-007 0.72756 C 0.01267 0.71554 0.01962 0.70004 0.01962 0.68154 C 0.01962 0.66026 0.00972 0.64223 -0.00642 0.62997 C -0.06979 0.5747 -0.20903 0.53492 -0.37413 0.53492 C -0.37413 0.53538 -0.37674 0.53492 -0.37674 0.53538 C -0.37674 0.53492 -0.38021 0.53492 -0.38021 0.53538 C -0.54549 0.53492 -0.68819 0.5747 -0.75121 0.62997 C -0.76424 0.64223 -0.77292 0.66026 -0.77292 0.68154 C -0.77292 0.70004 -0.76719 0.71554 -0.75451 0.72756 C -0.74219 0.73959 -0.72621 0.74606 -0.7066 0.74606 C -0.6849 0.74606 -0.6658 0.73658 -0.6533 0.72433 C -0.59583 0.6635 -0.55503 0.52613 -0.55503 0.36656 C -0.55503 0.36725 -0.55503 0.36332 -0.55503 0.36424 C -0.55503 0.36332 -0.55503 0.361 -0.55503 0.36147 C -0.55503 0.20166 -0.59583 0.0673 -0.6533 0.00323 C -0.6658 -0.00902 -0.6849 -0.01827 -0.7066 -0.01827 C -0.72621 -0.01827 -0.74219 -0.01203 -0.75451 3.72803E-006 C -0.76719 0.01202 -0.77292 0.03075 -0.77292 0.04556 C -0.77292 0.0673 -0.76424 0.08533 -0.75121 0.1006 C -0.68819 0.15286 -0.54549 0.19264 -0.38021 0.19264 C -0.38021 0.1931 -0.38021 0.19264 -0.37674 0.19264 C -0.37674 0.1931 -0.37413 0.19264 -0.37413 0.1931 C -0.20903 0.19264 -0.06979 0.15286 -0.00642 0.1006 C 0.00972 0.08533 0.01962 0.0673 0.01962 0.04556 C 0.01962 0.03075 0.01267 0.01202 -2.77778E-007 3.72803E-006 Z">
                                      <p:cBhvr>
                                        <p:cTn id="265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7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8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21965E-006 C -0.01667 0.08763 -0.00608 0.32856 0.02066 0.4118 C 0.04739 0.4955 0.07882 0.48717 0.16041 0.50313 L 0.51059 0.50313 C 0.59409 0.50313 0.66215 0.43006 0.66215 0.34035 L 0.66215 -0.02844 C 0.66215 -0.11861 0.59409 -0.19306 0.51024 -0.19306 L 0.16007 -0.19306 C 0.07639 -0.19306 2.5E-006 -0.08994 2.5E-006 -4.21965E-006 Z">
                                      <p:cBhvr>
                                        <p:cTn id="279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3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9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2948E-006 C 5.55556E-007 -0.08879 0.06858 -0.16116 0.15278 -0.16116 L 0.5059 -0.16116 C 0.59028 -0.16116 0.65903 -0.08879 0.65903 3.2948E-006 L 0.65903 0.36716 C 0.65903 0.45664 0.59028 0.53156 0.5059 0.53156 L 0.15278 0.53156 C 0.06858 0.53156 5.55556E-007 0.45664 5.55556E-007 0.36716 Z">
                                      <p:cBhvr>
                                        <p:cTn id="290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1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2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6763E-006 L -1.82744 -1.39029 E">
                                      <p:cBhvr>
                                        <p:cTn id="305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6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8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9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1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3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4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5000"/>
                            </p:stCondLst>
                            <p:childTnLst>
                              <p:par>
                                <p:cTn id="33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5500"/>
                            </p:stCondLst>
                            <p:childTnLst>
                              <p:par>
                                <p:cTn id="34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6000"/>
                            </p:stCondLst>
                            <p:childTnLst>
                              <p:par>
                                <p:cTn id="34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6500"/>
                            </p:stCondLst>
                            <p:childTnLst>
                              <p:par>
                                <p:cTn id="35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7000"/>
                            </p:stCondLst>
                            <p:childTnLst>
                              <p:par>
                                <p:cTn id="35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6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0"/>
                            </p:stCondLst>
                            <p:childTnLst>
                              <p:par>
                                <p:cTn id="36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8500"/>
                            </p:stCondLst>
                            <p:childTnLst>
                              <p:par>
                                <p:cTn id="37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0.00139 L -0.29757 0.00139 E">
                                      <p:cBhvr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1896 L 0.77483 0.00855 E">
                                      <p:cBhvr>
                                        <p:cTn id="374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0500"/>
                            </p:stCondLst>
                            <p:childTnLst>
                              <p:par>
                                <p:cTn id="3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93064E-006 L -0.54653 -0.54127 E">
                                      <p:cBhvr>
                                        <p:cTn id="377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1500"/>
                            </p:stCondLst>
                            <p:childTnLst>
                              <p:par>
                                <p:cTn id="3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0.5033 0.46798 E">
                                      <p:cBhvr>
                                        <p:cTn id="380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2500"/>
                            </p:stCondLst>
                            <p:childTnLst>
                              <p:par>
                                <p:cTn id="3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83 0.04855 L -0.74132 0.45757 E">
                                      <p:cBhvr>
                                        <p:cTn id="383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3500"/>
                            </p:stCondLst>
                            <p:childTnLst>
                              <p:par>
                                <p:cTn id="3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93064E-006 L 0.29479 -0.53086 E">
                                      <p:cBhvr>
                                        <p:cTn id="386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45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0.0104 L -0.29549 -0.61734 E">
                                      <p:cBhvr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5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6" descr="1222876161_o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336536078.jpg"/>
          <p:cNvPicPr/>
          <p:nvPr/>
        </p:nvPicPr>
        <p:blipFill>
          <a:blip r:embed="rId2">
            <a:lum contrast="40000"/>
          </a:blip>
          <a:stretch/>
        </p:blipFill>
        <p:spPr>
          <a:xfrm flipH="1">
            <a:off x="0" y="535788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162.gif"/>
          <p:cNvPicPr/>
          <p:nvPr/>
        </p:nvPicPr>
        <p:blipFill>
          <a:blip r:embed="rId3"/>
          <a:stretch/>
        </p:blipFill>
        <p:spPr>
          <a:xfrm>
            <a:off x="9429840" y="2714760"/>
            <a:ext cx="128592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543375114.jpg"/>
          <p:cNvPicPr/>
          <p:nvPr/>
        </p:nvPicPr>
        <p:blipFill>
          <a:blip r:embed="rId4"/>
          <a:stretch/>
        </p:blipFill>
        <p:spPr>
          <a:xfrm>
            <a:off x="714240" y="-1474920"/>
            <a:ext cx="2048040" cy="1474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543375114.jpg"/>
          <p:cNvPicPr/>
          <p:nvPr/>
        </p:nvPicPr>
        <p:blipFill>
          <a:blip r:embed="rId5"/>
          <a:stretch/>
        </p:blipFill>
        <p:spPr>
          <a:xfrm>
            <a:off x="3643200" y="-1474920"/>
            <a:ext cx="2048040" cy="1474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543375114.jpg"/>
          <p:cNvPicPr/>
          <p:nvPr/>
        </p:nvPicPr>
        <p:blipFill>
          <a:blip r:embed="rId6"/>
          <a:stretch/>
        </p:blipFill>
        <p:spPr>
          <a:xfrm>
            <a:off x="6357960" y="-1474920"/>
            <a:ext cx="2047680" cy="1474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9" descr="160.gif"/>
          <p:cNvPicPr/>
          <p:nvPr/>
        </p:nvPicPr>
        <p:blipFill>
          <a:blip r:embed="rId7"/>
          <a:stretch/>
        </p:blipFill>
        <p:spPr>
          <a:xfrm>
            <a:off x="-1297080" y="2000160"/>
            <a:ext cx="1297080" cy="1656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4" descr="261.gif"/>
          <p:cNvPicPr/>
          <p:nvPr/>
        </p:nvPicPr>
        <p:blipFill>
          <a:blip r:embed="rId8"/>
          <a:stretch/>
        </p:blipFill>
        <p:spPr>
          <a:xfrm>
            <a:off x="3786120" y="571680"/>
            <a:ext cx="1903320" cy="125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Ирина\AppData\Local\Microsoft\Windows\Temporary Internet Files\Content.IE5\3A504I4W\MMj03365930000[1].gif"/>
          <p:cNvPicPr/>
          <p:nvPr/>
        </p:nvPicPr>
        <p:blipFill>
          <a:blip r:embed="rId9"/>
          <a:stretch/>
        </p:blipFill>
        <p:spPr>
          <a:xfrm>
            <a:off x="6357960" y="285840"/>
            <a:ext cx="3432240" cy="16095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3" descr="63.gif"/>
          <p:cNvPicPr/>
          <p:nvPr/>
        </p:nvPicPr>
        <p:blipFill>
          <a:blip r:embed="rId10"/>
          <a:stretch/>
        </p:blipFill>
        <p:spPr>
          <a:xfrm>
            <a:off x="214200" y="7143840"/>
            <a:ext cx="19288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20" name="Группа 25"/>
          <p:cNvGrpSpPr/>
          <p:nvPr/>
        </p:nvGrpSpPr>
        <p:grpSpPr>
          <a:xfrm>
            <a:off x="1357200" y="4714920"/>
            <a:ext cx="785880" cy="2143080"/>
            <a:chOff x="1357200" y="4714920"/>
            <a:chExt cx="785880" cy="2143080"/>
          </a:xfrm>
        </p:grpSpPr>
        <p:pic>
          <p:nvPicPr>
            <p:cNvPr id="121" name="Овал 20" descr=""/>
            <p:cNvPicPr/>
            <p:nvPr/>
          </p:nvPicPr>
          <p:blipFill>
            <a:blip r:embed="rId11"/>
            <a:stretch/>
          </p:blipFill>
          <p:spPr>
            <a:xfrm>
              <a:off x="1357200" y="6053760"/>
              <a:ext cx="78588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Овал 21" descr=""/>
            <p:cNvPicPr/>
            <p:nvPr/>
          </p:nvPicPr>
          <p:blipFill>
            <a:blip r:embed="rId12"/>
            <a:stretch/>
          </p:blipFill>
          <p:spPr>
            <a:xfrm>
              <a:off x="1427400" y="5279040"/>
              <a:ext cx="6451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Овал 24" descr=""/>
            <p:cNvPicPr/>
            <p:nvPr/>
          </p:nvPicPr>
          <p:blipFill>
            <a:blip r:embed="rId13"/>
            <a:stretch/>
          </p:blipFill>
          <p:spPr>
            <a:xfrm>
              <a:off x="1497960" y="4714920"/>
              <a:ext cx="510120" cy="5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Группа 26"/>
          <p:cNvGrpSpPr/>
          <p:nvPr/>
        </p:nvGrpSpPr>
        <p:grpSpPr>
          <a:xfrm>
            <a:off x="6858000" y="4714920"/>
            <a:ext cx="785880" cy="2143080"/>
            <a:chOff x="6858000" y="4714920"/>
            <a:chExt cx="785880" cy="2143080"/>
          </a:xfrm>
        </p:grpSpPr>
        <p:pic>
          <p:nvPicPr>
            <p:cNvPr id="125" name="Овал 27" descr=""/>
            <p:cNvPicPr/>
            <p:nvPr/>
          </p:nvPicPr>
          <p:blipFill>
            <a:blip r:embed="rId14"/>
            <a:stretch/>
          </p:blipFill>
          <p:spPr>
            <a:xfrm>
              <a:off x="6858000" y="6053760"/>
              <a:ext cx="78588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Овал 28" descr=""/>
            <p:cNvPicPr/>
            <p:nvPr/>
          </p:nvPicPr>
          <p:blipFill>
            <a:blip r:embed="rId15"/>
            <a:stretch/>
          </p:blipFill>
          <p:spPr>
            <a:xfrm>
              <a:off x="6922800" y="5279040"/>
              <a:ext cx="6559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Овал 29" descr=""/>
            <p:cNvPicPr/>
            <p:nvPr/>
          </p:nvPicPr>
          <p:blipFill>
            <a:blip r:embed="rId16"/>
            <a:stretch/>
          </p:blipFill>
          <p:spPr>
            <a:xfrm>
              <a:off x="6993720" y="4714920"/>
              <a:ext cx="514080" cy="52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34" descr="162.gif"/>
          <p:cNvPicPr/>
          <p:nvPr/>
        </p:nvPicPr>
        <p:blipFill>
          <a:blip r:embed="rId17"/>
          <a:stretch/>
        </p:blipFill>
        <p:spPr>
          <a:xfrm>
            <a:off x="3643200" y="2166840"/>
            <a:ext cx="2000520" cy="2222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5" descr="1222876161_o.jpg"/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0" descr="riba.png"/>
          <p:cNvPicPr/>
          <p:nvPr/>
        </p:nvPicPr>
        <p:blipFill>
          <a:blip r:embed="rId19"/>
          <a:stretch/>
        </p:blipFill>
        <p:spPr>
          <a:xfrm>
            <a:off x="-2357280" y="2000160"/>
            <a:ext cx="1714320" cy="187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Ирина\Pictures\Организатор клипов (Microsoft)\j0212943.wmf"/>
          <p:cNvPicPr/>
          <p:nvPr/>
        </p:nvPicPr>
        <p:blipFill>
          <a:blip r:embed="rId20"/>
          <a:stretch/>
        </p:blipFill>
        <p:spPr>
          <a:xfrm>
            <a:off x="9501120" y="428760"/>
            <a:ext cx="1833480" cy="16714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1" descr="336536078.jpg"/>
          <p:cNvPicPr/>
          <p:nvPr/>
        </p:nvPicPr>
        <p:blipFill>
          <a:blip r:embed="rId21"/>
          <a:stretch/>
        </p:blipFill>
        <p:spPr>
          <a:xfrm>
            <a:off x="7143840" y="214200"/>
            <a:ext cx="1690560" cy="1690920"/>
          </a:xfrm>
          <a:prstGeom prst="rect">
            <a:avLst/>
          </a:prstGeom>
          <a:ln w="0">
            <a:noFill/>
          </a:ln>
        </p:spPr>
      </p:pic>
      <p:pic>
        <p:nvPicPr>
          <p:cNvPr id="133" name="eloy_pene.mp3" descr=""/>
          <p:cNvPicPr/>
          <p:nvPr/>
        </p:nvPicPr>
        <p:blipFill>
          <a:blip r:embed="rId2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4 L -0.00018 -0.78886 L 0.8276 -0.78886 L 0.8276 -0.00024 L -0.00018 -0.00024 Z">
                                      <p:cBhvr>
                                        <p:cTn id="40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23 L 0.98507 -0.97847 E">
                                      <p:cBhvr>
                                        <p:cTn id="40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5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-0.76718 4.81481E-006 L -0.76718 0.72384 L -3.88889E-006 0.72384 L -3.88889E-006 4.81481E-006 Z">
                                      <p:cBhvr>
                                        <p:cTn id="41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L -1.02379 0.98703 E">
                                      <p:cBhvr>
                                        <p:cTn id="419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1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1" nodeType="afterEffect" fill="hold" presetClass="path" presetID="12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22222E-006 1.57262E-007 C -0.12396 0.216 -0.31025 0.35199 -0.51736 0.35199 C -0.72413 0.35199 -0.91059 0.216 -1.03438 1.57262E-007 C -0.91059 -0.21624 -0.72413 -0.35222 -0.51754 -0.35222 C -0.31042 -0.35222 -0.12396 -0.21624 0.01128 0.01827 E">
                                      <p:cBhvr>
                                        <p:cTn id="43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4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5255 C 2.5E-006 -0.14282 0.12153 -0.30232 0.26892 -0.30232 C 0.44305 -0.30232 0.50625 -0.125 0.53281 -0.01875 L 0.55972 0.12315 C 0.58698 0.22986 0.65399 0.4081 0.85104 0.4081 C 0.97691 0.4081 1.12083 0.24699 1.12083 0.05255 C 1.12083 -0.14282 0.97691 -0.30232 0.85104 -0.30232 C 0.65399 -0.30232 0.58698 -0.125 0.55972 -0.01875 L 0.53281 0.12315 C 0.50625 0.22986 0.44305 0.4081 0.26892 0.4081 C 0.12153 0.4081 2.5E-006 0.24699 2.5E-006 0.05255 Z">
                                      <p:cBhvr>
                                        <p:cTn id="435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7000"/>
                            </p:stCondLst>
                            <p:childTnLst>
                              <p:par>
                                <p:cTn id="4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5255 L 1.40434 0.05093 E">
                                      <p:cBhvr>
                                        <p:cTn id="43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2000"/>
                            </p:stCondLst>
                            <p:childTnLst>
                              <p:par>
                                <p:cTn id="445" nodeType="afterEffect" fill="hold" presetClass="path" presetID="2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11124 C -1.11111E-006 0.00602 -0.07587 -0.07909 -0.16771 -0.07909 L -0.55503 -0.07909 C -0.64705 -0.07909 -0.72153 0.00602 -0.72153 0.11124 L -0.72153 0.5451 C -0.72153 0.65056 -0.64705 0.73913 -0.55503 0.73913 L -0.16771 0.73913 C -0.07587 0.73913 -1.11111E-006 0.65056 -1.11111E-006 0.5451 Z">
                                      <p:cBhvr>
                                        <p:cTn id="446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8000"/>
                            </p:stCondLst>
                            <p:childTnLst>
                              <p:par>
                                <p:cTn id="44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3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1000"/>
                            </p:stCondLst>
                            <p:childTnLst>
                              <p:par>
                                <p:cTn id="4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4792E-006 L -0.00382 1.02636 E">
                                      <p:cBhvr>
                                        <p:cTn id="454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000"/>
                            </p:stCondLst>
                            <p:childTnLst>
                              <p:par>
                                <p:cTn id="4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8557 L -0.00261 0.9408 E">
                                      <p:cBhvr>
                                        <p:cTn id="45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000"/>
                            </p:stCondLst>
                            <p:childTnLst>
                              <p:par>
                                <p:cTn id="4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-0.00017 0.96435 E">
                                      <p:cBhvr>
                                        <p:cTn id="4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7000"/>
                            </p:stCondLst>
                            <p:childTnLst>
                              <p:par>
                                <p:cTn id="462" nodeType="after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10474 C 0.09305 0.10544 0.02604 0.18867 0.10086 0.10729 C 0.17569 0.02705 0.38784 -0.37572 0.54027 -0.37734 C 0.54027 -0.11191 0.76475 0.09781 1.01527 0.09781 C 0.76475 0.09781 0.54409 0.31908 0.54409 0.58705 C 0.54409 0.31908 0.23507 0.07214 -0.004 0.08532 E">
                                      <p:cBhvr>
                                        <p:cTn id="463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51445E-007 L 0.00885 -1.37202 E">
                                      <p:cBhvr>
                                        <p:cTn id="47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4000"/>
                            </p:stCondLst>
                            <p:childTnLst>
                              <p:par>
                                <p:cTn id="4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99 -1.4051 L 0.37899 -0.05672 E">
                                      <p:cBhvr>
                                        <p:cTn id="48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6000"/>
                            </p:stCondLst>
                            <p:childTnLst>
                              <p:par>
                                <p:cTn id="48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351 -0.01387 L 0.74132 -1.38243 E">
                                      <p:cBhvr>
                                        <p:cTn id="48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800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9000"/>
                            </p:stCondLst>
                            <p:childTnLst>
                              <p:par>
                                <p:cTn id="492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07407E-006 C 0.21267 4.07407E-006 0.38628 0.18356 0.38628 0.40902 C 0.38628 0.63379 0.21267 0.81759 2.22222E-006 0.81759 C -0.21268 0.81759 -0.38542 0.63379 -0.38542 0.40902 C -0.38542 0.18356 -0.21268 4.07407E-006 2.22222E-006 4.07407E-006 Z">
                                      <p:cBhvr>
                                        <p:cTn id="493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5000"/>
                            </p:stCondLst>
                            <p:childTnLst>
                              <p:par>
                                <p:cTn id="4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6000"/>
                            </p:stCondLst>
                            <p:childTnLst>
                              <p:par>
                                <p:cTn id="5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502" dur="933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8799"/>
                            </p:stCondLst>
                            <p:childTnLst>
                              <p:par>
                                <p:cTn id="5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40741E-007 L -1.32431 0.00069 E">
                                      <p:cBhvr>
                                        <p:cTn id="505" dur="31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71899"/>
                            </p:stCondLst>
                            <p:childTnLst>
                              <p:par>
                                <p:cTn id="5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42 -0.27223 C -0.08074 -0.275 -0.09167 -0.27755 -0.10921 -0.27917 C -0.14723 -0.27709 -0.18369 -0.27107 -0.22101 -0.26528 C -0.22587 -0.26297 -0.23074 -0.26181 -0.23508 -0.25834 C -0.25574 -0.24075 -0.22796 -0.25463 -0.24515 -0.247 C -0.25626 -0.23241 -0.26928 -0.21829 -0.27813 -0.20116 C -0.28265 -0.18264 -0.27587 -0.20417 -0.28508 -0.1919 C -0.28612 -0.19028 -0.28594 -0.18704 -0.28681 -0.18496 C -0.2882 -0.18102 -0.29011 -0.17732 -0.29185 -0.17338 C -0.29879 -0.15649 -0.30452 -0.13889 -0.31251 -0.12292 C -0.31633 -0.10764 -0.31824 -0.09237 -0.32119 -0.07686 C -0.32258 -0.05718 -0.3257 -0.03889 -0.32796 -0.01945 C -0.33004 0.0206 -0.32865 0.03958 -0.33664 0.07245 C -0.33837 0.08773 -0.34063 0.09444 -0.34688 0.10694 C -0.35018 0.12314 -0.34619 0.11064 -0.3573 0.12546 C -0.35956 0.12824 -0.36042 0.13217 -0.36251 0.13449 C -0.3639 0.13587 -0.37396 0.13888 -0.37449 0.13912 C -0.38907 0.14467 -0.40174 0.14583 -0.41754 0.14837 C -0.43994 0.14652 -0.46285 0.14768 -0.4849 0.14143 C -0.50209 0.13657 -0.51789 0.12708 -0.53508 0.12314 C -0.55261 0.11111 -0.56546 0.11805 -0.58681 0.12083 C -0.60226 0.125 -0.58994 0.12916 -0.60574 0.13217 C -0.61893 0.13472 -0.64515 0.13912 -0.64515 0.13912 C -0.66667 0.14861 -0.69028 0.14629 -0.71268 0.14837 C -0.73039 0.16041 -0.73994 0.17847 -0.754 0.19652 C -0.75678 0.20856 -0.76233 0.21898 -0.76581 0.23101 C -0.76806 0.26574 -0.7698 0.30231 -0.76424 0.3368 C -0.76233 0.34953 -0.75765 0.36319 -0.75574 0.37592 C -0.75765 0.42337 -0.75556 0.46967 -0.78681 0.5 C -0.79428 0.51597 -0.80365 0.53425 -0.81754 0.53912 C -0.82414 0.55231 -0.81737 0.54143 -0.82622 0.54837 C -0.83837 0.55763 -0.8349 0.55694 -0.85053 0.55995 C -0.86181 0.56944 -0.84983 0.56018 -0.87119 0.57129 C -0.88421 0.578 -0.89358 0.58449 -0.90747 0.5875 C -0.92153 0.6 -0.93664 0.59189 -0.95226 0.58981 C -0.97952 0.58611 -1.00747 0.5831 -1.03508 0.58055 C -1.06997 0.5824 -1.10261 0.58541 -1.13664 0.59444 C -1.14688 0.61527 -1.13126 0.5868 -1.14688 0.60347 C -1.14827 0.60509 -1.14706 0.60902 -1.14862 0.61041 C -1.15261 0.61388 -1.15799 0.61296 -1.16251 0.61504 C -1.16511 0.62546 -1.16372 0.62708 -1.17101 0.63333 C -1.18022 0.65185 -1.16806 0.62939 -1.17969 0.6449 C -1.18369 0.65023 -1.18647 0.65717 -1.18994 0.66319 C -1.19115 0.66782 -1.19219 0.67245 -1.19341 0.67708 C -1.19497 0.68333 -1.20383 0.69097 -1.20383 0.69097 C -1.20539 0.6993 -1.2073 0.70763 -1.2073 0.7162 E">
                                      <p:cBhvr>
                                        <p:cTn id="50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6899"/>
                            </p:stCondLst>
                            <p:childTnLst>
                              <p:par>
                                <p:cTn id="5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57824 L -1.3007 0.58866 E">
                                      <p:cBhvr>
                                        <p:cTn id="511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9899"/>
                            </p:stCondLst>
                            <p:childTnLst>
                              <p:par>
                                <p:cTn id="513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81899"/>
                            </p:stCondLst>
                            <p:childTnLst>
                              <p:par>
                                <p:cTn id="518" nodeType="afterEffect" fill="hold" presetClass="entr" presetID="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3999"/>
                            </p:stCondLst>
                            <p:childTnLst>
                              <p:par>
                                <p:cTn id="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4999"/>
                            </p:stCondLst>
                            <p:childTnLst>
                              <p:par>
                                <p:cTn id="5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5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7999"/>
                            </p:stCondLst>
                            <p:childTnLst>
                              <p:par>
                                <p:cTn id="531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8499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etskie_pesni_-_pesenka_o_lete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" descr="50518004ba82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Картинка 171 из 204"/>
          <p:cNvPicPr/>
          <p:nvPr/>
        </p:nvPicPr>
        <p:blipFill>
          <a:blip r:embed="rId3"/>
          <a:stretch/>
        </p:blipFill>
        <p:spPr>
          <a:xfrm>
            <a:off x="571680" y="455292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Картинка 171 из 204"/>
          <p:cNvPicPr/>
          <p:nvPr/>
        </p:nvPicPr>
        <p:blipFill>
          <a:blip r:embed="rId4"/>
          <a:stretch/>
        </p:blipFill>
        <p:spPr>
          <a:xfrm>
            <a:off x="4643280" y="3000240"/>
            <a:ext cx="1467000" cy="1805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Картинка 171 из 204"/>
          <p:cNvPicPr/>
          <p:nvPr/>
        </p:nvPicPr>
        <p:blipFill>
          <a:blip r:embed="rId5"/>
          <a:stretch/>
        </p:blipFill>
        <p:spPr>
          <a:xfrm flipH="1">
            <a:off x="7000560" y="36432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Картинка 171 из 204"/>
          <p:cNvPicPr/>
          <p:nvPr/>
        </p:nvPicPr>
        <p:blipFill>
          <a:blip r:embed="rId6"/>
          <a:stretch/>
        </p:blipFill>
        <p:spPr>
          <a:xfrm flipH="1">
            <a:off x="213840" y="3071880"/>
            <a:ext cx="1236600" cy="1366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чёлка"/>
          <p:cNvPicPr/>
          <p:nvPr/>
        </p:nvPicPr>
        <p:blipFill>
          <a:blip r:embed="rId7"/>
          <a:stretch/>
        </p:blipFill>
        <p:spPr>
          <a:xfrm>
            <a:off x="-1332000" y="981000"/>
            <a:ext cx="99396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Картинка 15 из 21"/>
          <p:cNvPicPr/>
          <p:nvPr/>
        </p:nvPicPr>
        <p:blipFill>
          <a:blip r:embed="rId8"/>
          <a:stretch/>
        </p:blipFill>
        <p:spPr>
          <a:xfrm>
            <a:off x="9468000" y="1052640"/>
            <a:ext cx="194436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9" descr="Ins08.gif"/>
          <p:cNvPicPr/>
          <p:nvPr/>
        </p:nvPicPr>
        <p:blipFill>
          <a:blip r:embed="rId9"/>
          <a:stretch/>
        </p:blipFill>
        <p:spPr>
          <a:xfrm>
            <a:off x="3286080" y="4429080"/>
            <a:ext cx="2798640" cy="21225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DOVE2.gif"/>
          <p:cNvPicPr/>
          <p:nvPr/>
        </p:nvPicPr>
        <p:blipFill>
          <a:blip r:embed="rId10"/>
          <a:stretch/>
        </p:blipFill>
        <p:spPr>
          <a:xfrm>
            <a:off x="8643960" y="785880"/>
            <a:ext cx="2765520" cy="2043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1" descr="DOVE2.gif"/>
          <p:cNvPicPr/>
          <p:nvPr/>
        </p:nvPicPr>
        <p:blipFill>
          <a:blip r:embed="rId11"/>
          <a:stretch/>
        </p:blipFill>
        <p:spPr>
          <a:xfrm flipH="1">
            <a:off x="-1643040" y="571680"/>
            <a:ext cx="2509920" cy="2043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5" descr="j0438023.png"/>
          <p:cNvPicPr/>
          <p:nvPr/>
        </p:nvPicPr>
        <p:blipFill>
          <a:blip r:embed="rId12"/>
          <a:stretch/>
        </p:blipFill>
        <p:spPr>
          <a:xfrm>
            <a:off x="-2743200" y="4500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6" descr="j0432587.png"/>
          <p:cNvPicPr/>
          <p:nvPr/>
        </p:nvPicPr>
        <p:blipFill>
          <a:blip r:embed="rId13"/>
          <a:stretch/>
        </p:blipFill>
        <p:spPr>
          <a:xfrm>
            <a:off x="714240" y="428760"/>
            <a:ext cx="2772000" cy="27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14"/>
          <a:stretch/>
        </p:blipFill>
        <p:spPr>
          <a:xfrm>
            <a:off x="-1476360" y="2997360"/>
            <a:ext cx="1476360" cy="1079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B_Fly04"/>
          <p:cNvPicPr/>
          <p:nvPr/>
        </p:nvPicPr>
        <p:blipFill>
          <a:blip r:embed="rId15"/>
          <a:stretch/>
        </p:blipFill>
        <p:spPr>
          <a:xfrm>
            <a:off x="-1765440" y="2060640"/>
            <a:ext cx="1765440" cy="100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пчёлка"/>
          <p:cNvPicPr/>
          <p:nvPr/>
        </p:nvPicPr>
        <p:blipFill>
          <a:blip r:embed="rId16"/>
          <a:stretch/>
        </p:blipFill>
        <p:spPr>
          <a:xfrm flipH="1">
            <a:off x="8072280" y="285840"/>
            <a:ext cx="857520" cy="753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пчёлка"/>
          <p:cNvPicPr/>
          <p:nvPr/>
        </p:nvPicPr>
        <p:blipFill>
          <a:blip r:embed="rId17"/>
          <a:stretch/>
        </p:blipFill>
        <p:spPr>
          <a:xfrm>
            <a:off x="214200" y="214200"/>
            <a:ext cx="785880" cy="790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пчёлка"/>
          <p:cNvPicPr/>
          <p:nvPr/>
        </p:nvPicPr>
        <p:blipFill>
          <a:blip r:embed="rId18"/>
          <a:stretch/>
        </p:blipFill>
        <p:spPr>
          <a:xfrm flipH="1">
            <a:off x="7897320" y="6119640"/>
            <a:ext cx="1143000" cy="1006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пчёлка"/>
          <p:cNvPicPr/>
          <p:nvPr/>
        </p:nvPicPr>
        <p:blipFill>
          <a:blip r:embed="rId19"/>
          <a:stretch/>
        </p:blipFill>
        <p:spPr>
          <a:xfrm>
            <a:off x="214200" y="6215040"/>
            <a:ext cx="785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508 C 0.00486 0.0037 0.00313 0.0074 0.0099 0.01341 C 0.01129 0.02289 0.01076 0.03283 0.01302 0.04208 C 0.01372 0.04486 0.01632 0.04601 0.01754 0.04833 C 0.01892 0.05087 0.01962 0.05364 0.02066 0.05642 C 0.02118 0.05919 0.02083 0.06243 0.02222 0.06474 C 0.02326 0.06636 0.02587 0.06497 0.02674 0.06682 C 0.0283 0.07052 0.02743 0.07515 0.0283 0.07908 C 0.03004 0.0874 0.03125 0.08902 0.03455 0.09549 C 0.03819 0.11145 0.03212 0.08925 0.04219 0.10775 C 0.05156 0.12509 0.03559 0.10821 0.04826 0.12 C 0.04931 0.12347 0.04965 0.1274 0.05139 0.13018 C 0.05295 0.13249 0.05625 0.13179 0.05747 0.13434 C 0.07292 0.1674 0.04722 0.13087 0.06372 0.15283 C 0.06424 0.15769 0.06441 0.16255 0.06528 0.16717 C 0.06649 0.17341 0.06979 0.18567 0.06979 0.1859 C 0.07344 0.22821 0.06754 0.18729 0.07604 0.21226 C 0.08004 0.22382 0.07726 0.22729 0.08368 0.23885 C 0.08542 0.24671 0.08611 0.25572 0.08819 0.26336 C 0.0908 0.2726 0.09583 0.28116 0.09913 0.28994 C 0.10052 0.30081 0.09896 0.30497 0.10677 0.30844 C 0.10799 0.31399 0.1099 0.32971 0.11146 0.33318 C 0.1125 0.33596 0.11545 0.33711 0.11736 0.33919 C 0.12274 0.34983 0.11927 0.35399 0.12674 0.36393 C 0.12934 0.3859 0.13004 0.39908 0.1375 0.41919 C 0.14375 0.437 0.13559 0.43145 0.14514 0.43561 C 0.14757 0.44601 0.15347 0.44509 0.16042 0.44994 C 0.16719 0.46289 0.15885 0.44948 0.17274 0.45804 C 0.17483 0.45919 0.17552 0.46289 0.17726 0.46428 C 0.18403 0.46867 0.19757 0.4696 0.20504 0.47237 C 0.20625 0.4696 0.20747 0.46705 0.20833 0.46428 C 0.20903 0.46151 0.20868 0.45827 0.2099 0.45596 C 0.21076 0.45388 0.21285 0.45364 0.21441 0.45203 C 0.21615 0.45018 0.21736 0.44786 0.2191 0.44578 C 0.22222 0.42937 0.23264 0.42544 0.24375 0.41919 C 0.25 0.41041 0.2566 0.40856 0.2651 0.40486 C 0.27587 0.38983 0.30191 0.38636 0.31736 0.37619 C 0.31945 0.37341 0.32118 0.36994 0.32344 0.36786 C 0.32604 0.36578 0.32917 0.36625 0.33125 0.36393 C 0.33247 0.36255 0.33142 0.35885 0.33281 0.35769 C 0.33507 0.35584 0.33785 0.3563 0.34045 0.35561 C 0.34427 0.34844 0.35052 0.33966 0.3559 0.33503 C 0.35816 0.33295 0.36129 0.33272 0.36372 0.3311 C 0.38212 0.31792 0.36945 0.32278 0.38212 0.31885 C 0.38941 0.31145 0.39462 0.30821 0.40365 0.30451 C 0.41406 0.29064 0.41979 0.28671 0.43438 0.28185 C 0.45156 0.27029 0.44392 0.27353 0.4559 0.2696 C 0.46076 0.25942 0.45781 0.26336 0.46962 0.25734 C 0.4842 0.24994 0.49844 0.24023 0.51285 0.23468 C 0.5184 0.23006 0.52743 0.22151 0.53455 0.21827 C 0.54462 0.21318 0.55642 0.21203 0.56684 0.20601 C 0.57622 0.20046 0.58594 0.19515 0.59601 0.19168 C 0.61771 0.1933 0.63872 0.19769 0.66059 0.2 C 0.67639 0.20463 0.66979 0.20231 0.68021 0.20601 C 0.68177 0.2074 0.68333 0.20902 0.68524 0.21018 C 0.68663 0.2111 0.68837 0.2111 0.68976 0.21226 C 0.69149 0.21388 0.69271 0.21665 0.69445 0.21827 C 0.69757 0.22151 0.70139 0.22336 0.70504 0.22659 C 0.71007 0.2363 0.7066 0.23769 0.7158 0.24093 C 0.72396 0.25133 0.71788 0.25249 0.7283 0.25942 C 0.73247 0.26682 0.73906 0.27283 0.74063 0.28185 C 0.74115 0.28532 0.7408 0.28925 0.74219 0.29203 C 0.74306 0.29388 0.74514 0.29341 0.74653 0.29411 C 0.74879 0.29619 0.75139 0.29757 0.75295 0.30035 C 0.76233 0.31769 0.74635 0.30081 0.75885 0.3126 C 0.76406 0.32208 0.76858 0.33249 0.77448 0.34127 C 0.77604 0.34359 0.77899 0.34312 0.78038 0.34544 C 0.78385 0.35075 0.78524 0.35838 0.7882 0.36393 C 0.79045 0.37457 0.79132 0.38567 0.79271 0.39653 C 0.79427 0.42451 0.79757 0.45388 0.78993 0.4807 C 0.78646 0.50775 0.78264 0.51145 0.76198 0.51769 C 0.76007 0.51862 0.75799 0.51977 0.75608 0.52139 C 0.75434 0.52301 0.75313 0.52625 0.75139 0.5274 C 0.74201 0.5348 0.73108 0.53827 0.72049 0.53989 C 0.69601 0.55353 0.68559 0.54659 0.65451 0.5422 C 0.64531 0.53942 0.63733 0.53457 0.62986 0.5274 C 0.62153 0.51214 0.61563 0.50775 0.60347 0.50104 C 0.60122 0.49318 0.59219 0.48162 0.58681 0.47653 C 0.58542 0.47376 0.58507 0.47029 0.58368 0.46821 C 0.58177 0.46613 0.57865 0.46659 0.5776 0.46428 C 0.5724 0.45619 0.57899 0.45272 0.56823 0.44786 C 0.56406 0.43099 0.56962 0.45203 0.55608 0.41919 C 0.54879 0.40208 0.55573 0.40694 0.54653 0.40278 C 0.54045 0.39145 0.53872 0.37827 0.53142 0.36786 C 0.52813 0.35584 0.52274 0.34497 0.5191 0.33318 C 0.51754 0.32 0.51424 0.31029 0.51146 0.29827 C 0.51007 0.29295 0.50833 0.28185 0.50833 0.28208 C 0.50451 0.24347 0.50538 0.20648 0.5191 0.17133 C 0.52066 0.16231 0.52274 0.15445 0.52656 0.14659 C 0.52726 0.14312 0.52674 0.13942 0.52813 0.13642 C 0.53021 0.13179 0.53507 0.13064 0.53733 0.12625 C 0.53872 0.1237 0.53872 0.12023 0.54063 0.11792 C 0.54219 0.11584 0.54462 0.11538 0.54653 0.11376 C 0.55538 0.10682 0.55712 0.10474 0.56684 0.10151 C 0.5816 0.08671 0.60955 0.0844 0.62813 0.08116 C 0.65226 0.08185 0.67726 0.07584 0.70052 0.08509 C 0.72326 0.09434 0.68524 0.0844 0.7158 0.09133 C 0.72222 0.10405 0.71528 0.09341 0.73142 0.09942 C 0.73455 0.10058 0.73733 0.10405 0.74063 0.10567 C 0.74306 0.10682 0.74566 0.10705 0.74826 0.10775 C 0.75122 0.11885 0.75833 0.11607 0.76667 0.11792 C 0.7684 0.11931 0.77014 0.12046 0.77118 0.12208 C 0.7724 0.1237 0.77292 0.12671 0.77448 0.12809 C 0.78108 0.13411 0.79132 0.14058 0.79913 0.14451 C 0.80451 0.15214 0.80938 0.15237 0.81597 0.15885 C 0.81771 0.1607 0.81892 0.16347 0.82066 0.16509 C 0.82656 0.17087 0.83403 0.17457 0.84063 0.17942 C 0.84844 0.18544 0.85504 0.19422 0.86354 0.19792 C 0.8691 0.20879 0.87917 0.22035 0.8882 0.22451 C 0.89549 0.23931 0.89167 0.2333 0.89913 0.24278 C 0.9026 0.25734 0.8974 0.23977 0.90521 0.25503 C 0.90729 0.25942 0.90573 0.26567 0.90833 0.2696 C 0.90955 0.27168 0.91215 0.27237 0.91441 0.27376 C 0.91493 0.27723 0.91441 0.28116 0.9158 0.28393 C 0.91806 0.28786 0.925 0.29203 0.925 0.29226 C 0.92986 0.30497 0.9342 0.31677 0.94045 0.32902 C 0.94149 0.3311 0.94254 0.33295 0.94358 0.33503 C 0.94479 0.33711 0.94479 0.34081 0.94653 0.34127 C 0.94913 0.34197 0.95174 0.34243 0.95451 0.34336 C 0.95729 0.34451 0.96372 0.34752 0.96372 0.34775 C 0.96632 0.33364 0.97031 0.33665 0.97743 0.32694 C 0.98316 0.29734 1.01788 0.28555 1.0375 0.28185 C 1.0434 0.2807 1.04983 0.28046 1.05608 0.27977 C 1.06389 0.27723 1.07135 0.27515 1.07899 0.27168 C 1.08524 0.26266 1.08906 0.26497 1.0974 0.26104 C 1.10625 0.25249 1.1151 0.24694 1.125 0.24093 C 1.13177 0.23677 1.13611 0.2326 1.14358 0.2326 E">
                                      <p:cBhvr>
                                        <p:cTn id="570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97688E-006 C -0.01181 -0.00508 -0.02327 -0.01063 -0.0349 -0.01687 C -0.04427 -0.0289 -0.03472 -0.01849 -0.05087 -0.02751 C -0.05816 -0.03167 -0.06302 -0.03976 -0.06997 -0.04439 C -0.07153 -0.04554 -0.08333 -0.04832 -0.0842 -0.04855 C -0.09705 -0.0571 -0.10174 -0.05618 -0.1191 -0.05918 C -0.13733 -0.06635 -0.14705 -0.06797 -0.16667 -0.06982 C -0.1875 -0.07398 -0.22292 -0.08716 -0.23663 -0.06127 C -0.24028 -0.04647 -0.23507 -0.06427 -0.24288 -0.04855 C -0.24497 -0.04416 -0.24393 -0.03791 -0.24601 -0.03375 C -0.24705 -0.03167 -0.24931 -0.03098 -0.25087 -0.02959 C -0.2592 -0.01248 -0.2625 0.00972 -0.26511 0.0296 C -0.26788 0.0511 -0.26389 0.04093 -0.26997 0.05295 C -0.27934 0.09041 -0.2809 0.13272 -0.28733 0.17134 C -0.28993 0.18683 -0.28958 0.19862 -0.29688 0.21134 C -0.29896 0.21966 -0.3 0.22821 -0.30156 0.23677 C -0.30104 0.2481 -0.30122 0.25943 -0.3 0.27053 C -0.29965 0.27376 -0.29774 0.27608 -0.29688 0.27908 C -0.29375 0.28995 -0.29375 0.2918 -0.29219 0.30243 C -0.29983 0.32671 -0.29254 0.317 -0.30156 0.31284 C -0.30469 0.31145 -0.30799 0.31145 -0.31111 0.31076 C -0.31788 0.30428 -0.32361 0.29873 -0.33177 0.29596 C -0.33333 0.29388 -0.33472 0.29134 -0.33663 0.28972 C -0.33906 0.28764 -0.34219 0.28764 -0.34445 0.28532 C -0.3533 0.27631 -0.36198 0.2622 -0.36997 0.25157 C -0.37257 0.2481 -0.37274 0.24116 -0.37622 0.23885 C -0.37934 0.23677 -0.38264 0.23469 -0.38577 0.23261 C -0.38768 0.2222 -0.39028 0.21943 -0.39688 0.21365 C -0.40052 0.19862 -0.39531 0.21527 -0.4033 0.20301 C -0.41042 0.19191 -0.41059 0.18451 -0.42066 0.1755 C -0.42379 0.15862 -0.41962 0.17457 -0.42708 0.1607 C -0.43108 0.1533 -0.43281 0.14267 -0.43663 0.13527 C -0.44271 0.12301 -0.45261 0.11353 -0.45886 0.10151 C -0.46476 0.09018 -0.46997 0.07584 -0.47465 0.06336 C -0.47535 0.06128 -0.47518 0.05873 -0.47622 0.05712 C -0.47795 0.05434 -0.48056 0.05295 -0.48264 0.05087 C -0.48681 0.03099 -0.48299 0.04001 -0.49375 0.02544 C -0.49583 0.02267 -0.49792 0.01966 -0.5 0.01688 C -0.50156 0.0148 -0.50486 0.01064 -0.50486 0.01064 C -0.51146 -0.00716 -0.50886 0.000699999999999999 -0.5191 -0.00832 C -0.52014 -0.0104 -0.52101 -0.01294 -0.52222 -0.01479 C -0.52518 -0.01918 -0.52934 -0.02242 -0.53177 -0.02751 C -0.53281 -0.02959 -0.53316 -0.03283 -0.5349 -0.03375 C -0.53993 -0.03653 -0.55087 -0.03791 -0.55087 -0.03791 C -0.56146 -0.03722 -0.57205 -0.03745 -0.58264 -0.03583 C -0.58542 -0.03537 -0.58785 -0.03283 -0.59045 -0.03167 C -0.59358 -0.03005 -0.6 -0.02751 -0.6 -0.02751 C -0.6092 -0.01918 -0.61945 -0.0141 -0.63021 -0.01063 C -0.63577 -0.00554 -0.63906 0.00093 -0.64445 0.00648 C -0.64757 0.03168 -0.64236 0.00995 -0.65243 0.02336 C -0.6559 0.02798 -0.65469 0.03423 -0.65886 0.03816 C -0.66111 0.04024 -0.66406 0.04093 -0.66667 0.04232 C -0.67274 0.05226 -0.67674 0.05735 -0.68577 0.06128 C -0.69705 0.07191 -0.70729 0.08694 -0.72066 0.09295 C -0.72587 0.10151 -0.72882 0.10891 -0.73663 0.11214 C -0.7408 0.11769 -0.74445 0.12209 -0.74774 0.12902 C -0.74861 0.13087 -0.74809 0.13365 -0.74931 0.13527 C -0.75087 0.13758 -0.75365 0.13781 -0.75556 0.13966 C -0.75799 0.14197 -0.7599 0.14521 -0.76198 0.14798 C -0.76406 0.15353 -0.7658 0.15954 -0.76823 0.16486 C -0.76962 0.16787 -0.77188 0.17018 -0.77309 0.17342 C -0.77691 0.1829 -0.77708 0.19353 -0.78264 0.20093 C -0.7849 0.20972 -0.78733 0.21781 -0.79045 0.22613 C -0.79375 0.24671 -0.79809 0.2666 -0.8 0.28764 C -0.79792 0.3207 -0.80035 0.35978 -0.78577 0.38891 C -0.78229 0.40324 -0.77761 0.41342 -0.76823 0.4229 C -0.75452 0.4555 -0.76927 0.42683 -0.75556 0.44186 C -0.74531 0.45295 -0.75972 0.44463 -0.74774 0.45041 C -0.74219 0.45758 -0.7382 0.45758 -0.73177 0.4629 C -0.72448 0.46891 -0.7191 0.47862 -0.71111 0.48209 C -0.70608 0.48879 -0.70365 0.49596 -0.69688 0.49897 C -0.69063 0.50729 -0.68577 0.51053 -0.67778 0.51584 C -0.66979 0.52671 -0.66198 0.53388 -0.65087 0.53688 C -0.64358 0.54983 -0.64045 0.54382 -0.63177 0.55399 C -0.61997 0.56787 -0.60712 0.5755 -0.59219 0.58128 C -0.58733 0.58313 -0.58264 0.58567 -0.57778 0.58775 C -0.56719 0.59214 -0.55677 0.59677 -0.54601 0.60047 C -0.53212 0.60532 -0.51754 0.60486 -0.5033 0.60671 C -0.48785 0.60347 -0.47257 0.60093 -0.45712 0.59839 C -0.45295 0.59631 -0.44827 0.59492 -0.44445 0.59191 C -0.42708 0.57781 -0.45486 0.59168 -0.43663 0.58359 C -0.43247 0.5792 -0.42708 0.57642 -0.42379 0.57087 C -0.42274 0.56902 -0.42344 0.56602 -0.42222 0.5644 C -0.41528 0.55584 -0.40747 0.54891 -0.4 0.54128 C -0.38698 0.51168 -0.37674 0.4807 -0.36823 0.4481 C -0.35556 0.39954 -0.3691 0.43816 -0.36042 0.41434 C -0.3592 0.36463 -0.35886 0.31769 -0.36354 0.26845 C -0.3684 0.21897 -0.37049 0.1718 -0.38733 0.12694 C -0.39063 0.10058 -0.3875 0.11816 -0.40156 0.07608 C -0.40399 0.06845 -0.40486 0.06012 -0.40799 0.05295 C -0.41024 0.04787 -0.41754 0.04024 -0.41754 0.04024 C -0.42205 0.02174 -0.42136 0.02752 -0.43021 0.0148 C -0.44011 0.00047 -0.44688 -0.01456 -0.45886 -0.02543 C -0.46771 -0.04878 -0.48802 -0.0608 -0.50486 -0.0719 C -0.50868 -0.07444 -0.51233 -0.07722 -0.51597 -0.08022 C -0.51823 -0.08207 -0.51979 -0.08508 -0.52222 -0.0867 C -0.53542 -0.09549 -0.54983 -0.10404 -0.56354 -0.1119 C -0.57691 -0.11953 -0.58611 -0.12947 -0.6 -0.13317 C -0.62379 -0.15329 -0.60087 -0.13733 -0.62708 -0.14589 C -0.6309 -0.14728 -0.6342 -0.15098 -0.6382 -0.15213 C -0.65139 -0.15629 -0.66893 -0.15884 -0.68264 -0.16069 C -0.71389 -0.17456 -0.74184 -0.16231 -0.76997 -0.15005 C -0.77465 -0.14589 -0.77986 -0.14427 -0.7842 -0.13942 C -0.79358 -0.12855 -0.78646 -0.13271 -0.79531 -0.12901 C -0.79792 -0.12624 -0.80035 -0.12277 -0.8033 -0.12046 C -0.80469 -0.1193 -0.8066 -0.11976 -0.80799 -0.11838 C -0.82222 -0.10427 -0.80972 -0.10982 -0.82222 -0.10566 C -0.82934 -0.09618 -0.83629 -0.08254 -0.84601 -0.07814 C -0.84809 -0.07537 -0.85 -0.07213 -0.85243 -0.06982 C -0.85434 -0.06797 -0.85712 -0.06774 -0.85886 -0.06543 C -0.86007 -0.06381 -0.8592 -0.0608 -0.86042 -0.05918 C -0.86372 -0.05479 -0.87465 -0.04439 -0.87934 -0.04231 C -0.88281 -0.03306 -0.8875 -0.02705 -0.89219 -0.01895 C -0.89653 -0.00184 -0.88993 -0.02219 -0.89844 -0.01063 C -0.89965 -0.00901 -0.89931 -0.00624 -0.9 -0.00416 C -0.90295 0.00347 -0.90382 0.00232 -0.90955 0.00648 C -0.91372 0.02336 -0.90729 0.00324 -0.91597 0.0148 C -0.91858 0.01827 -0.92101 0.02267 -0.92222 0.02752 C -0.92274 0.0296 -0.92274 0.03214 -0.92379 0.03376 C -0.92656 0.03839 -0.93333 0.04648 -0.93333 0.04648 C -0.93559 0.05596 -0.93368 0.05989 -0.94132 0.06336 C -0.9434 0.07723 -0.94965 0.08556 -0.95556 0.09735 C -0.95903 0.10428 -0.96077 0.11261 -0.96511 0.11839 C -0.97396 0.13018 -0.97952 0.14243 -0.98577 0.15654 C -0.98941 0.17596 -0.98646 0.16879 -0.99219 0.17966 C -0.99358 0.19168 -0.99722 0.20001 -1 0.21134 C -1.00382 0.24879 -1.0033 0.23261 -1.0033 0.26012 E">
                                      <p:cBhvr>
                                        <p:cTn id="573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9000"/>
                            </p:stCondLst>
                            <p:childTnLst>
                              <p:par>
                                <p:cTn id="5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6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38728E-006 L -1.25799 0.01596 E">
                                      <p:cBhvr>
                                        <p:cTn id="59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75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09249E-007 L 0.92934 -0.01064 E">
                                      <p:cBhvr>
                                        <p:cTn id="60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0.05295 L 0.26198 -0.15468 L 0.51319 0.08462 L 0.78958 -0.37202 L 1.27396 0.04324 L 1.29566 0.04832 E">
                                      <p:cBhvr>
                                        <p:cTn id="616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7500"/>
                            </p:stCondLst>
                            <p:childTnLst>
                              <p:par>
                                <p:cTn id="62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91 -0.03399 C 0.31111 -0.19422 0.52673 -0.18474 0.60625 -0.01896 C 0.68559 0.14682 0.59687 0.41225 0.40885 0.57225 C 0.22048 0.73248 0.00260000000000001 0.72786 -0.07691 0.56208 C -0.1566 0.39653 -0.06563 0.12624 0.13646 -0.02914 E">
                                      <p:cBhvr>
                                        <p:cTn id="62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2000"/>
                            </p:stCondLst>
                            <p:childTnLst>
                              <p:par>
                                <p:cTn id="636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21387E-006 C -8.33333E-007 0.16694 0.11059 0.30428 0.24549 0.30428 C 0.40434 0.30428 0.46181 0.15214 0.48594 0.06035 L 0.51076 -0.06058 C 0.53559 -0.15214 0.5967 -0.30405 0.77604 -0.30405 C 0.89115 -0.30405 1.0217 -0.16717 1.0217 -1.21387E-006 C 1.0217 0.16694 0.89115 0.30428 0.77604 0.30428 C 0.5967 0.30428 0.53559 0.15214 0.51076 0.06035 L 0.48594 -0.06058 C 0.46181 -0.15214 0.40434 -0.30405 0.24549 -0.30405 C 0.11059 -0.30405 -8.33333E-007 -0.16717 -8.33333E-007 -1.21387E-006 Z">
                                      <p:cBhvr>
                                        <p:cTn id="637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8000"/>
                            </p:stCondLst>
                            <p:childTnLst>
                              <p:par>
                                <p:cTn id="6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25434E-006 C 0.04497 -0.04832 0.09011 -0.09664 0.13803 -0.12277 C 0.18594 -0.1489 0.24271 -0.17086 0.28733 -0.15653 C 0.33195 -0.14219 0.37744 -0.04809 0.40626 -0.03607 C 0.43507 -0.02404 0.43455 -0.05086 0.46025 -0.08462 C 0.48594 -0.11838 0.52344 -0.21271 0.56025 -0.23884 C 0.59705 -0.26497 0.64323 -0.25341 0.68091 -0.24115 C 0.71858 -0.2289 0.76702 -0.19514 0.78577 -0.16485 C 0.80452 -0.13456 0.80938 -0.08347 0.79358 -0.05919 C 0.77778 -0.03491 0.71563 -0.03953 0.69046 -0.01919 C 0.66528 0.00116 0.67466 0.0333 0.64289 0.06336 C 0.61112 0.09341 0.52362 0.14127 0.50001 0.1607 C 0.47639 0.18012 0.50139 0.17688 0.50157 0.17966 E">
                                      <p:cBhvr>
                                        <p:cTn id="640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3000"/>
                            </p:stCondLst>
                            <p:childTnLst>
                              <p:par>
                                <p:cTn id="6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097 0.18127 C 0.51632 0.15399 0.49184 0.12694 0.48334 0.08439 C 0.47466 0.04185 0.48976 -0.03838 0.48959 -0.07376 C 0.48941 -0.10913 0.48993 -0.10705 0.48177 -0.12717 C 0.47344 -0.14728 0.46389 -0.17734 0.44011 -0.19445 C 0.41632 -0.21156 0.36233 -0.23353 0.33924 -0.23006 C 0.31615 -0.22636 0.31615 -0.20855 0.30104 -0.17272 C 0.28577 -0.13665 0.25781 -0.05549 0.24809 -0.01457 C 0.23854 0.02659 0.24531 0.04578 0.24323 0.07468 C 0.24115 0.10335 0.23663 0.13179 0.23542 0.15769 C 0.2342 0.18382 0.23542 0.21873 0.23542 0.23098 E">
                                      <p:cBhvr>
                                        <p:cTn id="643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8000"/>
                            </p:stCondLst>
                            <p:childTnLst>
                              <p:par>
                                <p:cTn id="6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542 0.23098 C 0.2533 0.18797 0.27153 0.14497 0.28872 0.09988 C 0.30573 0.05526 0.31216 0.00277 0.33889 -0.03885 C 0.36545 -0.08024 0.41233 -0.13318 0.44844 -0.14891 C 0.48507 -0.16486 0.52396 -0.13318 0.55695 -0.13411 C 0.59011 -0.13526 0.61858 -0.14474 0.64775 -0.15469 C 0.67691 -0.16486 0.71129 -0.20278 0.73247 -0.19584 C 0.75417 -0.18868 0.77188 -0.16 0.77656 -0.11145 C 0.78143 -0.06336 0.78125 0.05618 0.76268 0.09433 C 0.74393 0.13248 0.69566 0.12254 0.66528 0.11838 C 0.63455 0.11445 0.59479 0.09433 0.58056 0.06982 C 0.56597 0.04531 0.57587 0.003 0.57743 -0.02729 C 0.579 -0.05804 0.58542 -0.09318 0.58959 -0.11353 C 0.59462 -0.13411 0.58334 -0.13827 0.60556 -0.15099 C 0.62778 -0.1637 0.68698 -0.19029 0.72327 -0.19006 C 0.75938 -0.19006 0.80139 -0.17642 0.82379 -0.14891 C 0.84618 -0.12185 0.84827 -0.06359 0.85834 -0.02544 C 0.86858 0.01248 0.87275 0.04994 0.88507 0.07953 C 0.8974 0.10843 0.92917 0.12115 0.93212 0.15052 C 0.93507 0.17988 0.91684 0.23005 0.90226 0.25549 C 0.88768 0.28092 0.85382 0.29479 0.84427 0.30427 E">
                                      <p:cBhvr>
                                        <p:cTn id="646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3000"/>
                            </p:stCondLst>
                            <p:childTnLst>
                              <p:par>
                                <p:cTn id="6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428 0.30428 C 0.84341 0.18451 0.84271 0.06474 0.84428 -0.01272 C 0.84584 -0.09017 0.83976 -0.12717 0.85382 -0.16069 C 0.86789 -0.19422 0.88108 -0.22058 0.92848 -0.21364 C 0.97587 -0.2067 1.07969 -0.14173 1.13785 -0.11838 C 1.19601 -0.09503 1.23681 -0.08462 1.27761 -0.07399 E">
                                      <p:cBhvr>
                                        <p:cTn id="649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8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9000"/>
                            </p:stCondLst>
                            <p:childTnLst>
                              <p:par>
                                <p:cTn id="6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9827E-006 L -0.37795 0.41942 E">
                                      <p:cBhvr>
                                        <p:cTn id="65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1000"/>
                            </p:stCondLst>
                            <p:childTnLst>
                              <p:par>
                                <p:cTn id="658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2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63000"/>
                            </p:stCondLst>
                            <p:childTnLst>
                              <p:par>
                                <p:cTn id="6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0.0645 L 0.47309 0.44208 E">
                                      <p:cBhvr>
                                        <p:cTn id="66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5000"/>
                            </p:stCondLst>
                            <p:childTnLst>
                              <p:par>
                                <p:cTn id="670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66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67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89017E-007 L 0.39375 -0.43005 E">
                                      <p:cBhvr>
                                        <p:cTn id="68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69000"/>
                            </p:stCondLst>
                            <p:childTnLst>
                              <p:par>
                                <p:cTn id="682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1000"/>
                            </p:stCondLst>
                            <p:childTnLst>
                              <p:par>
                                <p:cTn id="6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27 -0.07722 L -0.379 -0.42335 E">
                                      <p:cBhvr>
                                        <p:cTn id="69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73000"/>
                            </p:stCondLst>
                            <p:childTnLst>
                              <p:par>
                                <p:cTn id="694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7:23:02Z</dcterms:created>
  <dc:creator>Ирина</dc:creator>
  <dc:description/>
  <dc:language>en-US</dc:language>
  <cp:lastModifiedBy>Ирина</cp:lastModifiedBy>
  <dcterms:modified xsi:type="dcterms:W3CDTF">2012-03-13T18:22:09Z</dcterms:modified>
  <cp:revision>101</cp:revision>
  <dc:subject/>
  <dc:title>Слайд 1</dc:title>
</cp:coreProperties>
</file>