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1C2E-B252-473D-B837-BF08D9A82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197E-63E5-4859-8181-7777AFC0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8BB5-AFA9-4274-B8AC-05E06DA5D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42EC-D1DA-4BC3-AF28-F7406E8F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F428-B9E0-45E9-864D-19B0A033F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00876-4503-467A-AD93-00B955A0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2E3C-CDBD-47B1-9839-0BB83B70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8BFC-881A-4465-8643-EDD8406B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9855-6EFA-4E9B-A02E-1665DEEA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C101-8C43-483F-9DF5-66FB9520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E6A4-3F7B-4580-8648-C4E6A7F2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28E8-A500-4DEA-9458-13DADB74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34DC-27B6-4D6B-A652-CF58B33E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F9FB-655B-4577-8ACC-84A7E990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AA38-85B4-4A1E-BAF5-B19091ED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37DF-21A1-4E7E-B4F4-812714D71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43D4-9121-4390-AEF2-5D1D6B59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FF33-F166-4D03-9293-866055CA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6303-ED3F-4143-B55E-B6721424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8859-7E17-418F-90EF-143ABA74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FFA6-2FC2-4880-8345-6C1C500E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334F-56CE-4352-87B3-07EB94D3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A0BF-8FD5-4FBE-83E2-8E28E44E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E12F-BA16-43E1-B19E-FB7FB037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E828-9A8F-4A96-A359-58C989005A5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DDC3-4E3F-494C-BD84-5C91754BC60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6600"/>
                </a:solidFill>
                <a:latin typeface="Verdana"/>
              </a:rPr>
              <a:t>Гармоничная личность - здоровая</a:t>
            </a:r>
            <a:br>
              <a:rPr sz="3800"/>
            </a:br>
            <a:r>
              <a:rPr b="0" lang="en-US" sz="3800" spc="-1" strike="noStrike">
                <a:solidFill>
                  <a:srgbClr val="996600"/>
                </a:solidFill>
                <a:latin typeface="Verdana"/>
              </a:rPr>
              <a:t>личность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995640" y="1916280"/>
          <a:ext cx="3748320" cy="49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916280"/>
                    <a:ext cx="3748320" cy="49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о определению ВОЗ - Всемирной Организации Здравоохранения - "Здоровье - это состояние полного физического, душевного и социального благополучия, а не только отсутствие болезней и физических дефектов . Духовная составляющая здоровья, включающая в себя способность "к созиданию добра, самосовершенствованию, милосердию и бескорыстной взаимопомощи, в частности..., способности к инновационному творчеству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116000" y="692280"/>
          <a:ext cx="6948360" cy="52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692280"/>
                    <a:ext cx="6948360" cy="52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Наша природа такова, что каждый в отпущенных ему пределах может научиться жить более гармоничн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6600"/>
                </a:solidFill>
                <a:latin typeface="Arial"/>
              </a:rPr>
              <a:t>Одним из важнейших принципов существования и динамики Мира</a:t>
            </a:r>
            <a:br>
              <a:rPr sz="3500"/>
            </a:br>
            <a:r>
              <a:rPr b="0" lang="en-US" sz="3500" spc="-1" strike="noStrike">
                <a:solidFill>
                  <a:srgbClr val="996600"/>
                </a:solidFill>
                <a:latin typeface="Arial"/>
              </a:rPr>
              <a:t>является </a:t>
            </a:r>
            <a:r>
              <a:rPr b="1" lang="en-US" sz="3500" spc="-1" strike="noStrike">
                <a:solidFill>
                  <a:srgbClr val="996600"/>
                </a:solidFill>
                <a:latin typeface="Arial"/>
              </a:rPr>
              <a:t>закон</a:t>
            </a:r>
            <a:r>
              <a:rPr b="0" lang="en-US" sz="35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996600"/>
                </a:solidFill>
                <a:latin typeface="Arial"/>
              </a:rPr>
              <a:t>гармонии,</a:t>
            </a:r>
            <a:r>
              <a:rPr b="0" lang="en-US" sz="3500" spc="-1" strike="noStrike">
                <a:solidFill>
                  <a:srgbClr val="996600"/>
                </a:solidFill>
                <a:latin typeface="Arial"/>
              </a:rPr>
              <a:t> который можно сформулировать следующим образом: любой предмет вечной и бесконечной Природы и сама она в целом стремятся к некоему оптимальному состоянию и функционированию.</a:t>
            </a:r>
            <a:r>
              <a:rPr b="0" lang="en-US" sz="2600" spc="-1" strike="noStrike">
                <a:solidFill>
                  <a:srgbClr val="9966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Гармони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это оптимальная статическая и динамическая согласованность частей, характеристик целого предмета и оптимальная соотнесенность предмета с окружающим внешним миром. Синонимами ей в какой-то степени служат понятия "равновесие", "упорядоченность", "сбалансированность", "пропорциональность", "соразмерность", "соотношение", "сочетание", "согласие" и др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нцип мировой гармонии известен с древнейших времен: гармония как единство в многообразии у Аристотеля, принцип Инь-Ян в Древнем Китае, принцип срединного пути или “золотой середины” в Древней Инд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человеческой личности закон гармонии проявляется, с одной стороны, в виде интуитивного стремления к установлению внутреннего баланса мотиваций, и, с другой стороны, в отыскании оптимальных соотношений своих желаний и установок с особенностями внешней окружающей среды. В конечном счете эти стремления призваны приводить нас к гармоничной жизнедеятельн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огласии с собой и с Ми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1128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смический смысл жизн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человека состоит в том,чтобы жить оптимально и творчески - в этом, если кратко, суть космического идеала жизн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*Понятия "Природа", "Мир", "Космос", "Универсум" рассматриваются как синоним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ичностью и рождаются, и становятся.</a:t>
            </a:r>
            <a:br>
              <a:rPr sz="3000"/>
            </a:b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сихологическая гармони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это комплексная характеристика человека, проявляющаяся и в его личности (т.е. в мотивации и эмоциональной сфере), и в психических процессах и способностях, и в поведении. 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Модель гармоничного соотношения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835280" y="2325600"/>
          <a:ext cx="4859280" cy="453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325600"/>
                    <a:ext cx="4859280" cy="45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996600"/>
                </a:solidFill>
                <a:uFillTx/>
                <a:latin typeface="Arial"/>
              </a:rPr>
              <a:t>Три группы общих критериев - признаков психологической гармоничности личности, ее состояния и жизнедеятельности</a:t>
            </a:r>
            <a:r>
              <a:rPr b="1" i="1" lang="en-US" sz="2800" spc="-1" strike="noStrike">
                <a:solidFill>
                  <a:srgbClr val="9966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1) согласие с собой и окружающим мир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2) адаптивно полезное, устойчивое, длительное, творческое и экономичное функционирование и развитие человека, других людей и окружающей природы в разнообразных жизненных сред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3) психологическое, физическое, социальное и духовное здоров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8:23:43Z</dcterms:created>
  <dc:creator>Короткова</dc:creator>
  <dc:description/>
  <dc:language>en-US</dc:language>
  <cp:lastModifiedBy>Admin</cp:lastModifiedBy>
  <dcterms:modified xsi:type="dcterms:W3CDTF">2012-02-25T18:20:31Z</dcterms:modified>
  <cp:revision>4</cp:revision>
  <dc:subject/>
  <dc:title>Слайд 1</dc:title>
</cp:coreProperties>
</file>