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B5DE-25CF-406A-995F-818DE37B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EA7A-F55D-42AB-B69D-B91E18D6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899B-ECCC-4399-B9FA-80710545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A94A-AEA6-4B4A-BB13-FD7E95EB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16EA-09DD-4FBE-9CD5-3638EFA3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2C22-B72D-482B-A7BD-D68701FE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6EC5-1BD6-4239-9864-B22D9173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604B-0B2C-41B9-B70A-CB71B601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7A5D-2D79-43BF-BF40-AB85BF15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4152-4C5A-498F-BCDD-1C0EB158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43FD-C9B1-44CF-89E0-D73AF343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8BE3-34E3-4F5C-B722-4FF8B969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E7ED-D1DE-4F5D-9736-38664444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F91C-C027-45F5-9999-EBEC4816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489E-7E5D-4CEC-B780-1B58AC1D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E8D5-A9BE-403D-892B-A86E0274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A56D-5909-4803-9AC7-6541D062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25AE2-30DC-4A76-9358-3003F358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187EF-135C-4284-A38A-69D9AD89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BAA7B-98C0-450B-987F-94498109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E3E8D-1E58-4810-808A-5B39A8D0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6B740-8499-4564-8C9C-47542FED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CF0F-E11C-45F5-8B18-A0B41981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0A355-3C64-4AB3-9578-5094083B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25ACD-AE33-4C5C-913B-A62B9423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E4958-D041-4CAB-BB48-1333C6D6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0F3CC-7972-4AB0-B8DB-E47BE56D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6B3BD-008B-4B92-B51B-FC3B02BC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DF6A4-0798-4CFF-BDCE-79E9F7A8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D7161-801A-46ED-9EC0-8C7287A8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FF309-FA74-4D42-917F-D441DB86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DD7DB-F0EF-4416-BD3E-B1C1A3C0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61E27-5F95-4E5D-B835-10F2DC8A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F2D8-500D-4C35-955B-0925BB18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DCF27-5BBD-4684-AFE3-2DC01F26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F50A4-047E-42FA-9287-EF568AEF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FCD9D-50C1-4322-8723-0C07C0E6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466B0-F0C3-438D-A785-4EF379B6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3CDD7-EB5E-42E7-BFE2-74C271F8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4DCF8-8D03-4D5C-8C76-09F6649C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90956-194B-4DF0-9571-B622F3FE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6E9C5-F6FC-4B6B-B403-E3DB7E9D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D2945-3E76-4049-9633-65A5BB0B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E384-ADCF-4F7E-822C-656A3158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65E-B549-4707-B1AB-7010D525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CC88-153F-43BB-80B5-B19F1792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27B0-8F73-424B-B866-45F3DA9B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44EF-8C24-46B2-84BD-48D49C8A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C25F-DFB6-41AB-889A-437E7B02CBF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8D32-B32A-40E8-8A39-C2F88DE46EB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144F-FC2D-449E-B96A-9C058CA36AF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354F-01ED-4C2F-B513-31AAEF53BE7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9040" y="-66600"/>
            <a:ext cx="7772400" cy="2485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340000" y="3428640"/>
            <a:ext cx="64008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шателя курсов повышения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валификации учителей математик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я МОУ СОШ № 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. Большая Мартыновк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ебенюк Надежды Алексеевны.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Calibri"/>
              </a:rPr>
              <a:t>Контрольная работа (1ч)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Calibri"/>
              </a:rPr>
              <a:t>Тема: Математический язык. Математическая модель.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Calibri"/>
              </a:rPr>
              <a:t>Л. А. Александрова. Под реакцией  А.Г.Мордковича. Алгебра.7 класс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. </a:t>
            </a:r>
            <a:br>
              <a:rPr sz="18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1. Найти значение числового выражения:  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А)2,8 – 3,1 – 4,9 + 4,2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Б)0,3 · 2/7 + 0,3·5/7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2. Решите уравнение: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А)2х + 3 = 0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Б)6х – 7 = 15 + 2х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3. Дан открытый луч с началом в точке  (– 9). Запишите обозначение, аналитическую и геометрическую модели данного числового промежутка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Сколько целых отрицательных чисел принадлежит этому промежутку? 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4. Упростите алгебраическое выражение и найдите его значение: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4(4с – 3) – (10с + 8) при с = 5/6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5. Решите задачу, выделяя три этапа математического моделирования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В книге 140 страниц. В пятницу Знайка прочитал в 1,2 раза меньше страниц, чем в субботу, и на 20 страниц больше, чем в воскресенье Сколько страниц прочитал Знайка в субботу?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3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254" name="Овал 18"/>
          <p:cNvGrpSpPr/>
          <p:nvPr/>
        </p:nvGrpSpPr>
        <p:grpSpPr>
          <a:xfrm>
            <a:off x="7596360" y="5553000"/>
            <a:ext cx="431640" cy="433440"/>
            <a:chOff x="7596360" y="5553000"/>
            <a:chExt cx="431640" cy="433440"/>
          </a:xfrm>
        </p:grpSpPr>
        <p:pic>
          <p:nvPicPr>
            <p:cNvPr id="255" name="Овал 18" descr=""/>
            <p:cNvPicPr/>
            <p:nvPr/>
          </p:nvPicPr>
          <p:blipFill>
            <a:blip r:embed="rId1"/>
            <a:stretch/>
          </p:blipFill>
          <p:spPr>
            <a:xfrm>
              <a:off x="7596360" y="5553000"/>
              <a:ext cx="43164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710480" y="563076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Равнобедренный треугольник 19"/>
          <p:cNvGrpSpPr/>
          <p:nvPr/>
        </p:nvGrpSpPr>
        <p:grpSpPr>
          <a:xfrm>
            <a:off x="3925800" y="1809720"/>
            <a:ext cx="426960" cy="433440"/>
            <a:chOff x="3925800" y="1809720"/>
            <a:chExt cx="426960" cy="433440"/>
          </a:xfrm>
        </p:grpSpPr>
        <p:pic>
          <p:nvPicPr>
            <p:cNvPr id="258" name="Равнобедренный треугольник 19" descr=""/>
            <p:cNvPicPr/>
            <p:nvPr/>
          </p:nvPicPr>
          <p:blipFill>
            <a:blip r:embed="rId2"/>
            <a:stretch/>
          </p:blipFill>
          <p:spPr>
            <a:xfrm>
              <a:off x="3925800" y="1809720"/>
              <a:ext cx="42696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4067280" y="1987560"/>
              <a:ext cx="14292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Блок-схема: процесс 20"/>
          <p:cNvGrpSpPr/>
          <p:nvPr/>
        </p:nvGrpSpPr>
        <p:grpSpPr>
          <a:xfrm>
            <a:off x="5864400" y="4475160"/>
            <a:ext cx="433080" cy="431640"/>
            <a:chOff x="5864400" y="4475160"/>
            <a:chExt cx="433080" cy="431640"/>
          </a:xfrm>
        </p:grpSpPr>
        <p:pic>
          <p:nvPicPr>
            <p:cNvPr id="261" name="Блок-схема: процесс 20" descr=""/>
            <p:cNvPicPr/>
            <p:nvPr/>
          </p:nvPicPr>
          <p:blipFill>
            <a:blip r:embed="rId3"/>
            <a:stretch/>
          </p:blipFill>
          <p:spPr>
            <a:xfrm>
              <a:off x="5864400" y="4475160"/>
              <a:ext cx="43308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940360" y="4508640"/>
              <a:ext cx="2858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Равнобедренный треугольник 21"/>
          <p:cNvGrpSpPr/>
          <p:nvPr/>
        </p:nvGrpSpPr>
        <p:grpSpPr>
          <a:xfrm>
            <a:off x="2193840" y="2743200"/>
            <a:ext cx="433440" cy="433440"/>
            <a:chOff x="2193840" y="2743200"/>
            <a:chExt cx="433440" cy="433440"/>
          </a:xfrm>
        </p:grpSpPr>
        <p:pic>
          <p:nvPicPr>
            <p:cNvPr id="264" name="Равнобедренный треугольник 21" descr=""/>
            <p:cNvPicPr/>
            <p:nvPr/>
          </p:nvPicPr>
          <p:blipFill>
            <a:blip r:embed="rId4"/>
            <a:stretch/>
          </p:blipFill>
          <p:spPr>
            <a:xfrm>
              <a:off x="2193840" y="2743200"/>
              <a:ext cx="43344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2340000" y="2924280"/>
              <a:ext cx="14292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Равнобедренный треугольник 22"/>
          <p:cNvGrpSpPr/>
          <p:nvPr/>
        </p:nvGrpSpPr>
        <p:grpSpPr>
          <a:xfrm>
            <a:off x="6443640" y="3968640"/>
            <a:ext cx="433440" cy="432000"/>
            <a:chOff x="6443640" y="3968640"/>
            <a:chExt cx="433440" cy="432000"/>
          </a:xfrm>
        </p:grpSpPr>
        <p:pic>
          <p:nvPicPr>
            <p:cNvPr id="267" name="Равнобедренный треугольник 22" descr=""/>
            <p:cNvPicPr/>
            <p:nvPr/>
          </p:nvPicPr>
          <p:blipFill>
            <a:blip r:embed="rId5"/>
            <a:stretch/>
          </p:blipFill>
          <p:spPr>
            <a:xfrm>
              <a:off x="6443640" y="3968640"/>
              <a:ext cx="4334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6588000" y="4148280"/>
              <a:ext cx="142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ритерии оценивания контрольной работы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e9632"/>
                </a:solidFill>
                <a:latin typeface="Constantia"/>
              </a:rPr>
              <a:t>№ </a:t>
            </a:r>
            <a:r>
              <a:rPr b="1" lang="ru-RU" sz="2400" spc="-1" strike="noStrike">
                <a:solidFill>
                  <a:srgbClr val="7e9632"/>
                </a:solidFill>
                <a:latin typeface="Constantia"/>
              </a:rPr>
              <a:t>1.1 – 1 балл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e9632"/>
                </a:solidFill>
                <a:latin typeface="Constantia"/>
              </a:rPr>
              <a:t>№ </a:t>
            </a:r>
            <a:r>
              <a:rPr b="1" lang="ru-RU" sz="2400" spc="-1" strike="noStrike">
                <a:solidFill>
                  <a:srgbClr val="7e9632"/>
                </a:solidFill>
                <a:latin typeface="Constantia"/>
              </a:rPr>
              <a:t>1.2 – 1 балл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e9632"/>
                </a:solidFill>
                <a:latin typeface="Constantia"/>
              </a:rPr>
              <a:t>№ </a:t>
            </a:r>
            <a:r>
              <a:rPr b="1" lang="ru-RU" sz="2400" spc="-1" strike="noStrike">
                <a:solidFill>
                  <a:srgbClr val="7e9632"/>
                </a:solidFill>
                <a:latin typeface="Constantia"/>
              </a:rPr>
              <a:t>2.1 – 1 бал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e9632"/>
                </a:solidFill>
                <a:latin typeface="Constantia"/>
              </a:rPr>
              <a:t>№ </a:t>
            </a:r>
            <a:r>
              <a:rPr b="1" lang="ru-RU" sz="2400" spc="-1" strike="noStrike">
                <a:solidFill>
                  <a:srgbClr val="7e9632"/>
                </a:solidFill>
                <a:latin typeface="Constantia"/>
              </a:rPr>
              <a:t>2.2 – 1 бал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e9632"/>
                </a:solidFill>
                <a:latin typeface="Constantia"/>
              </a:rPr>
              <a:t>№ </a:t>
            </a:r>
            <a:r>
              <a:rPr b="1" lang="ru-RU" sz="2400" spc="-1" strike="noStrike">
                <a:solidFill>
                  <a:srgbClr val="7e9632"/>
                </a:solidFill>
                <a:latin typeface="Constantia"/>
              </a:rPr>
              <a:t>3    – 2 бал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e9632"/>
                </a:solidFill>
                <a:latin typeface="Constantia"/>
              </a:rPr>
              <a:t>№ </a:t>
            </a:r>
            <a:r>
              <a:rPr b="1" lang="ru-RU" sz="2400" spc="-1" strike="noStrike">
                <a:solidFill>
                  <a:srgbClr val="7e9632"/>
                </a:solidFill>
                <a:latin typeface="Constantia"/>
              </a:rPr>
              <a:t>4    – 2 балл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e9632"/>
                </a:solidFill>
                <a:latin typeface="Constantia"/>
              </a:rPr>
              <a:t>№ </a:t>
            </a:r>
            <a:r>
              <a:rPr b="1" lang="ru-RU" sz="2400" spc="-1" strike="noStrike">
                <a:solidFill>
                  <a:srgbClr val="7e9632"/>
                </a:solidFill>
                <a:latin typeface="Constantia"/>
              </a:rPr>
              <a:t>5    – 4 балл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e9632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e9632"/>
                </a:solidFill>
                <a:latin typeface="Constantia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e9632"/>
                </a:solidFill>
                <a:latin typeface="Constantia"/>
              </a:rPr>
              <a:t>Отметка «3» – 6 - 4 балл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e9632"/>
                </a:solidFill>
                <a:latin typeface="Constantia"/>
              </a:rPr>
              <a:t>Отметка «4» – 9 - 7 балл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e9632"/>
                </a:solidFill>
                <a:latin typeface="Constantia"/>
              </a:rPr>
              <a:t>Отметка «5» – 12 - 10 балл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Экспертиза контрольной работы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8000" y="836640"/>
            <a:ext cx="8218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нная контрольная работа содержит 5 заданий различной степени сложности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задания – 50% - уровень  обязательной подготовки (УОП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задания – 50% - уровень возможностей (УВ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задание – для детей с повышенной мотивацией учебной деятельност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веряемые элементы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свойств действий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ельные навык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уравнения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умения записи числовых промежутков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навыков упрощения алгебраических выражений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оздавать математические модел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емя выполнения и проверк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40 минут (2мин – организационный момент, 38 мин – решение и оформление работы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«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ставится за выполнение части работы, соответствующей базовому уровню  подготовки учащихся, т.е. за все задания      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«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ставится за выполнение заданий более сложных с теоретической точки зрения, т.е.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«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ставится, если ученик выполнил работу полностью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«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также ставится, если ученик допустил один недочет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407880" y="1195560"/>
            <a:ext cx="8418600" cy="3528720"/>
          </a:xfrm>
          <a:prstGeom prst="rect">
            <a:avLst/>
          </a:prstGeom>
          <a:ln w="0">
            <a:noFill/>
          </a:ln>
        </p:spPr>
      </p:pic>
      <p:sp>
        <p:nvSpPr>
          <p:cNvPr id="274" name="Управляющая кнопка: возврат 2">
            <a:hlinkClick r:id="" action="ppaction://hlinkshowjump?jump=previousslide"/>
          </p:cNvPr>
          <p:cNvSpPr/>
          <p:nvPr/>
        </p:nvSpPr>
        <p:spPr>
          <a:xfrm>
            <a:off x="6659640" y="5805360"/>
            <a:ext cx="1512720" cy="719280"/>
          </a:xfrm>
          <a:custGeom>
            <a:avLst/>
            <a:gdLst>
              <a:gd name="textAreaLeft" fmla="*/ 46440 w 1512720"/>
              <a:gd name="textAreaRight" fmla="*/ 1466280 w 1512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45415" h="21600">
                <a:moveTo>
                  <a:pt x="0" y="0"/>
                </a:moveTo>
                <a:lnTo>
                  <a:pt x="45415" y="0"/>
                </a:lnTo>
                <a:lnTo>
                  <a:pt x="45415" y="21600"/>
                </a:lnTo>
                <a:lnTo>
                  <a:pt x="0" y="21600"/>
                </a:lnTo>
                <a:close/>
              </a:path>
              <a:path fill="lightenLess" w="45415" h="21600">
                <a:moveTo>
                  <a:pt x="0" y="0"/>
                </a:moveTo>
                <a:lnTo>
                  <a:pt x="45415" y="0"/>
                </a:lnTo>
                <a:lnTo>
                  <a:pt x="44015" y="1400"/>
                </a:lnTo>
                <a:lnTo>
                  <a:pt x="1400" y="1400"/>
                </a:lnTo>
                <a:close/>
              </a:path>
              <a:path fill="darken" w="45415" h="21600">
                <a:moveTo>
                  <a:pt x="45415" y="0"/>
                </a:moveTo>
                <a:lnTo>
                  <a:pt x="45415" y="21600"/>
                </a:lnTo>
                <a:lnTo>
                  <a:pt x="44015" y="20200"/>
                </a:lnTo>
                <a:lnTo>
                  <a:pt x="44015" y="1400"/>
                </a:lnTo>
                <a:close/>
              </a:path>
              <a:path fill="darkenLess" w="45415" h="21600">
                <a:moveTo>
                  <a:pt x="45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15" y="20200"/>
                </a:lnTo>
                <a:close/>
              </a:path>
              <a:path fill="lighten" w="45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15" h="21600">
                <a:moveTo>
                  <a:pt x="15701" y="7493"/>
                </a:moveTo>
                <a:lnTo>
                  <a:pt x="19209" y="7493"/>
                </a:lnTo>
                <a:lnTo>
                  <a:pt x="19209" y="12828"/>
                </a:lnTo>
                <a:cubicBezTo>
                  <a:pt x="19209" y="13751"/>
                  <a:pt x="20009" y="14482"/>
                  <a:pt x="21045" y="14482"/>
                </a:cubicBezTo>
                <a:lnTo>
                  <a:pt x="22708" y="14482"/>
                </a:lnTo>
                <a:cubicBezTo>
                  <a:pt x="23743" y="14482"/>
                  <a:pt x="24544" y="13751"/>
                  <a:pt x="24544" y="12828"/>
                </a:cubicBezTo>
                <a:lnTo>
                  <a:pt x="24544" y="7493"/>
                </a:lnTo>
                <a:lnTo>
                  <a:pt x="22708" y="7493"/>
                </a:lnTo>
                <a:lnTo>
                  <a:pt x="26215" y="3985"/>
                </a:lnTo>
                <a:lnTo>
                  <a:pt x="29888" y="7493"/>
                </a:lnTo>
                <a:lnTo>
                  <a:pt x="28052" y="7493"/>
                </a:lnTo>
                <a:lnTo>
                  <a:pt x="28052" y="12828"/>
                </a:lnTo>
                <a:cubicBezTo>
                  <a:pt x="28052" y="15596"/>
                  <a:pt x="25475" y="18155"/>
                  <a:pt x="22708" y="18155"/>
                </a:cubicBezTo>
                <a:lnTo>
                  <a:pt x="21045" y="18155"/>
                </a:lnTo>
                <a:cubicBezTo>
                  <a:pt x="18277" y="18155"/>
                  <a:pt x="15701" y="15596"/>
                  <a:pt x="15701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Тезаурус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560" y="1196640"/>
            <a:ext cx="8713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петентность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вообразование субъекта деятельности, формирующееся в процессе профессиональной подготовки, представляющее собой системное проявление знаний, умений, способностей и личностных качеств, позволяющих успешно решать функциональные задачи, составляющие сущность про­фессиональной деятельност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ци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едмеченные в деятельности компетент­ности работника; круг вопросов, в которых кто-нибудь хорошо осведомлен, круг чьих-нибудь полномочий, прав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фессиональная компетентность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ачество действий работника, обеспечивающих эффективное решение профессионально-педагогических проблем и типичных профессиональных задач, возникающих в реальных ситуациях педагогической деятельности, с использованием жизненного опыта, имеющейся квалификации, общепризнанных ценностей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 современными образовательными технологиями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ми педагогической диагностик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просов, индивидуальных и групповых интервью)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ой коррекции, снятия стрессо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.п., методическими приемами, педагогическими средствами и их постоянное совершенствование; использование методических идей, новой литературы и иных источников информации в области компетенции и методик преподавания для построения современных занятий с обучающимися (воспитанниками, детьми)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оценочно-ценностной рефлекс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Тезаурус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формационная компетентность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ачество действий работника, обеспечивающих эффективный поиск, структурирование информации, ее адаптацию к особенностям педагогического процесса и дидактическим требованиям, формулировку учебной проблемы различными информационно-коммуникативными способами,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цированную работу с различным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ми ресурсами,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фессиональными инструментами, готовыми программно-методическими комплексами, позволяющими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ть решение педагогических проблем и практических задач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спользование автоматизированных рабочих мест учителя в образовательном процессе; регулярная самостоятельная познавательная деятельность, готовность к ведению дистанционной образовательной деятельности,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мпьютерных и мультимедийных технологий, цифровых образовательных ресурсов в образовательном процессе,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дение школьной документации на электронных носителях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муникативная компетентность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ачество действий работника, обеспечивающих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е конструирование прямой и обратной связи с другим человеком; установление контакта с обучающимися (воспитанниками, детьми) разного возраст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одителями (лицами, их замещающими), коллегами по работе; умение вырабатывать стратегию, тактику и технику взаимодействий с людьми,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ывать их совместную деятельность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достижения определенных социально значимых целей; умение убеждать, аргументировать свою позицию; владение ораторским искусством, грамотностью устной и письменной речи, публичным представлением результатов своей работы, отбором адекватных форм и методов презентации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ая компетентность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ачество действий работника, обеспечивающих эффективное использование в профессиональной деятельности законодательных и иных нормативных правовых документов органов власти для решения соответствующих профессиональных задач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Литература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50920" y="1267920"/>
            <a:ext cx="86421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ордкович, А. Г. Алгебра. 7 класс: в 2 ч. Ч. 1: учебник для учащихся общеобразовательных учреждений / А. Г. Мордкович. – М.: Мнемозина, 2008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ордкович, А. Г. Алгебра. 7 класс: в 2 ч. Ч. 2: задачник для учащихся общеобразовательных учреждений / [А. Г. Мордкович и др.]; под ред. А. Г. Мордковича. – М.: Мнемозина, 2008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лович, М. В. Алгебра. 7 класс: рабочая тетрадь / М. В. Волович; под ред. А. Г. Мордковича. – М.: Мнемозина, 2008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Александрова, Л. А. Алгебра. 7 класс: самостоятельные работы / Л. А. Александрова. – М.: Мнемозина, 2007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Дудницын, Ю. П. Алгебра. 7 класс: контрольные работы / Ю. П. Дудницын, Е. Е. Тульчинская; под ред. А. Г. Мордковича. – М.: Мнемозина, 2007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Мордкович, А. Г. Тесты по алгебре для 7–9 классов / А. Г. Мордкович, Е. Е. Тульчинская. – М.: Мнемозина, 2007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Клименченко, Д. В. Задачи по математике для любознательных / Д. В. Клименченко. – М.: Просвещение, 2007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Мордкович, А. Г. Алгебра. 7–9 классы: методическое пособие для учителей / А. Г. Мордкович. – М.: Мнемозина, 2004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Арутюнян, Е. Б. Математические диктанты для 5–9 классов / Е. Б. Арутюнян. – М., 1995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Пичурин, Л. Ф. За страницами учебника алгебры / Л. Ф. Пичурин. – М., 1990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Олимпиадные задания по математике. 5–8 классы: 500 нестандартных задач для проведения конкурсов и олимпиад: развитие творческой сущности учащихся / авт.-сост. Н. В. Заболотнева. – Волгоград: Учитель, 2006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Лысенко, Ф. Ф. Учебно-тренировочные тестовые задания «малого» ЕГЭ по математике / Ф. Ф. Лысенко. – Ростов н/Д.: Легион, 2008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Математика. Система подготовки учащихся к ЕГЭ: пособие для учителя / авт.-сост. В. Н. Студенецкая. – Волгоград: Учитель, 2004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Арутюнян, Е. Б. Математические диктанты для 5–9 классов / Е. Б. Арутюнян. – М., 1995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Математика: еженедельное приложение к газете «Первое сентября»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Математика в школе: ежемесячный научно-методический журнал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Резюме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onstantia"/>
              </a:rPr>
              <a:t> </a:t>
            </a:r>
            <a:r>
              <a:rPr b="1" i="1" lang="ru-RU" sz="2000" spc="-1" strike="noStrike">
                <a:solidFill>
                  <a:srgbClr val="7030a0"/>
                </a:solidFill>
                <a:latin typeface="Constantia"/>
              </a:rPr>
              <a:t>Гребенюк Надежда Алексеев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Учитель математики </a:t>
            </a:r>
            <a:r>
              <a:rPr b="1" lang="en-US" sz="1600" spc="-1" strike="noStrike">
                <a:solidFill>
                  <a:srgbClr val="0076a3"/>
                </a:solidFill>
                <a:latin typeface="Constantia"/>
              </a:rPr>
              <a:t>II</a:t>
            </a: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 категории 39 лет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Замужем, имею двух дочерей: 18 лет и 11 лет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Адрес: х. Московский, Мартыновского района, Ростовской области, ул. Московская № 30</a:t>
            </a:r>
            <a:r>
              <a:rPr b="1" lang="en-US" sz="1600" spc="-1" strike="noStrike">
                <a:solidFill>
                  <a:srgbClr val="0076a3"/>
                </a:solidFill>
                <a:latin typeface="Constantia"/>
              </a:rPr>
              <a:t>/1</a:t>
            </a: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. Индекс: 346660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8 928-6171349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Образование среднее профессиональное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Учитель математик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Стаж работы в одной  и той же школе – 20 лет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ПК</a:t>
            </a:r>
            <a:r>
              <a:rPr b="1" lang="en-US" sz="1600" spc="-1" strike="noStrike">
                <a:solidFill>
                  <a:srgbClr val="0076a3"/>
                </a:solidFill>
                <a:latin typeface="Constantia"/>
              </a:rPr>
              <a:t> – </a:t>
            </a: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свободно владею</a:t>
            </a:r>
            <a:r>
              <a:rPr b="1" lang="en-US" sz="1600" spc="-1" strike="noStrike">
                <a:solidFill>
                  <a:srgbClr val="0076a3"/>
                </a:solidFill>
                <a:latin typeface="Constantia"/>
              </a:rPr>
              <a:t> Word,  Microsoft Office PowerPoint, Microsoft Office Excel, SMART Notebook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КПК (курсы повышения квалификации) –2006г. (учителей математики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Увлечения: цветоводство, аквариум, бисероплетение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Планы: продолжать самообразование и повышение квалификации. 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труктура портфолио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1120" indent="-57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nstantia"/>
              </a:rPr>
              <a:t>1. Цели портфолио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81120" indent="-57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nstantia"/>
              </a:rPr>
              <a:t>2. Резюм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81120" indent="-57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nstantia"/>
              </a:rPr>
              <a:t>3. Рефлексивный лист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81120" indent="-57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nstantia"/>
              </a:rPr>
              <a:t>4. Рекомендации для собственного рост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81120" indent="-57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nstantia"/>
              </a:rPr>
              <a:t>5. Пояснительная запис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81120" indent="-57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nstantia"/>
              </a:rPr>
              <a:t>6. Тематическое планирование по теме «Математическая модель.Математический язык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81120" indent="-57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nstantia"/>
              </a:rPr>
              <a:t>7. Контрольная раота  по теме « Математическая модель.Математический язык». Л. А. Александрова. Под реакцией  А.Г.Мордковича. Алгебра.7 класс.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81120" indent="-57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nstantia"/>
              </a:rPr>
              <a:t>8. Рецензия на контрольную работу по теме «Математическая модель.Математический язык» Л. А. Александрова. Под реакцией  А.Г.Мордковича. Алгебра.7 класс.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81120" indent="-57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nstantia"/>
              </a:rPr>
              <a:t>9. Критерии  оценивания.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81120" indent="-57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nstantia"/>
              </a:rPr>
              <a:t>10. Экспертиза контрольной работы.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81120" indent="-57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nstantia"/>
              </a:rPr>
              <a:t>11. Конструирование «идеального» реше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81120" indent="-57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nstantia"/>
              </a:rPr>
              <a:t>12. Тезаурус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81120" indent="-57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nstantia"/>
              </a:rPr>
              <a:t>13. Литератур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Цели портфолио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вышение  квалификации педагогического мастерств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46680" indent="-2426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сознание необходимости изменения собственного педагогического мышления, компетентност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46680" indent="-2426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нятие особенностей современного школьного математического образова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46680" indent="-2426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крытие и реализация своего творческого потенциал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46680" indent="-2426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оздание банка собственных достижени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46680" indent="-2426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амооценка собственного познавательного педагогического труд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46680" indent="-2426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истематизация знаний о нормативных документах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46680" indent="-2426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сознание необходимости в изменении собственного педагогического мышления как условия готовности работы в инновационных условиях. 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46680" indent="-2426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Пояснительная записк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56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Рабочая программа по теме: «Математический язык.  Математическая модель» составлена на основе авторской  программы И. И. Зубаревой и А. Г. Мордкович 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Нормативные документы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беспечивающие реализацию программы: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Закон РФ «Об образовании». Вестник образования, 2004г., № 12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Обязательный минимум содержания основного общего образования по математике (1998, 1999)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Программа для общеобразовательных школ, гимназий лицеев. Математика. Дрофа. Москва, 2001г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Федеральный компонент государственного стандарта общего образования по математике. Вестник образования, 2004г., № 12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Цели изучения темы: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формирование представлений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о целостности и непрерывности курса математики 5 и 6 класс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обобщение и систематизация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знаний о числовых выражениях, допустимых и недопустимых значениях переменной выражения, математических утверждениях, математическом языке; выполнении действий по арифметическим законам сложения и умножения, действий с десятичными дробями, действий с обыкновенными дробями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овладение навыкам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решения задач, составляя математическую модель реальной ситуации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логического, математического мышления и интуиции, творческих способностей в области математи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нать и уметь: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ешать текстовые задачи, выделяя три этапа математического моделирования;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адекватно воспринимать устную речь, проводить информационно-смысловой анализ текста, приводить примеры </a:t>
            </a:r>
            <a:r>
              <a:rPr b="0" i="1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ходить значение алгебраического выражения при заданных значениях переменных;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оспринимать устную речь, проводить информационно-смысловой анализ текста и лекции, приводить и разбирать примеры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- Знать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нятие математической модели; з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нать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нятие математического язык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ЕТОДИЧЕСКИЕ РЕКОМЕНДАЦИИ ДЛЯ ЛИЧНОГО РОСТ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9280" y="1125000"/>
            <a:ext cx="4316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есообразно не делать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еходить к новому материалу, не убедившись в усвоении ранее пройденного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спользовать решение однотипных задач и упражнений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Готовить урок в расчете на усредненного ученик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ерегружать содержанием теоретического материала при объяснении. Давать лишнюю информацию, выходящую за рамки программы. Не давать материал в упрощенном виде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Брать инициативу, управление и контроль строго на себя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е четко ставить цели урока и вопросы во время обсуждения конкретного материал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1052280"/>
            <a:ext cx="4316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6686d"/>
                </a:solidFill>
                <a:latin typeface="Times New Roman"/>
                <a:ea typeface="Times New Roman"/>
              </a:rPr>
              <a:t>Полезно делать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Целесообразно искать оптимальные подходы к организации собственной работы учащихся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чить учащихся пользоваться самостоятельно справочной литературой, учебником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спользовать различные способы решения одной и той же задачи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ребовать от отвечающего комментировать ход решения задачи, обосновывать его правильность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степенный переход от пошагового контроля к самоконтролю обучающихся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Давать несколько способов решения задачи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истематизировать имеющиеся знания, обобщать новые и ранее полученные знания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Учить использовать знания в измененных ситуациях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Отбирать изучаемый материал, учитывая минимум содержания и требования государственного стандарта образования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ефлексивный лист</a:t>
            </a:r>
            <a:br>
              <a:rPr sz="24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1523880" y="1400040"/>
          <a:ext cx="1228680" cy="3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400040"/>
                    <a:ext cx="12286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79280" y="692280"/>
          <a:ext cx="8785440" cy="597672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  <a:gridCol w="2195640"/>
                <a:gridCol w="2197080"/>
              </a:tblGrid>
              <a:tr h="412560">
                <a:tc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приняла, не зн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няла, узн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огу применя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уду над этим работ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бота с нормативной документацией дает резерв време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 новых учебниках, методических комплект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ботать с нормативной документаци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ересмотреть планируемые контрольные рабо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вые требования оцениванию знаний учащих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вый подход к контролю знан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вые подходы оценивания знаний учащихся, составлять разноуровневые контрольные рабо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скать и устранять причины перегрузки и возникающих труд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к составлять контрольные и самостоятельные работы на основе нормативных докум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кую пользу приносят, как правильно работать с нормативными документ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ставить рабочую программ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рганизовать работу учащихся по подготовке к новой форме аттестации в 9 класс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к правильно составлять контрольные, самостоятельные работы и рабочую програм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менять здоровье - сберегающие техн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рмировать и развивать предметные и ключевые компетен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нкретные направления модернизации математическо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еоретический материал давать, ориентируясь на «минимум», содержания и треб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шаговый разбор математического зад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д качественным подходом к оценив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Object 2"/>
          <p:cNvGraphicFramePr/>
          <p:nvPr/>
        </p:nvGraphicFramePr>
        <p:xfrm>
          <a:off x="1523880" y="1400040"/>
          <a:ext cx="1228680" cy="3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400040"/>
                    <a:ext cx="12286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8360" y="333360"/>
          <a:ext cx="8280360" cy="6267600"/>
        </p:xfrm>
        <a:graphic>
          <a:graphicData uri="http://schemas.openxmlformats.org/drawingml/2006/table">
            <a:tbl>
              <a:tblPr/>
              <a:tblGrid>
                <a:gridCol w="2070000"/>
                <a:gridCol w="2070000"/>
                <a:gridCol w="2070360"/>
                <a:gridCol w="2070000"/>
              </a:tblGrid>
              <a:tr h="11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которые термины и по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нструирования собственного «идеального» решения зада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Эвристики к решению конкретных зада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уществлять дифференцированный подход к отбору учебного материал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к разгрузить учебный материа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недрять современные педагогические технолог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012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к раскрашивать теоретический материал и контрольные рабо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скать активные формы организации деятельности школьни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38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тод конструирования поэтапного решения задач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ботать над изучением нормативно –правовой документ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41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ребования к модульной технологии и методология составления моду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 </a:t>
            </a:r>
            <a:br>
              <a:rPr sz="45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Тематическое планирование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Неравенства 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(фрагмент, 7 класс, А.Г.Мордкович).</a:t>
            </a:r>
            <a:br>
              <a:rPr sz="20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 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428840"/>
          <a:ext cx="8258040" cy="4206960"/>
        </p:xfrm>
        <a:graphic>
          <a:graphicData uri="http://schemas.openxmlformats.org/drawingml/2006/table">
            <a:tbl>
              <a:tblPr/>
              <a:tblGrid>
                <a:gridCol w="1650960"/>
                <a:gridCol w="1187640"/>
                <a:gridCol w="2151000"/>
                <a:gridCol w="1720800"/>
                <a:gridCol w="1547640"/>
              </a:tblGrid>
              <a:tr h="497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епень слож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вые алгебраические выра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25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такое математиче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такое математическая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25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тная прям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нейное уравнение с одной перемен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ая работа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220" name="Равнобедренный треугольник 4"/>
          <p:cNvGrpSpPr/>
          <p:nvPr/>
        </p:nvGrpSpPr>
        <p:grpSpPr>
          <a:xfrm>
            <a:off x="5999040" y="1962000"/>
            <a:ext cx="573120" cy="433440"/>
            <a:chOff x="5999040" y="1962000"/>
            <a:chExt cx="573120" cy="433440"/>
          </a:xfrm>
        </p:grpSpPr>
        <p:pic>
          <p:nvPicPr>
            <p:cNvPr id="221" name="Равнобедренный треугольник 4" descr=""/>
            <p:cNvPicPr/>
            <p:nvPr/>
          </p:nvPicPr>
          <p:blipFill>
            <a:blip r:embed="rId1"/>
            <a:stretch/>
          </p:blipFill>
          <p:spPr>
            <a:xfrm>
              <a:off x="5999040" y="1962000"/>
              <a:ext cx="57312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180120" y="2143080"/>
              <a:ext cx="2142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Равнобедренный треугольник 5"/>
          <p:cNvGrpSpPr/>
          <p:nvPr/>
        </p:nvGrpSpPr>
        <p:grpSpPr>
          <a:xfrm>
            <a:off x="6083280" y="2603520"/>
            <a:ext cx="573120" cy="425520"/>
            <a:chOff x="6083280" y="2603520"/>
            <a:chExt cx="573120" cy="425520"/>
          </a:xfrm>
        </p:grpSpPr>
        <p:pic>
          <p:nvPicPr>
            <p:cNvPr id="224" name="Равнобедренный треугольник 5" descr=""/>
            <p:cNvPicPr/>
            <p:nvPr/>
          </p:nvPicPr>
          <p:blipFill>
            <a:blip r:embed="rId2"/>
            <a:stretch/>
          </p:blipFill>
          <p:spPr>
            <a:xfrm>
              <a:off x="6083280" y="2603520"/>
              <a:ext cx="57312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262560" y="2779560"/>
              <a:ext cx="2145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Блок-схема: процесс 6"/>
          <p:cNvGrpSpPr/>
          <p:nvPr/>
        </p:nvGrpSpPr>
        <p:grpSpPr>
          <a:xfrm>
            <a:off x="6589800" y="1951200"/>
            <a:ext cx="426960" cy="431640"/>
            <a:chOff x="6589800" y="1951200"/>
            <a:chExt cx="426960" cy="431640"/>
          </a:xfrm>
        </p:grpSpPr>
        <p:pic>
          <p:nvPicPr>
            <p:cNvPr id="227" name="Блок-схема: процесс 6" descr=""/>
            <p:cNvPicPr/>
            <p:nvPr/>
          </p:nvPicPr>
          <p:blipFill>
            <a:blip r:embed="rId3"/>
            <a:stretch/>
          </p:blipFill>
          <p:spPr>
            <a:xfrm>
              <a:off x="6589800" y="1951200"/>
              <a:ext cx="42696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659640" y="1989000"/>
              <a:ext cx="285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Равнобедренный треугольник 7"/>
          <p:cNvGrpSpPr/>
          <p:nvPr/>
        </p:nvGrpSpPr>
        <p:grpSpPr>
          <a:xfrm>
            <a:off x="6072120" y="3176640"/>
            <a:ext cx="573120" cy="431640"/>
            <a:chOff x="6072120" y="3176640"/>
            <a:chExt cx="573120" cy="431640"/>
          </a:xfrm>
        </p:grpSpPr>
        <p:pic>
          <p:nvPicPr>
            <p:cNvPr id="230" name="Равнобедренный треугольник 7" descr=""/>
            <p:cNvPicPr/>
            <p:nvPr/>
          </p:nvPicPr>
          <p:blipFill>
            <a:blip r:embed="rId4"/>
            <a:stretch/>
          </p:blipFill>
          <p:spPr>
            <a:xfrm>
              <a:off x="6072120" y="3176640"/>
              <a:ext cx="5731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251400" y="3357720"/>
              <a:ext cx="21456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Блок-схема: процесс 8"/>
          <p:cNvGrpSpPr/>
          <p:nvPr/>
        </p:nvGrpSpPr>
        <p:grpSpPr>
          <a:xfrm>
            <a:off x="6145200" y="3749760"/>
            <a:ext cx="426960" cy="431640"/>
            <a:chOff x="6145200" y="3749760"/>
            <a:chExt cx="426960" cy="431640"/>
          </a:xfrm>
        </p:grpSpPr>
        <p:pic>
          <p:nvPicPr>
            <p:cNvPr id="233" name="Блок-схема: процесс 8" descr=""/>
            <p:cNvPicPr/>
            <p:nvPr/>
          </p:nvPicPr>
          <p:blipFill>
            <a:blip r:embed="rId5"/>
            <a:stretch/>
          </p:blipFill>
          <p:spPr>
            <a:xfrm>
              <a:off x="6145200" y="3749760"/>
              <a:ext cx="42696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215040" y="3786120"/>
              <a:ext cx="285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Блок-схема: процесс 10"/>
          <p:cNvGrpSpPr/>
          <p:nvPr/>
        </p:nvGrpSpPr>
        <p:grpSpPr>
          <a:xfrm>
            <a:off x="6156360" y="4254480"/>
            <a:ext cx="433440" cy="433440"/>
            <a:chOff x="6156360" y="4254480"/>
            <a:chExt cx="433440" cy="433440"/>
          </a:xfrm>
        </p:grpSpPr>
        <p:pic>
          <p:nvPicPr>
            <p:cNvPr id="236" name="Блок-схема: процесс 10" descr=""/>
            <p:cNvPicPr/>
            <p:nvPr/>
          </p:nvPicPr>
          <p:blipFill>
            <a:blip r:embed="rId6"/>
            <a:stretch/>
          </p:blipFill>
          <p:spPr>
            <a:xfrm>
              <a:off x="6156360" y="4254480"/>
              <a:ext cx="43344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6227640" y="4292640"/>
              <a:ext cx="285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Блок-схема: процесс 12"/>
          <p:cNvGrpSpPr/>
          <p:nvPr/>
        </p:nvGrpSpPr>
        <p:grpSpPr>
          <a:xfrm>
            <a:off x="5784840" y="5248440"/>
            <a:ext cx="433440" cy="433080"/>
            <a:chOff x="5784840" y="5248440"/>
            <a:chExt cx="433440" cy="433080"/>
          </a:xfrm>
        </p:grpSpPr>
        <p:pic>
          <p:nvPicPr>
            <p:cNvPr id="239" name="Блок-схема: процесс 12" descr=""/>
            <p:cNvPicPr/>
            <p:nvPr/>
          </p:nvPicPr>
          <p:blipFill>
            <a:blip r:embed="rId7"/>
            <a:stretch/>
          </p:blipFill>
          <p:spPr>
            <a:xfrm>
              <a:off x="5784840" y="5248440"/>
              <a:ext cx="43344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857920" y="5286240"/>
              <a:ext cx="285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Овал 13"/>
          <p:cNvGrpSpPr/>
          <p:nvPr/>
        </p:nvGrpSpPr>
        <p:grpSpPr>
          <a:xfrm>
            <a:off x="6516720" y="5194440"/>
            <a:ext cx="433440" cy="431640"/>
            <a:chOff x="6516720" y="5194440"/>
            <a:chExt cx="433440" cy="431640"/>
          </a:xfrm>
        </p:grpSpPr>
        <p:pic>
          <p:nvPicPr>
            <p:cNvPr id="242" name="Овал 13" descr=""/>
            <p:cNvPicPr/>
            <p:nvPr/>
          </p:nvPicPr>
          <p:blipFill>
            <a:blip r:embed="rId8"/>
            <a:stretch/>
          </p:blipFill>
          <p:spPr>
            <a:xfrm>
              <a:off x="6516720" y="5194440"/>
              <a:ext cx="4334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629400" y="527040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Равнобедренный треугольник 16"/>
          <p:cNvGrpSpPr/>
          <p:nvPr/>
        </p:nvGrpSpPr>
        <p:grpSpPr>
          <a:xfrm>
            <a:off x="6083280" y="4761000"/>
            <a:ext cx="573120" cy="433440"/>
            <a:chOff x="6083280" y="4761000"/>
            <a:chExt cx="573120" cy="433440"/>
          </a:xfrm>
        </p:grpSpPr>
        <p:pic>
          <p:nvPicPr>
            <p:cNvPr id="245" name="Равнобедренный треугольник 16" descr=""/>
            <p:cNvPicPr/>
            <p:nvPr/>
          </p:nvPicPr>
          <p:blipFill>
            <a:blip r:embed="rId9"/>
            <a:stretch/>
          </p:blipFill>
          <p:spPr>
            <a:xfrm>
              <a:off x="6083280" y="4761000"/>
              <a:ext cx="57312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6262560" y="4940280"/>
              <a:ext cx="2145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Управляющая кнопка: в конец 14"/>
          <p:cNvSpPr/>
          <p:nvPr/>
        </p:nvSpPr>
        <p:spPr>
          <a:xfrm>
            <a:off x="7308720" y="5877000"/>
            <a:ext cx="1008360" cy="576360"/>
          </a:xfrm>
          <a:custGeom>
            <a:avLst/>
            <a:gdLst>
              <a:gd name="textAreaLeft" fmla="*/ 37080 w 1008360"/>
              <a:gd name="textAreaRight" fmla="*/ 971280 w 1008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7780" h="21600">
                <a:moveTo>
                  <a:pt x="0" y="0"/>
                </a:moveTo>
                <a:lnTo>
                  <a:pt x="37780" y="0"/>
                </a:lnTo>
                <a:lnTo>
                  <a:pt x="37780" y="21600"/>
                </a:lnTo>
                <a:lnTo>
                  <a:pt x="0" y="21600"/>
                </a:lnTo>
                <a:close/>
              </a:path>
              <a:path fill="lightenLess" w="37780" h="21600">
                <a:moveTo>
                  <a:pt x="0" y="0"/>
                </a:moveTo>
                <a:lnTo>
                  <a:pt x="37780" y="0"/>
                </a:lnTo>
                <a:lnTo>
                  <a:pt x="36380" y="1400"/>
                </a:lnTo>
                <a:lnTo>
                  <a:pt x="1400" y="1400"/>
                </a:lnTo>
                <a:close/>
              </a:path>
              <a:path fill="darken" w="37780" h="21600">
                <a:moveTo>
                  <a:pt x="37780" y="0"/>
                </a:moveTo>
                <a:lnTo>
                  <a:pt x="37780" y="21600"/>
                </a:lnTo>
                <a:lnTo>
                  <a:pt x="36380" y="20200"/>
                </a:lnTo>
                <a:lnTo>
                  <a:pt x="36380" y="1400"/>
                </a:lnTo>
                <a:close/>
              </a:path>
              <a:path fill="darkenLess" w="37780" h="21600">
                <a:moveTo>
                  <a:pt x="3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80" y="20200"/>
                </a:lnTo>
                <a:close/>
              </a:path>
              <a:path fill="lighten" w="3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80" h="21600">
                <a:moveTo>
                  <a:pt x="22389" y="10800"/>
                </a:moveTo>
                <a:lnTo>
                  <a:pt x="11883" y="17806"/>
                </a:lnTo>
                <a:lnTo>
                  <a:pt x="11883" y="3794"/>
                </a:lnTo>
                <a:close/>
              </a:path>
              <a:path fill="darken" w="37780" h="21600">
                <a:moveTo>
                  <a:pt x="24234" y="3794"/>
                </a:moveTo>
                <a:lnTo>
                  <a:pt x="24234" y="17806"/>
                </a:lnTo>
                <a:lnTo>
                  <a:pt x="25896" y="17806"/>
                </a:lnTo>
                <a:lnTo>
                  <a:pt x="25896" y="379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1:36:57Z</dcterms:created>
  <dc:creator>Учитель</dc:creator>
  <dc:description/>
  <dc:language>en-US</dc:language>
  <cp:lastModifiedBy>admin</cp:lastModifiedBy>
  <dcterms:modified xsi:type="dcterms:W3CDTF">2012-03-13T19:19:38Z</dcterms:modified>
  <cp:revision>43</cp:revision>
  <dc:subject/>
  <dc:title> Портфолио </dc:title>
</cp:coreProperties>
</file>