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0.gif" ContentType="image/gif"/>
  <Override PartName="/ppt/media/image11.jpeg" ContentType="image/jpeg"/>
  <Override PartName="/ppt/media/image8.gif" ContentType="image/gif"/>
  <Override PartName="/ppt/media/image19.wmf" ContentType="image/x-wmf"/>
  <Override PartName="/ppt/media/image21.wmf" ContentType="image/x-wmf"/>
  <Override PartName="/ppt/media/image22.wmf" ContentType="image/x-wmf"/>
  <Override PartName="/ppt/media/image17.png" ContentType="image/png"/>
  <Override PartName="/ppt/media/image14.png" ContentType="image/png"/>
  <Override PartName="/ppt/media/image16.wmf" ContentType="image/x-wmf"/>
  <Override PartName="/ppt/media/image5.gif" ContentType="image/gif"/>
  <Override PartName="/ppt/media/image15.wmf" ContentType="image/x-wm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18.wmf" ContentType="image/x-wmf"/>
  <Override PartName="/ppt/media/image20.wmf" ContentType="image/x-wm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FE3-8C46-4EED-8ED7-4D0A171A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F2C-D7D1-46CA-902A-EA283F7E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47E25-7482-49ED-8535-104858B5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B13B7-1525-45BF-8DF4-1E70FBC8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22D88-6076-469B-A687-97367473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148D7-2368-490B-AD30-7F7DA3FA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A4E96-C36A-4224-81D7-BFD96BB6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CC68B-186B-487F-856E-14F36CD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F4A7C-B215-418B-AFE6-5491AEC3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9B845-EA77-4C14-97CE-D8683463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31904-28DC-4BE3-AF99-70919E60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E2BF1-8C23-4E51-A5B4-7F8AE823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824-A224-44EE-BD3A-E32A5952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40DCC-E170-4A07-819A-ABEA6368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62CEB-4FCD-4D43-AE44-48AB00DC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BFC1C-9515-4840-B801-8577F781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2D9C3-5CA7-4033-80A2-90556DE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48D5E-ABEC-489B-A216-2FCBD7DC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12B03-9B3A-47E8-AF6A-0CA83F4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26F22-B681-4C82-A9E4-37DDB39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FF434-E7DF-4311-B7D6-AA5DDF1B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BB29B-904A-476C-A536-1A88D32E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1F976-E789-43BB-B46D-CD6E3F4F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969-D794-4455-B5CF-50FE7F20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F2634-2AB7-4C33-86D7-3A2DAFA2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DA583-EB7C-44A1-892A-BB2E1B62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05439-8F4C-4FD6-835D-D3DD44A7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D4B79-ED0A-45FD-99E9-A479AAAE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D21A4-6A8C-463A-A5E4-59CC134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A4488-06F1-4944-ADB4-251CA5DA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56F25-476B-44EC-B724-4EAE14D1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128F4-84CE-4882-AC94-90B244D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200B3-2F18-4199-8C14-8B6EA94B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38803-4E77-494C-A0D7-47781C6E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EF5C-B4E8-444B-9FB0-CF0604F9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13A56-FA36-4C63-A2DB-DD1C4BE7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0774A-F838-47C1-9222-0FF84BD9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04696-A705-49A9-A186-493E8AA4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95C53-F07A-4EF8-B74B-7718EBE0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C14E1-404D-4660-B3E0-D7CB66F3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8535F-4DCB-4FA6-A61E-4FC54D90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AF5F8-080B-42BE-809D-61299E0E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B588E-20DB-4920-8FD7-66B95516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3EA02-BC31-4BC9-B3AF-29CC0FC8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B9D6F-EFE6-46D2-B608-B1019BA2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1022-1CA2-44FD-88E0-06A93AFF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6B660-1391-4416-8BCE-5FCD882C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D38EF-B7DD-4ED6-9B69-480FDEBF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41BF0-5D8C-41C1-9166-39BD2DE2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0DB0C-54FF-4A78-9148-4B546F53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27534-B818-4424-B404-9F5F45F0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88B0-AD18-4888-A3B2-D2F58AA7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75D3-D30A-401A-973D-CE334427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9159-9AC0-41A6-88E4-05661EF2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C1DC-9FF6-4D30-A855-8B059A0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CBD8-66F5-4BF9-9127-E0DF4F42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9E6-C014-480C-B512-E0840CA7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EBF6-7CFE-41C5-90EA-F0AC036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8D4B-4D69-4BC4-8853-1C275DCF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B952-3685-4F1F-B720-2B43CB31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DEE7-89AF-4F9E-9D3F-5A721732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1207-78DF-4B8D-A02D-701194F9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A655-9C23-476A-8FDD-453B9CFF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2354-1105-48A4-AD55-6A0B252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1C6E-3647-446D-A5D7-C3A928FD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3DFF-68E7-4FF6-BCF0-9A8A3E7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BD0B-987D-4DDD-A706-9E591886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8EF-1B09-4793-B6FB-C18642F8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4043-D137-47A2-8DC9-5682D359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B4F9-1991-47BA-856D-C4FD2591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A775-034B-4A30-873A-F9CBB73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3CFB-FBB0-4BEE-8704-0EFC5926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DAB3-28B6-4CF4-A79E-1BDEA757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3EA4-6537-4A41-AE57-A45C191C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141E-1663-4B3C-A1C5-F942869D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11E8C-3078-4E85-90B5-227CFA11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7A5B-5019-43A5-9F1F-3FABBAE4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86E9-BE76-4D2C-AF69-B59F1E20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650-BFF5-4436-899F-AD33AAC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CA37-600D-485F-AD7C-4C34F700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8C32-1DE0-47E2-A9A1-AEE4981E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ED47-7310-49B1-AA53-4E5643C3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51C6-88DF-4668-A665-D6240C6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EFA4-D94D-44D2-911B-F26244EE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3DFD-5D36-4DB3-8819-0892757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13D5-841A-465C-8B31-F18AE6B6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DB0D-23AA-4263-8344-01D071DF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CF10-D196-467D-85C2-1D288C1E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8B578-3271-43F4-960B-CEEFC134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423-F297-4333-ADAB-7A1098B0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D5E2-1A99-4B5F-8468-C41BAFC6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8CB82-7428-46B5-87A0-91B1D685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C93B2-827A-41AB-8415-7632EA6C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57F4-503F-4125-8D7B-4A34158B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B230-044C-4F29-8B2D-74F6FAF0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19AC4-8BE7-4BA4-8107-9BDDAFD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A0E57-4A99-403D-8843-E1D5188C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4EC36-77E9-4EEE-B1A1-6516AA90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A14F1-1F13-46DD-9555-AEA86241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8E89-8910-494D-856E-3012E509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57B-F4E3-4EEF-9AC4-3BB2DB4C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8818D-BC8E-40FB-87F4-C163B8B3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26430-DCA5-4862-B14C-1C243AC0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A3B3-2A27-4523-8EBD-6B0DD55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173A-82A3-4B36-B88C-AF8722C9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5355E-FD98-411D-A097-0B98C050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EBCE1-6C26-4ABB-9522-B2AE1B91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3366-BD40-4401-B529-DD14F0B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5E832-2009-4161-B205-10D4CE1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184C3-CB12-47A4-BC88-7002DFD7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1CE24-FF38-40CC-A00D-4A283AC1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4F5-3EC7-4B67-8A24-7423DAA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882E-2545-40FE-AD11-DB39B919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5718-B407-4ADB-95C5-EADBFD22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368A-AE8B-4775-BEDC-2523CA45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907AD-DEE3-4ED4-841C-61CEE58C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B8DD-B18A-4720-AE52-BDE2C18E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99FF6-FCDE-41A5-BC1E-D4AD8961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AC3AA-9934-498C-A342-58033C99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FF6C-0846-45AB-91AF-A630C865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6649-FC71-4AA1-919A-1C4EE7D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6C69A-97E9-4318-8C7F-577B321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B54-7DD4-4CF4-A73F-840975FE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9A2BA-A690-417F-B21E-FAAEA7D5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D3FA-769F-4759-BF1E-DDA5D49C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22D6C-764D-4CFA-9413-1CCF9EE9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2CA2B-AFDF-4146-9DC2-15429957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09A50-8696-4E3E-8AE1-12B58217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5CDAD-10B4-4AF1-9A5D-8107A9CF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63E9A-5797-486A-988D-9971D637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8951D-80AF-4CA2-B827-9E3EE123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096FC-698F-489D-AF99-CB9374C4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2A844-56C4-4959-A43E-8D316257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C09-6201-4D88-98AC-3B81655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41AAC-E721-4BC2-B839-B9786FF3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235D-AE5B-47A6-B334-B808E3F3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7702-C1FC-459A-96DA-683A8505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A1DCD-83DE-4B8F-8D66-17E4710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9A677-70AF-49F5-8A5A-261ECABD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6F4CA-92BE-4649-85D5-B3736E50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FFF9A-B2BA-4E8C-8C04-30D49F2F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CBCBA-4FC1-4007-9AB1-8C98B3AD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C921F-BD6A-43E9-8E83-109994AC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C8E71-1D5A-4FC8-8A4F-6345CE2A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EB64-DA17-4C57-9C78-85F4533C9A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2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70E5-824E-4FC4-9469-50A2CF0B9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0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7C82-09AC-4662-8527-426081BEE2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9CE3-C537-4846-BF08-3AF8E60981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E36F-E6FD-4264-B5D8-A33BF82A37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BC18-D7CC-4F43-B157-5F31CD6733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D400-86D3-4100-9599-5025851DA3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7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37CA-CE63-4AB2-A6E2-5C60EF046E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51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3D6E-FD9C-4542-AC82-721ED54192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2E21-408E-4A95-961B-5700DFD3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C8B7-BEE8-4358-B25D-023CBCD1F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4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9F94-AB1E-46F6-AE4B-B4647463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7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10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cc"/>
                </a:solidFill>
                <a:latin typeface="Tahoma"/>
              </a:rPr>
              <a:t>ИСПОЛЬЗОВАНИЕ ИНФОРМАЦИОННЫХ ТЕХНОЛОГИЙ В УЧЕБНОМ ПРОЦЕССЕ НА УРОКАХ РУССКОГО ЯЗЫКА И ЛИТЕРАТУРЫ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468360" y="4581360"/>
            <a:ext cx="1577880" cy="202896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314820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4427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пользование элементов компьютеризации в органичном сочетании с дифференцированным методом обучения позволяют учителю опросить почти весь класс за время уро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большой опыт накоплен у меня по проведению уроков контроля над знаниями учащихся: уроки-зачеты, тестирование по различным темам, словарно-орфографические диктанты, контрольные диктанты и многое другое.     Использую как готовые программ-тренажеров (“Фраза”, “Буква потерялась”), так и собственные презентации к урокам, составленные мною с учетом изученного материала, способностей данного класса, к тому же в этом случае материал располагаю в нужном мне порядке, использую рисунки, схемы, таблицы, заставки. Все это помогает ученику подготовиться к ЕГЭ. Учащимся, успешно усвоившим грамматический материал, предлагается разработать презентацию к уроку по определенной тем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здесь начало здорового соперничества: кому же удастся представить работу совершенную как в техническом плане, так и в эстетическом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427280" y="-360"/>
            <a:ext cx="4716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работаны два варианта использования техники на урок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уроке закрепления темы целесообразен комплексный опрос ,на уроке объяснения нового материала - поэтапное обращение к техни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ллюстрирую фрагмент урока по теме “Бессоюзные сложные предложения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рточка №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Словарная рабо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дание: вставьте Ь, если нуж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жеч…ся, отреж…, ералаш…, сплош…, красуеш…ся, птич…и, хорош…, навзнич…, около дач…, дым пожарищ…, лит…ся с крыш…, назнач…те. Мимо рощ…, ландыш… пахуч…, замаж…те, с плеч…, воз…ми, умен…шить, тон…ш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II. Одна из частей сложного предложения синтаксически подчиняется другой и зависит от неё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ложносочинённом предложени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ложноподчинённом предложен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бята, избегающие самостоятельности, предпочитают списывать с доски. Ученик остаётся наедине с достаточно сложной орфограммой, рассчитанной на повторение различных функций Ь (смягчающая, разделяющая, образующая грамматическую форму слова.. Учитель также выясняет теоретическую подготовку к уроку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    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В настоящее время уже разработано программное обеспечение практически по любому предмету, в том числе и по русскому языку. Оно включает в себя обучающие и контролирующие программы. Например, существует программа «RUSSIAN» или« 1С Репетитор», которая включает в себя весь школьный курс русского языка. При помощи программы ученик самостоятельно может проверить свой уровень знаний по теории, выполнить теоретико-практические задания. Здесь имеются вопросы по правописанию действительных и страдательных причастий, причастных оборотов, знаков препинания при них. </a:t>
            </a:r>
            <a:br>
              <a:rPr sz="1800"/>
            </a:b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     Практически по любому разделу русского языка составлены тесты.  Особое внимание хочу уделить разнообразию диктантов, представленных в этих программах: здесь и словарные, и орфографические, и орфоэпические, и контрольные диктанты, диктанты с грамматическими заданиями. Ученик должен вписать пропущенную букву, знак препинания. Затем машина суммирует ошибки и выставляет оценку. Точно так же, как и письменные диктанты, можно использовать словарный диктант при закреплении, контрольный диктант после освящения темы. Программы могу быть использованы и для самоконтроля, и для контроля со стороны учителя и для подготовки к ЕГЭ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-181080" y="1197000"/>
            <a:ext cx="223200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 всего выше сказанного можно сделать выво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менение информационных технологий в учебном процессе способствует :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ыработке общеучебных навыков рациональной организации учебного труда; -радикальному изменению учебного процесса, переориентированию его в сторону развития системного мышлени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повышению качества обуч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эффективной организации познавательной деятельности учащихся и формированию высокого уровня мотивации, интереса к учебной деятельнос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развитию у каждого школьника собственной образовательной траектории в связи с появлением неограниченных возможностей для индивидуализации и дифференциации учебного процесс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развитию самостоятельности учащихс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развитию сложившейся методологии образования за счет явных преимуществ новых информационных технологий, а именно: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возможности наглядного и динамичного представления информации с использованием изображений и звука (текстовая, графическая, аудио- и видеоинформация, анимация);   б) применения удаленного доступа к информационным ресурсам, обеспечивающим привлечение научной и культурной информаци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непрерывности и преемственности компьютерного образования на всех уровнях обучения от дошкольного до послевузовского; непрерывность может быть обеспечена компьютерной поддержкой всех школьных дисциплин: от общеобразовательных до профиль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6732720" y="4941720"/>
            <a:ext cx="241128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978280" cy="280224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3772080" cy="33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«Приохотить» ученика к учению гораздо более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    достойная задача учителя, чем «приневолить» его.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                                             К. Д. Ушинск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настоящее время, на стыке веков и тысячелетий, компьютеризация охватила практически все сферы человеческой деятельности. Уже не представляется возможной жизнедеятельность человека без компьютера. Широкое распространение получают персональные компьютеры и в школах. Возникла необходимость в новой модели обучения, построенной на основе современных информационных технологий, реализующей принципы личностно ориентированного  образования.   Информационные технологии, рассматриваемые как один из компонентов целостной системы обучения, не только облегчают доступ к информации, открывают возможности вариативности учебной деятельности, ее индивидуализации и дифференциации, но и позволяют по-новому организовать взаимодействие всех субъектов обучения, построить образовательную систему, в которой ученик был бы активным и равноправным участником образовательной 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234936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7020000" y="5805360"/>
            <a:ext cx="161928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недрение новых информационных технологий в учебный процесс позволяет активизировать процесс обучения, реализовать идеи развивающего обучения, повысить темп урока, увеличить объем самостоятельной работы учащихся .Педагогические технологии не остались в стороне от всеобщего процесса компьютеризации .Перед учителем – словесником, который собирается использовать возможности компьютера на своих уроках, всегда возникают вопросы о целесообразности его использования на уроках русского языка и литературы, о том, в какой степени компьютер может заменить учителя и на каких этапах урока, а также о том, какие   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дидактические функции можно возложить на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компьютер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6012000" y="4411800"/>
            <a:ext cx="3132000" cy="244620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21477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спользуя на своих уроках компьютер, я получила ответы на эти и многие другие вопросы. Я применяю компьютер на уроках, во-первых, для того, чтобы решать специальные практические задачи, записанные в программе по русскому языку и литературе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·   формирование прочных орфографических и пунктуационных умений и навыков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·   обогащение словарного запаса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·   овладение нормами литературного языка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·   знание лингвистических и литературоведческих терминов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подготовка к ЕГЭ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·   наконец, формирование общеучебных умений и навыков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-вторых, обучение предполагает общение на уроке как между учителем и учащимися, так и общение учащихся друг с другом .Использование ИКТ позволяет погрузиться в другой мир, увидеть его своими глазами, стать как бы участником того или иного процесса. Управление обучением с помощью компьютера приводит к повышению эффективности усвоения, активизации мыслительной деятельности учащихся. Одно из основных назначений компьютера как средства обучения – организация работы учащихся с помощью программно – педагогических средств, от степени совершенства которых и зависит эффективность обучения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6877080" y="5661000"/>
            <a:ext cx="212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51832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Для решения таких задач компьютер является хорошим помощником учителю-словеснику наряду с другими средствами обучения. Сразу хочется оговориться, что подготовка и проведение уроков с компьютерной поддержкой требуют от учителя очень много времени и терпения. Но зато такие уроки приносят большое удовлетворение и ученикам, и учителю. Компьютерная деятельность на уроке ориентирована на поддержку традиционного курса обучения, и в этом случае она не только не отвлекает ученика от предмета, но и служит развитию у ребёнка повышенного интереса к нему. Для повышения эффективности обучения используются разнообразные средства обучения: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электронные учебники в виде специально разработанных программ или презентаций;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тренажёры, работа с которыми позволяет учащимся выполнить достаточное количество заданий, способствующих автоматизации умений и навыков;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программы для контроля уровня знаний, например, с помощью тестов;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ресурсы Интернета, с образовательной информацией в разных сферах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5) собственные презентации и мн.др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111600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Компьютер обладает достаточно широкими возможностями для создания благоприятных условий работы по осмыслению орфографического (пунктуационного) правила. В обучающих программах могут быть использованы разнообразные формы наглядности, которые способствуют различные способы организации и предъявления теоретического материала в виде таблиц, схем, опорных конспектов и так далее. И демонстрирует не только статичную информацию, но и различные языковые явления в динамике с применением  цвета, графики, эффекта мерцания, звука, пиктографии, «оживления» иллюстраций и так далее (это качественно новый уровень применения объяснительно-иллюстративного и репродуктивного методов обучения).   Использование ИКТ на уроках русского языка позволяет разнообразить формы работы, деятельность учащихся, активизировать внимание, повышает творческий потенциал личности. Построение схем, таблиц в презентации позволяет экономить время, более эстетично оформить материал. Задания с последующей проверкой активизируют внимание учащихся, формируют  орфографическую зоркость. Использование кроссвордов, иллюстраций, рисунков, различных занимательных заданий, тестов, воспитывают интерес к уроку; делают урок более интересным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7885080" y="5300640"/>
            <a:ext cx="1258920" cy="155736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23840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7120" y="1241280"/>
            <a:ext cx="8516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а уроках литературы, применение ИКТ позволяет использовать разнообразный иллюстративно-информационный материал. Причем материал находят сами учащиеся в Интернете, составляют презентации, таким образом, ИКТ развивает самостоятельность учащихся, умение находить, отбирать и оформлять материал к уроку. Уроки в компьютерном классе развивают умение учащихся работать с компьютером, самостоятельно решать учебные задачи. Использование тестов помогает не только экономить время учителя, но и дает возможность учащимся самим оценить свои знания, свои возможности, подготовится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к ЕГЭ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45147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электронной техники возможно на различных этапах урока: на этапах орфографической разминки, закрепления новой темы, проведения самостоятельной работы .На любом этапе урока можно и необходимо использовать мультимедиа  .Мультимедийные технологии- это возможность более иллюстративного, наглядного представления материала, эффективной проверки знаний, реализация индивидуализации и дифференциации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я программную сред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wer Poin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,    мою составлены видеотексты, разнообразные презентации, представленные в виде слайдов к урокам русского языка и литературы, МХК, внеклассным мероприятиям, но я  использую и готовые мультимедийные програм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651200" y="259920"/>
            <a:ext cx="44928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им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очные и обучающие упражнения  могут состоять 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-х карто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рточки № 1,2 рассчитаны на учеников с высокими учебными возможностями: карточки № 3, 4 – на “среднего” ученика. Каждая карточка содержит три зад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ания № 1 –словарная рабо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ания № 2 – закрепление и проверка усвоения изучаемой пунктограм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ание № 3 – проверка теоретического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4284720" y="3933720"/>
            <a:ext cx="462420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0" y="0"/>
            <a:ext cx="4788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рточка № 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I. Словарно-орфографическая рабо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дание: раскройте скоб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Мало)помалу, (с)боку(на)бок, (в)начале века, (по)видимому, (во)первых, факт(на)лицо, (в)добавок, пришёл(таки), видите(ли), он(так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II. Вставьте пропущенные буквы, расставьте знаки препина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Хорошо прин…лись многие саженц… например клён тополь акац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По его мнению как правило люди настойч…вые дост…гают своих ц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Боязнь пустын… хотя я пустын… не вид…л пр…обрела у меня навязч…вый характе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Однажды вечером это было (в)начале 1773 года с…дел дома один слушая вой осе…его ветра      и смотря в окно на тучи б…гущие мимо лу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Он заболел а знач…т на его поддержку ра…читывать нельз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III. Найдите слова, не являющиеся вводн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йствительно, лучше сказать, всё-таки, к радости, притом, значит, между т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три задания тематически между собой связаны: словарная работа предусматривает попутное повторение и орфографическую подготовку к следующему задан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427280" y="0"/>
            <a:ext cx="4716360" cy="66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аким образом, ребята, отработав орфограммы в задании № 1, не “загружены” этими трудностями. Одновременно идёт проверка “узнавания” орфограмм в потоке с другими орфограмм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задании № 2 внимание ученика сконцентрировано на обосновании и выборе знаков препинания, что является основной задачей уро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дание № 3 рассчитано на проверку знаний тео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еник работает самостоятельно в течение 10 мин. Объём , характер заданий позволяют выявить орфографические и пунктуационные знания за 10 ми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8"/>
          <a:stretch/>
        </p:blipFill>
        <p:spPr>
          <a:xfrm>
            <a:off x="4716360" y="3500280"/>
            <a:ext cx="42116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03:53Z</dcterms:created>
  <dc:creator>Наталья</dc:creator>
  <dc:description/>
  <dc:language>en-US</dc:language>
  <cp:lastModifiedBy>Наталья</cp:lastModifiedBy>
  <dcterms:modified xsi:type="dcterms:W3CDTF">2010-01-07T13:36:26Z</dcterms:modified>
  <cp:revision>5</cp:revision>
  <dc:subject/>
  <dc:title>ИСПОЛЬЗОВАНИЕ ИНФОРМАЦИОННЫХ ТЕХНОЛОГИЙ В УЧЕБНОМ ПРОЦЕССЕ НА УРОКАХ РУССКОГО ЯЗЫКА И ЛИТЕРАТУРЫ</dc:title>
</cp:coreProperties>
</file>