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AF5-8B75-47CF-8257-3F8B81D6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456-BDB8-400F-9A29-FD32EF6B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D57-C467-42A2-8AB1-EE38BFF1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630-57A7-40CB-AA3C-7A1F6355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7455-AECB-4649-B611-E8F5F123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BBA-BBFC-4776-BB34-A4C6F086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F7EE-A20D-4C16-A95E-CB2C346C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B59-7E6A-44B3-AC65-3886AD8B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C78-5632-46A7-BCB7-69BE98C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448-6A19-410E-8185-BDA4AA89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ED6E-8F38-4AA5-8D08-F02C681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FAE-0135-4747-9CA9-E6BEE6E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517-2836-4D88-BF10-6001030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1A5E-30EF-4056-9B6D-CFBA9D4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0C6-293F-4377-84CE-A5BD442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5E7-F2C1-4F42-92BC-E30D0F18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845-2177-4F53-8F7D-2E22C42E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D1D-56DD-4DF0-8AAB-C6ED0C28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398-D6DD-4FDB-83B8-04CA814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7D1-3307-4099-952E-D6712F7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AD8-703E-4C9A-8104-7C1BD4A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963-8AB7-4900-9674-C982702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7E6-5E75-44AA-8EA7-74F0DAD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AB6-B655-49F3-8B4F-46ECAC7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EB25-5DCD-4D32-A317-F1866DCA7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C542-6E4E-4FD0-8B07-DEE1BA4B3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Конституция РФ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то осуществляет власть в РФ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504560" y="62866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1"/>
          <p:cNvSpPr/>
          <p:nvPr/>
        </p:nvSpPr>
        <p:spPr>
          <a:xfrm>
            <a:off x="214200" y="1214280"/>
            <a:ext cx="56437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Президент РФ, Федеральное собрание, Правительство РФ, суды РФ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Стрелка влево 5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Государственная власть в РФ осуществляется на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8004600" y="6000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снове разделения на законодательную, исполнительную и судебную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сновные права и свободы человека неотчуждаемы и принадлежат каждому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8218800" y="6215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От рож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еред законом и судом вс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8290440" y="63579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ав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Мужчины и женщины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8004600" y="6215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Имеют равные прав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Своя игра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На какой срок до судебного решения лицо  может быть подвергнуто задержанию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8218800" y="6143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 48 ча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езидентом РФ может быть избран гражданин РФ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7790400" y="5786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е моложе 35 лет, постоянно проживающий в РФ не менее 10 ле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и вступлении в должность Президент РФ приносит народу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7718760" y="6143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ся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то является Верховным Главнокомандующим Вооруженными силами РФ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7647480" y="6215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езидент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езидент РФ обладает 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7576200" y="5786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1857240" y="2428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рикосновенность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Стрелка влево 3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57120" y="785880"/>
          <a:ext cx="8429760" cy="6794280"/>
        </p:xfrm>
        <a:graphic>
          <a:graphicData uri="http://schemas.openxmlformats.org/drawingml/2006/table">
            <a:tbl>
              <a:tblPr/>
              <a:tblGrid>
                <a:gridCol w="3592440"/>
                <a:gridCol w="1192320"/>
                <a:gridCol w="1214640"/>
                <a:gridCol w="1215720"/>
                <a:gridCol w="121464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конституционного стро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Права и свободы человека и граждан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Президент Р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Судебная вл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Правительство РФ и Федеральное собр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авосудие в РФ осуществляется только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7861680" y="6215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у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удьями могут быть граждане РФ,  достигшие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7647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5 л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Вопрос-аукци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7435800" y="6000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вопро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колько  судей в Конституционном суде РФ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7647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ем назначается Генеральный прокурор РФ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7647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езиден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357200" y="14446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о осуществляет исполнительную власть РФ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78616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42960" y="785880"/>
          <a:ext cx="6786720" cy="3930480"/>
        </p:xfrm>
        <a:graphic>
          <a:graphicData uri="http://schemas.openxmlformats.org/drawingml/2006/table">
            <a:tbl>
              <a:tblPr/>
              <a:tblGrid>
                <a:gridCol w="3214800"/>
                <a:gridCol w="1285920"/>
                <a:gridCol w="1143000"/>
                <a:gridCol w="1143000"/>
              </a:tblGrid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вопросы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Преамбу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Права и свободы человека и граждан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8ae"/>
                      </a:solidFill>
                    </a:lnL>
                    <a:lnR w="5760">
                      <a:solidFill>
                        <a:srgbClr val="0068ae"/>
                      </a:solidFill>
                    </a:lnR>
                    <a:lnT w="5760">
                      <a:solidFill>
                        <a:srgbClr val="0068ae"/>
                      </a:solidFill>
                    </a:lnT>
                    <a:lnB w="5760">
                      <a:solidFill>
                        <a:srgbClr val="0068ae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авительство 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Федеральное Собрание состоит из двух палат-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647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вета Федерации и Государственной Думы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"/>
          <p:cNvSpPr/>
          <p:nvPr/>
        </p:nvSpPr>
        <p:spPr>
          <a:xfrm>
            <a:off x="1258920" y="184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енная Дума состоит из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7433280" y="6000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450 депута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В течение какого срока принятый закон направляется на подпись Президенту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7647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 течение 5 дн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гда была принята Конституция РФ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2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екабря 1993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з скольки статей состоит Конституция РФ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7701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колько конституций было принято уже в нашем государств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колько глав и разделов в Конституции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7701480" y="6072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9 глав и 2 разде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При каком президенте была принята Конституция РФ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 Борисе Ель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Стрелка влево 2"/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акими словами начинается преамбула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Мы, многонациональный народ РФ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акими словами заканчивается преамбула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инимаем Конституцию Р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Что чтет наш народ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то и что, согласно конституции РФ является высшей ценностью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7718760" y="59292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амять пред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Стрелка влево 2"/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колько статей в конституции посвящается правам и свободам человека и гражданина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7698600" y="6072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4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Стрелка влево 2"/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Достоинство личности охраняется….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государств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Стрелка влево 2"/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Что не допускается без согласия человека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7697880" y="6072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бор, хранение, использование и распространение информации о частной жизни лиц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Стрелка влево 2"/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1918, 1924, 1936, 1978,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Человек, его права и своб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то является единственным источником власти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8076240" y="62866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ногонациональный на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Стрелка влево 2">
            <a:hlinkClick r:id="rId1" action="ppaction://hlinksldjump"/>
          </p:cNvPr>
          <p:cNvSpPr/>
          <p:nvPr/>
        </p:nvSpPr>
        <p:spPr>
          <a:xfrm>
            <a:off x="214200" y="5929200"/>
            <a:ext cx="28584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дима</cp:lastModifiedBy>
  <dcterms:modified xsi:type="dcterms:W3CDTF">2010-12-01T11:51:49Z</dcterms:modified>
  <cp:revision>44</cp:revision>
  <dc:subject/>
  <dc:title>Слайд 1</dc:title>
</cp:coreProperties>
</file>