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C107-FA41-470C-9F5D-2971A712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9B49-9475-49A8-98C2-CBAC0285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E42-B97C-40ED-908B-7F7F497A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3352-2A30-4D72-A134-EDC6878B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C072-252C-4470-8728-ED47A4ED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2E72-F01F-4710-80C5-300CB9A7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1A5-15E7-42E2-8ADA-E9500181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B4C-A3E8-4FEC-949B-DC36F3BF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9B4-BC32-422B-8BFA-E8283F05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23FC-A3A5-42D7-ADD8-01332BBD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81CF-AAF1-44F8-A55F-3156C10C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7BB-0FF3-4B46-9515-94111A24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5520-CBD9-4C28-9394-B42D2537B6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8.xml"/><Relationship Id="rId3" Type="http://schemas.openxmlformats.org/officeDocument/2006/relationships/slide" Target="slide20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29.xml"/><Relationship Id="rId3" Type="http://schemas.openxmlformats.org/officeDocument/2006/relationships/slide" Target="slide31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39.xml"/><Relationship Id="rId3" Type="http://schemas.openxmlformats.org/officeDocument/2006/relationships/slide" Target="slide41.xml"/><Relationship Id="rId4" Type="http://schemas.openxmlformats.org/officeDocument/2006/relationships/slide" Target="slide45.xm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0.xml"/><Relationship Id="rId3" Type="http://schemas.openxmlformats.org/officeDocument/2006/relationships/slide" Target="slide52.xml"/><Relationship Id="rId4" Type="http://schemas.openxmlformats.org/officeDocument/2006/relationships/slide" Target="slide56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0880" y="6095880"/>
            <a:ext cx="876312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Порт-Ар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Владиво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Южно-Сахали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сско-японская война началас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атаки японских кораблей н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Порт-Ар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Владиво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Южно-Сахали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сско-японская война началас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атаки японских кораблей н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Порт-Ар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Владиво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Южно-Сахали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сско-японская война началас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атаки японских кораблей н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Порт-Ар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Владиво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Южно-Сахали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сско-японская война началас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атаки японских кораблей н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Порт-Ар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Владиво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Южно-Сахали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сско-японская война началас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атаки японских кораблей н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Порт-Ар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Владиво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Южно-Сахали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сско-японская война началас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атаки японских кораблей н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380880" y="6095880"/>
            <a:ext cx="876312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685800" y="419112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>
            <a:hlinkClick r:id="rId1" action="ppaction://hlinksldjump"/>
          </p:cNvPr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>
            <a:hlinkClick r:id="rId2" action="ppaction://hlinksldjump"/>
          </p:cNvPr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Безобр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>
            <a:hlinkClick r:id="rId3" action="ppaction://hlinksldjump"/>
          </p:cNvPr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Стес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>
            <a:hlinkClick r:id="rId4" action="ppaction://hlinksldjump"/>
          </p:cNvPr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1"/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командовал нашей сухопут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рмией в русско-японской войн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Безобр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Стес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командовал нашей сухопут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рмией в русско-японской войн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Безобр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Стес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командовал нашей сухопут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рмией в русско-японской войн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entury Gothic"/>
              </a:rPr>
              <a:t>Кто хочет стать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38095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ff"/>
                </a:solidFill>
                <a:latin typeface="Century Gothic"/>
              </a:rPr>
              <a:t>отличником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380880" y="6095880"/>
            <a:ext cx="876312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Безобр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Стес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командовал нашей сухопут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рмией в русско-японской войн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Безобр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Стес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командовал нашей сухопут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рмией в русско-японской войн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Безобр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Стес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командовал нашей сухопут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рмией в русско-японской войн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Безобр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Стес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командовал нашей сухопут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рмией в русско-японской войн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Безобр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Стес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командовал нашей сухопут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рмией в русско-японской войн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Безобр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Стес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командовал нашей сухопут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рмией в русско-японской войн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80880" y="6095880"/>
            <a:ext cx="876312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685800" y="419112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685800" y="502920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3429000" y="373392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"/>
          <p:cNvSpPr/>
          <p:nvPr/>
        </p:nvSpPr>
        <p:spPr>
          <a:xfrm>
            <a:off x="380880" y="6095880"/>
            <a:ext cx="876312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685800" y="335268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">
            <a:hlinkClick r:id="rId1" action="ppaction://hlinksldjump"/>
          </p:cNvPr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Руд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>
            <a:hlinkClick r:id="rId2" action="ppaction://hlinksldjump"/>
          </p:cNvPr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Мака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8">
            <a:hlinkClick r:id="rId3" action="ppaction://hlinksldjump"/>
          </p:cNvPr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9">
            <a:hlinkClick r:id="rId4" action="ppaction://hlinksldjump"/>
          </p:cNvPr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Цусимском сражении русски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ководи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Руд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Мака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Цусимском сражении русски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ководи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380880" y="6095880"/>
            <a:ext cx="876312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609480" y="4572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оложите в хронологическом поряд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я русско-японской вой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609480" y="2895480"/>
            <a:ext cx="42674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сражение под Мукде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609480" y="3733920"/>
            <a:ext cx="42674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сражение под Ляоя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609480" y="4648320"/>
            <a:ext cx="42674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Цусимское с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609480" y="5486400"/>
            <a:ext cx="42674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сдача Порт-Ар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Руд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Мака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Цусимском сражении русски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ководи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Руд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Мака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Цусимском сражении русски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ководи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Руд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Мака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Цусимском сражении русски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ководи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Руд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Мака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Цусимском сражении русски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ководи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Руд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Мака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Цусимском сражении русски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ководи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Руд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Мака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Цусимском сражении русски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ководи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Руд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Мака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Цусимском сражении русски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ководи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380880" y="6095880"/>
            <a:ext cx="876312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2"/>
          <p:cNvSpPr/>
          <p:nvPr/>
        </p:nvSpPr>
        <p:spPr>
          <a:xfrm>
            <a:off x="685800" y="251460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>
            <a:hlinkClick r:id="rId1" action="ppaction://hlinksldjump"/>
          </p:cNvPr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оненосцем «Петропавловс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7">
            <a:hlinkClick r:id="rId2" action="ppaction://hlinksldjump"/>
          </p:cNvPr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крейсером «Варяг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8">
            <a:hlinkClick r:id="rId3" action="ppaction://hlinksldjump"/>
          </p:cNvPr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канонеркой «Коре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9">
            <a:hlinkClick r:id="rId4" action="ppaction://hlinksldjump"/>
          </p:cNvPr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роной Порт-Арт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 командовал контр-адмира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дне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оненосцем «Петропавловс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крейсером «Варяг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канонеркой «Коре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роной Порт-Арт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 командовал контр-адмира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дне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80880" y="6095880"/>
            <a:ext cx="876312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609480" y="4572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оложите в хронологическом поряд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я русско-японской вой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609480" y="2895480"/>
            <a:ext cx="42674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сражение под Мукде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609480" y="3733920"/>
            <a:ext cx="42674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сражение под Ляоя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609480" y="4648320"/>
            <a:ext cx="42674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Цусимское с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609480" y="5486400"/>
            <a:ext cx="42674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сдача Порт-Ар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112E-017 0.01111 L 0.46667 -0.08333 E">
                                      <p:cBhvr>
                                        <p:cTn id="33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11111E-006 L 0.46667 -0.21667 E">
                                      <p:cBhvr>
                                        <p:cTn id="3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1.11111E-006 L 0.46667 0.28333 E">
                                      <p:cBhvr>
                                        <p:cTn id="39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33333E-006 L 0.46667 0.15 E">
                                      <p:cBhvr>
                                        <p:cTn id="42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оненосцем «Петропавловс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крейсером «Варяг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канонеркой «Коре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роной Порт-Арт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 командовал контр-адмира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дне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оненосцем «Петропавловс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крейсером «Варяг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канонеркой «Коре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роной Порт-Арт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 командовал контр-адмира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дне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оненосцем «Петропавловс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крейсером «Варяг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канонеркой «Коре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роной Порт-Арт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 командовал контр-адмира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дне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оненосцем «Петропавловс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крейсером «Варяг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канонеркой «Коре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роной Порт-Арт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 командовал контр-адмира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дне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оненосцем «Петропавловс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крейсером «Варяг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канонеркой «Коре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роной Порт-Арт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 командовал контр-адмира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дне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оненосцем «Петропавловс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крейсером «Варяг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канонеркой «Коре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роной Порт-Арт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 командовал контр-адмира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дне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оненосцем «Петропавловс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крейсером «Варяг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канонеркой «Коре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роной Порт-Арт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 командовал контр-адмира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дне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7"/>
          <p:cNvSpPr/>
          <p:nvPr/>
        </p:nvSpPr>
        <p:spPr>
          <a:xfrm>
            <a:off x="380880" y="6095880"/>
            <a:ext cx="876312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2"/>
          <p:cNvSpPr/>
          <p:nvPr/>
        </p:nvSpPr>
        <p:spPr>
          <a:xfrm>
            <a:off x="685800" y="251460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2"/>
          <p:cNvSpPr/>
          <p:nvPr/>
        </p:nvSpPr>
        <p:spPr>
          <a:xfrm>
            <a:off x="685800" y="335268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685800" y="419112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2"/>
          <p:cNvSpPr/>
          <p:nvPr/>
        </p:nvSpPr>
        <p:spPr>
          <a:xfrm>
            <a:off x="685800" y="502920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2"/>
          <p:cNvSpPr/>
          <p:nvPr/>
        </p:nvSpPr>
        <p:spPr>
          <a:xfrm>
            <a:off x="3429000" y="213372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7"/>
          <p:cNvSpPr/>
          <p:nvPr/>
        </p:nvSpPr>
        <p:spPr>
          <a:xfrm>
            <a:off x="380880" y="6095880"/>
            <a:ext cx="876312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2"/>
          <p:cNvSpPr/>
          <p:nvPr/>
        </p:nvSpPr>
        <p:spPr>
          <a:xfrm>
            <a:off x="685800" y="167652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">
            <a:hlinkClick r:id="rId1" action="ppaction://hlinksldjump"/>
          </p:cNvPr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7">
            <a:hlinkClick r:id="rId2" action="ppaction://hlinksldjump"/>
          </p:cNvPr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Никола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8">
            <a:hlinkClick r:id="rId3" action="ppaction://hlinksldjump"/>
          </p:cNvPr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Вит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rId4" action="ppaction://hlinksldjump"/>
          </p:cNvPr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1"/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Кто возглавлял российскую делегацию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на подписании Портсмутского мира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380880" y="6095880"/>
            <a:ext cx="876312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685800" y="167652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>
            <a:off x="685800" y="251460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685800" y="335268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/>
          <p:cNvSpPr/>
          <p:nvPr/>
        </p:nvSpPr>
        <p:spPr>
          <a:xfrm>
            <a:off x="685800" y="419112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/>
          <p:cNvSpPr/>
          <p:nvPr/>
        </p:nvSpPr>
        <p:spPr>
          <a:xfrm>
            <a:off x="685800" y="502920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685800" y="83808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2"/>
          <p:cNvSpPr/>
          <p:nvPr/>
        </p:nvSpPr>
        <p:spPr>
          <a:xfrm>
            <a:off x="3429000" y="373392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3429000" y="213372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>
            <a:off x="3429000" y="45720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3429000" y="548640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Никола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Вит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Кто возглавлял российскую делегацию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на подписании Портсмутского мира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Никола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Вит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Кто возглавлял российскую делегацию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на подписании Портсмутского мира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Никола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Вит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Кто возглавлял российскую делегацию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на подписании Портсмутского мира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Никола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Вит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Кто возглавлял российскую делегацию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на подписании Портсмутского мира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Никола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Вит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1"/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Кто возглавлял российскую делегацию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на подписании Портсмутского мира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Никола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Вит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1"/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Кто возглавлял российскую делегацию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на подписании Портсмутского мира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Никола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Вит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Кто возглавлял российскую делегацию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на подписании Портсмутского мира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Куропат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Никола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Вит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ож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1"/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Кто возглавлял российскую делегацию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на подписании Портсмутского мира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380880" y="6095880"/>
            <a:ext cx="876312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2"/>
          <p:cNvSpPr/>
          <p:nvPr/>
        </p:nvSpPr>
        <p:spPr>
          <a:xfrm>
            <a:off x="685800" y="83808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южной части Сахали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ендных прав на Порт-Арту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выплаты контрибу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еимущественных прав в Коре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1"/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го не добилась Япония п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ловиям Портсмутского ми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380880" y="6095880"/>
            <a:ext cx="876312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685800" y="502920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южной части Сахали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ендных прав на Порт-Арту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выплаты контрибу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еимущественных прав в Коре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1"/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го не добилась Япония п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ловиям Портсмутского ми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южной части Сахали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ендных прав на Порт-Арту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выплаты контрибу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еимущественных прав в Коре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1"/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го не добилась Япония п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ловиям Портсмутского ми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южной части Сахали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ендных прав на Порт-Арту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выплаты контрибу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еимущественных прав в Коре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1"/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го не добилась Япония п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ловиям Портсмутского ми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южной части Сахали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ендных прав на Порт-Арту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выплаты контрибу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еимущественных прав в Коре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1"/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го не добилась Япония п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ловиям Портсмутского ми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южной части Сахали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ендных прав на Порт-Арту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выплаты контрибу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еимущественных прав в Коре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1"/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го не добилась Япония п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ловиям Портсмутского ми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южной части Сахали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ендных прав на Порт-Арту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выплаты контрибу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еимущественных прав в Коре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1"/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го не добилась Япония п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ловиям Портсмутского ми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южной части Сахали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ендных прав на Порт-Арту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выплаты контрибу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еимущественных прав в Коре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1"/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го не добилась Япония п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ловиям Портсмутского ми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южной части Сахали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ендных прав на Порт-Арту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выплаты контрибу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еимущественных прав в Коре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1"/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го не добилась Япония п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ловиям Портсмутского ми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AutoShape 5"/>
          <p:cNvSpPr/>
          <p:nvPr/>
        </p:nvSpPr>
        <p:spPr>
          <a:xfrm>
            <a:off x="609480" y="457200"/>
            <a:ext cx="792504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здравля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4"/>
          <p:cNvSpPr/>
          <p:nvPr/>
        </p:nvSpPr>
        <p:spPr>
          <a:xfrm>
            <a:off x="762120" y="2209680"/>
            <a:ext cx="7619760" cy="2667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Ваш выигры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c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AutoShape 5"/>
          <p:cNvSpPr/>
          <p:nvPr/>
        </p:nvSpPr>
        <p:spPr>
          <a:xfrm>
            <a:off x="609480" y="457200"/>
            <a:ext cx="792504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в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762120" y="2209680"/>
            <a:ext cx="7619760" cy="2667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Ваш выигры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00b05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>
            <a:hlinkClick r:id="rId1" action="ppaction://hlinksldjump"/>
          </p:cNvPr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Порт-Ар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>
            <a:hlinkClick r:id="rId2" action="ppaction://hlinksldjump"/>
          </p:cNvPr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Владиво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>
            <a:hlinkClick r:id="rId3" action="ppaction://hlinksldjump"/>
          </p:cNvPr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Южно-Сахали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>
            <a:hlinkClick r:id="rId4" action="ppaction://hlinksldjump"/>
          </p:cNvPr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1"/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сско-японская война началас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атаки японских кораблей н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AutoShape 2"/>
          <p:cNvSpPr/>
          <p:nvPr/>
        </p:nvSpPr>
        <p:spPr>
          <a:xfrm>
            <a:off x="609480" y="457200"/>
            <a:ext cx="792504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в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4"/>
          <p:cNvSpPr/>
          <p:nvPr/>
        </p:nvSpPr>
        <p:spPr>
          <a:xfrm>
            <a:off x="762120" y="2209680"/>
            <a:ext cx="7619760" cy="2667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Ваш выигры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AutoShape 2"/>
          <p:cNvSpPr/>
          <p:nvPr/>
        </p:nvSpPr>
        <p:spPr>
          <a:xfrm>
            <a:off x="609480" y="457200"/>
            <a:ext cx="792504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Ув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762120" y="2209680"/>
            <a:ext cx="7619760" cy="2667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Ваш выигры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Порт-Ар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Владиво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Южно-Сахали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сско-японская война началас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атаки японских кораблей н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609480" y="5562720"/>
            <a:ext cx="3505320" cy="5331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: Порт-Ар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609480" y="4724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Владиво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4952880" y="4724280"/>
            <a:ext cx="35816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Южно-Сахали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4952880" y="5562720"/>
            <a:ext cx="35816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>
            <a:hlinkClick r:id="rId1" action="ppaction://hlinksldjump"/>
          </p:cNvPr>
          <p:cNvSpPr/>
          <p:nvPr/>
        </p:nvSpPr>
        <p:spPr>
          <a:xfrm>
            <a:off x="609480" y="1828800"/>
            <a:ext cx="792504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сско-японская война началас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атаки японских кораблей н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609480" y="5335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0-09-11T14:20:20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