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2.jpeg" ContentType="image/jpeg"/>
  <Override PartName="/ppt/media/image19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C86-6221-4D3E-9E6D-19EDC02A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3CE-F0BF-4149-83E7-095C48BF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11C-5267-4E9D-90DF-76E1C709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942-78CB-40A6-818C-45996AE9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4756-A8C0-441D-A212-925238E3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700F-1B56-4053-B5AE-E87C51B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A29F-C98A-4918-A066-ECBD7964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DE60-DC20-4F88-9EC0-CC89669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D6FC-57A1-4A3B-8C41-98CB95BF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B718-12EF-45FD-9386-A1F5F47C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43DE-F8D0-4BE6-89EE-47EF3E85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F6C-A3AF-44E1-AB76-8A4C91E2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679C-FBCE-4152-A2CD-BABC409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F023-4790-4A2A-84A7-0F40B62F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FAAE-6D16-4CA5-A73D-A5137854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CF21-01D2-4DED-BB83-6EB47AEF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B83D-4D2C-443A-A9AB-CB826935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C82C-79CC-4433-8C7C-503D5897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6F6A-8698-471A-889B-FDFA7AF8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1C3D-D5D4-49DC-AA28-C5861FB9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0F2C-814C-4329-B198-32792422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826B0-8675-4EAC-98AA-7F3E1DC2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643-5FD0-4C2F-84FC-0A0700F3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5F1A-41FF-4311-8708-C7FAD88F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2E79-6092-4D1E-94F3-8EAA4FE7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5037-DC78-4979-B7AC-CBACA86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97E5-BCA1-466F-AF2E-5337831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1F31-E14C-4FB7-BA8F-6936F08F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7B96-F1B9-4CEB-B565-D3717A4E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F39D-9C7A-46DD-8D72-0B22434F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CE17-B846-4FC0-BEEA-22B7F4BB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1F98-ECA6-45FD-BB9B-7551DB5F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955C-7A43-4885-8F0E-973C6C6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27A-2EA4-4A70-AD7E-D4C7573F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542B-FFCA-4401-A541-710DCBB2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E0C7D-4628-4EAB-A649-04178C69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14030-8241-4579-8F43-F2E87B9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8A10-70D3-4254-A0F2-1D7FD7D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17FD-3B3B-4F2F-9B0B-9943D3FF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0097-2608-476C-AD94-8370768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84CB-63F3-4833-A32D-EC1F7709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0445E-1935-4544-AF74-EC4B8CFD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1249B-CDF1-4B7C-BFC6-F488B157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9513D-2E21-48B4-B30B-2E2357AF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080-4068-4734-BB22-9A399D1E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0B349-9649-47FC-B967-FA3E480D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28F79-869E-454C-9CE8-3FB8144A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32EB4-2EBC-4779-ABC9-3A96BB4E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E660E-5986-4839-A035-42D52B7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89A16-53AC-4555-B041-343B4F89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3BE63-009F-4B62-BAC4-9095023A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954A7-7CB4-4232-80A0-88E8223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EF3DE-F6A4-4158-B5C4-71F46E0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EEDC-3838-4143-AF18-623D59C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67247-DE51-42C7-8961-6C609AF4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4BB-D804-4EAF-8516-6FEE8753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35D27-61FA-4901-A5E0-44D1C7D7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3242-4317-4286-9773-8E2A27FD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A11F3-E0E8-4BA5-BBCD-1DE10284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B7B2-0EAB-491D-90F8-304376FD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0C98E-6B69-4061-8303-0EB2A177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6C2F0-1A01-45FD-B8E2-A67FE725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B066C-2346-4F03-A3AA-35193679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DC4DE-A473-4C0F-9A45-21140C72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F3926-42CC-4542-816E-08AD71E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0B51-A8A0-4FE2-BB61-0902807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650-2213-430E-A322-0B920F27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D6FB6-BE17-4A7D-845C-0EBB1959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60F2-940E-4232-90C2-9EC893DC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DC641-A68D-4B3B-917F-506D54B2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EF5-C703-425C-99A2-B899D2D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A38-7D09-4F63-A40C-907E7F94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00A9-5794-4CEF-89E5-5B3C918C2A7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9EBC-1482-4902-B67A-5E05124EE83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4E22-9270-4A65-BAD7-130698D2CAC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B902-6AC1-4BD4-A984-851B54FADC2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41F0-4456-4873-82DE-C51633733DA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1904-2AA6-46B9-9A62-3374460EC21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920960" y="146160"/>
            <a:ext cx="5265720" cy="10731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" descr="p60.jpg"/>
          <p:cNvPicPr/>
          <p:nvPr/>
        </p:nvPicPr>
        <p:blipFill>
          <a:blip r:embed="rId2"/>
          <a:stretch/>
        </p:blipFill>
        <p:spPr>
          <a:xfrm>
            <a:off x="974880" y="993600"/>
            <a:ext cx="7053120" cy="10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Содержимое 3" descr="d88b5358e3083938eaf56022dfc6384f_big.jpg"/>
          <p:cNvPicPr/>
          <p:nvPr/>
        </p:nvPicPr>
        <p:blipFill>
          <a:blip r:embed="rId1"/>
          <a:srcRect l="4361" t="0" r="0" b="0"/>
          <a:stretch/>
        </p:blipFill>
        <p:spPr>
          <a:xfrm>
            <a:off x="0" y="0"/>
            <a:ext cx="938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0" name="Содержимое 5" descr="IMG_1213_2_05r_resize.jpg"/>
          <p:cNvPicPr/>
          <p:nvPr/>
        </p:nvPicPr>
        <p:blipFill>
          <a:blip r:embed="rId1"/>
          <a:stretch/>
        </p:blipFill>
        <p:spPr>
          <a:xfrm>
            <a:off x="0" y="0"/>
            <a:ext cx="5165640" cy="30718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0_43b_43a59efa_XL.jpeg"/>
          <p:cNvPicPr/>
          <p:nvPr/>
        </p:nvPicPr>
        <p:blipFill>
          <a:blip r:embed="rId2"/>
          <a:stretch/>
        </p:blipFill>
        <p:spPr>
          <a:xfrm>
            <a:off x="142920" y="3051000"/>
            <a:ext cx="5000760" cy="38070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7" descr="calrel.jpg"/>
          <p:cNvPicPr/>
          <p:nvPr/>
        </p:nvPicPr>
        <p:blipFill>
          <a:blip r:embed="rId3"/>
          <a:stretch/>
        </p:blipFill>
        <p:spPr>
          <a:xfrm>
            <a:off x="5357880" y="285840"/>
            <a:ext cx="3786120" cy="6357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8"/>
          <p:cNvSpPr/>
          <p:nvPr/>
        </p:nvSpPr>
        <p:spPr>
          <a:xfrm>
            <a:off x="14688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к-кросо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9"/>
          <p:cNvSpPr/>
          <p:nvPr/>
        </p:nvSpPr>
        <p:spPr>
          <a:xfrm>
            <a:off x="3720600" y="6488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ук-ол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6652800" y="648828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овосек реликт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Содержимое 3" descr="6265.jpg"/>
          <p:cNvPicPr/>
          <p:nvPr/>
        </p:nvPicPr>
        <p:blipFill>
          <a:blip r:embed="rId1"/>
          <a:stretch/>
        </p:blipFill>
        <p:spPr>
          <a:xfrm>
            <a:off x="0" y="1376280"/>
            <a:ext cx="4714920" cy="54817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906924dae8b0edae8047d9de415d401d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53578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5"/>
          <p:cNvSpPr/>
          <p:nvPr/>
        </p:nvSpPr>
        <p:spPr>
          <a:xfrm>
            <a:off x="793800" y="107172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ерин башма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6652800" y="5429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ьш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Содержимое 3" descr="original.jpg"/>
          <p:cNvPicPr/>
          <p:nvPr/>
        </p:nvPicPr>
        <p:blipFill>
          <a:blip r:embed="rId1"/>
          <a:stretch/>
        </p:blipFill>
        <p:spPr>
          <a:xfrm>
            <a:off x="0" y="0"/>
            <a:ext cx="3782880" cy="45259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535217_513008.jpg"/>
          <p:cNvPicPr/>
          <p:nvPr/>
        </p:nvPicPr>
        <p:blipFill>
          <a:blip r:embed="rId2"/>
          <a:stretch/>
        </p:blipFill>
        <p:spPr>
          <a:xfrm>
            <a:off x="3429000" y="2990880"/>
            <a:ext cx="5715000" cy="38671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5"/>
          <p:cNvSpPr/>
          <p:nvPr/>
        </p:nvSpPr>
        <p:spPr>
          <a:xfrm>
            <a:off x="3933360" y="3571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1373400" y="6488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ка-мандар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Содержимое 3" descr="2.jpg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0384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amur-tiger.jpg"/>
          <p:cNvPicPr/>
          <p:nvPr/>
        </p:nvPicPr>
        <p:blipFill>
          <a:blip r:embed="rId2"/>
          <a:stretch/>
        </p:blipFill>
        <p:spPr>
          <a:xfrm>
            <a:off x="0" y="3071880"/>
            <a:ext cx="504180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5"/>
          <p:cNvSpPr/>
          <p:nvPr/>
        </p:nvSpPr>
        <p:spPr>
          <a:xfrm>
            <a:off x="7433280" y="414324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8280" y="271476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урский тиг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Содержимое 3" descr="077-01-5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6" descr="0004-004-ZHivotnye-Ros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7" descr=""/>
          <p:cNvPicPr/>
          <p:nvPr/>
        </p:nvPicPr>
        <p:blipFill>
          <a:blip r:embed="rId2"/>
          <a:stretch/>
        </p:blipFill>
        <p:spPr>
          <a:xfrm>
            <a:off x="2517840" y="79200"/>
            <a:ext cx="2889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4" descr="сосна.jpg"/>
          <p:cNvPicPr/>
          <p:nvPr/>
        </p:nvPicPr>
        <p:blipFill>
          <a:blip r:embed="rId1"/>
          <a:stretch/>
        </p:blipFill>
        <p:spPr>
          <a:xfrm>
            <a:off x="0" y="3178080"/>
            <a:ext cx="2571840" cy="36799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ель.jpg"/>
          <p:cNvPicPr/>
          <p:nvPr/>
        </p:nvPicPr>
        <p:blipFill>
          <a:blip r:embed="rId2"/>
          <a:stretch/>
        </p:blipFill>
        <p:spPr>
          <a:xfrm>
            <a:off x="3000240" y="1357200"/>
            <a:ext cx="2778120" cy="466740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6" descr="пихта.jpg"/>
          <p:cNvPicPr/>
          <p:nvPr/>
        </p:nvPicPr>
        <p:blipFill>
          <a:blip r:embed="rId3"/>
          <a:stretch/>
        </p:blipFill>
        <p:spPr>
          <a:xfrm>
            <a:off x="6357960" y="328608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7" descr="лиственница.jpg"/>
          <p:cNvPicPr/>
          <p:nvPr/>
        </p:nvPicPr>
        <p:blipFill>
          <a:blip r:embed="rId4"/>
          <a:stretch/>
        </p:blipFill>
        <p:spPr>
          <a:xfrm>
            <a:off x="0" y="0"/>
            <a:ext cx="3214800" cy="32860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9"/>
          <p:cNvSpPr/>
          <p:nvPr/>
        </p:nvSpPr>
        <p:spPr>
          <a:xfrm>
            <a:off x="7431840" y="64882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149040" y="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11"/>
          <p:cNvSpPr/>
          <p:nvPr/>
        </p:nvSpPr>
        <p:spPr>
          <a:xfrm>
            <a:off x="3357720" y="2357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Содержимое 3" descr="кедровая сосна.jpg"/>
          <p:cNvPicPr/>
          <p:nvPr/>
        </p:nvPicPr>
        <p:blipFill>
          <a:blip r:embed="rId5"/>
          <a:stretch/>
        </p:blipFill>
        <p:spPr>
          <a:xfrm>
            <a:off x="5357880" y="0"/>
            <a:ext cx="3786120" cy="33177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4"/>
          <p:cNvSpPr/>
          <p:nvPr/>
        </p:nvSpPr>
        <p:spPr>
          <a:xfrm>
            <a:off x="6438960" y="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дровая 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3" descr="0_44c4a_25027891_XL.jpe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5" descr=""/>
          <p:cNvPicPr/>
          <p:nvPr/>
        </p:nvPicPr>
        <p:blipFill>
          <a:blip r:embed="rId2"/>
          <a:stretch/>
        </p:blipFill>
        <p:spPr>
          <a:xfrm>
            <a:off x="2114640" y="0"/>
            <a:ext cx="493236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Содержимое 3" descr="осина.jpg"/>
          <p:cNvPicPr/>
          <p:nvPr/>
        </p:nvPicPr>
        <p:blipFill>
          <a:blip r:embed="rId1"/>
          <a:stretch/>
        </p:blipFill>
        <p:spPr>
          <a:xfrm>
            <a:off x="1143000" y="3457440"/>
            <a:ext cx="3643200" cy="34005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8" descr="берёза.jpg"/>
          <p:cNvPicPr/>
          <p:nvPr/>
        </p:nvPicPr>
        <p:blipFill>
          <a:blip r:embed="rId2"/>
          <a:stretch/>
        </p:blipFill>
        <p:spPr>
          <a:xfrm>
            <a:off x="0" y="0"/>
            <a:ext cx="2500200" cy="3740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9" descr="ольха.jpg"/>
          <p:cNvPicPr/>
          <p:nvPr/>
        </p:nvPicPr>
        <p:blipFill>
          <a:blip r:embed="rId3"/>
          <a:stretch/>
        </p:blipFill>
        <p:spPr>
          <a:xfrm>
            <a:off x="4286160" y="0"/>
            <a:ext cx="2357640" cy="38656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1"/>
          <p:cNvSpPr/>
          <p:nvPr/>
        </p:nvSpPr>
        <p:spPr>
          <a:xfrm>
            <a:off x="1433160" y="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Рисунок 12" descr="дуб0.jpg"/>
          <p:cNvPicPr/>
          <p:nvPr/>
        </p:nvPicPr>
        <p:blipFill>
          <a:blip r:embed="rId4"/>
          <a:stretch/>
        </p:blipFill>
        <p:spPr>
          <a:xfrm>
            <a:off x="6572160" y="2727360"/>
            <a:ext cx="2571840" cy="4130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3"/>
          <p:cNvSpPr/>
          <p:nvPr/>
        </p:nvSpPr>
        <p:spPr>
          <a:xfrm>
            <a:off x="4287240" y="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2576880" y="6488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7719120" y="6488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3" descr="липа.jpg"/>
          <p:cNvPicPr/>
          <p:nvPr/>
        </p:nvPicPr>
        <p:blipFill>
          <a:blip r:embed="rId1"/>
          <a:stretch/>
        </p:blipFill>
        <p:spPr>
          <a:xfrm>
            <a:off x="2143080" y="3127320"/>
            <a:ext cx="4071960" cy="37306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5" descr="вяз.jpg"/>
          <p:cNvPicPr/>
          <p:nvPr/>
        </p:nvPicPr>
        <p:blipFill>
          <a:blip r:embed="rId2"/>
          <a:stretch/>
        </p:blipFill>
        <p:spPr>
          <a:xfrm>
            <a:off x="5500800" y="0"/>
            <a:ext cx="3643200" cy="36273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6" descr="клёнy.jpg"/>
          <p:cNvPicPr/>
          <p:nvPr/>
        </p:nvPicPr>
        <p:blipFill>
          <a:blip r:embed="rId3"/>
          <a:stretch/>
        </p:blipFill>
        <p:spPr>
          <a:xfrm>
            <a:off x="0" y="0"/>
            <a:ext cx="2643120" cy="39592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7"/>
          <p:cNvSpPr/>
          <p:nvPr/>
        </p:nvSpPr>
        <p:spPr>
          <a:xfrm>
            <a:off x="2648520" y="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ё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0"/>
          <p:cNvSpPr/>
          <p:nvPr/>
        </p:nvSpPr>
        <p:spPr>
          <a:xfrm>
            <a:off x="8074800" y="357192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я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6290280" y="6500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5" descr="Кедровка.jpeg"/>
          <p:cNvPicPr/>
          <p:nvPr/>
        </p:nvPicPr>
        <p:blipFill>
          <a:blip r:embed="rId1"/>
          <a:stretch/>
        </p:blipFill>
        <p:spPr>
          <a:xfrm>
            <a:off x="0" y="357120"/>
            <a:ext cx="2679840" cy="35719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6"/>
          <p:cNvSpPr/>
          <p:nvPr/>
        </p:nvSpPr>
        <p:spPr>
          <a:xfrm>
            <a:off x="579960" y="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д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Содержимое 8" descr="f_13043913.jpg"/>
          <p:cNvPicPr/>
          <p:nvPr/>
        </p:nvPicPr>
        <p:blipFill>
          <a:blip r:embed="rId2"/>
          <a:stretch/>
        </p:blipFill>
        <p:spPr>
          <a:xfrm>
            <a:off x="2571840" y="1143000"/>
            <a:ext cx="3525840" cy="23526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9"/>
          <p:cNvSpPr/>
          <p:nvPr/>
        </p:nvSpPr>
        <p:spPr>
          <a:xfrm>
            <a:off x="3573720" y="71424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1"/>
          <p:cNvSpPr/>
          <p:nvPr/>
        </p:nvSpPr>
        <p:spPr>
          <a:xfrm>
            <a:off x="574920" y="648828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Рисунок 12" descr="volk3.jpg"/>
          <p:cNvPicPr/>
          <p:nvPr/>
        </p:nvPicPr>
        <p:blipFill>
          <a:blip r:embed="rId3"/>
          <a:stretch/>
        </p:blipFill>
        <p:spPr>
          <a:xfrm>
            <a:off x="5915160" y="357120"/>
            <a:ext cx="3228840" cy="46674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3"/>
          <p:cNvSpPr/>
          <p:nvPr/>
        </p:nvSpPr>
        <p:spPr>
          <a:xfrm>
            <a:off x="6715080" y="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14" descr="бурундук.jpg"/>
          <p:cNvPicPr/>
          <p:nvPr/>
        </p:nvPicPr>
        <p:blipFill>
          <a:blip r:embed="rId4"/>
          <a:stretch/>
        </p:blipFill>
        <p:spPr>
          <a:xfrm>
            <a:off x="4143240" y="4378320"/>
            <a:ext cx="3225960" cy="247968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5" descr="LJ_FOX1.jpg"/>
          <p:cNvPicPr/>
          <p:nvPr/>
        </p:nvPicPr>
        <p:blipFill>
          <a:blip r:embed="rId5"/>
          <a:stretch/>
        </p:blipFill>
        <p:spPr>
          <a:xfrm>
            <a:off x="0" y="3929040"/>
            <a:ext cx="3699000" cy="2649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6"/>
          <p:cNvSpPr/>
          <p:nvPr/>
        </p:nvSpPr>
        <p:spPr>
          <a:xfrm>
            <a:off x="7573320" y="6072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унд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7" descr="летяга.jpg"/>
          <p:cNvPicPr/>
          <p:nvPr/>
        </p:nvPicPr>
        <p:blipFill>
          <a:blip r:embed="rId1"/>
          <a:stretch/>
        </p:blipFill>
        <p:spPr>
          <a:xfrm>
            <a:off x="3786120" y="285840"/>
            <a:ext cx="5500800" cy="34671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8"/>
          <p:cNvSpPr/>
          <p:nvPr/>
        </p:nvSpPr>
        <p:spPr>
          <a:xfrm>
            <a:off x="3714480" y="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ка-летя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Рисунок 9" descr="мишка.jpg"/>
          <p:cNvPicPr/>
          <p:nvPr/>
        </p:nvPicPr>
        <p:blipFill>
          <a:blip r:embed="rId2"/>
          <a:stretch/>
        </p:blipFill>
        <p:spPr>
          <a:xfrm>
            <a:off x="0" y="3857760"/>
            <a:ext cx="3108240" cy="26334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0"/>
          <p:cNvSpPr/>
          <p:nvPr/>
        </p:nvSpPr>
        <p:spPr>
          <a:xfrm>
            <a:off x="571320" y="6488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ый мед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Рисунок 11" descr="лось.jpg"/>
          <p:cNvPicPr/>
          <p:nvPr/>
        </p:nvPicPr>
        <p:blipFill>
          <a:blip r:embed="rId3"/>
          <a:stretch/>
        </p:blipFill>
        <p:spPr>
          <a:xfrm>
            <a:off x="3571920" y="3801960"/>
            <a:ext cx="4214880" cy="30560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2"/>
          <p:cNvSpPr/>
          <p:nvPr/>
        </p:nvSpPr>
        <p:spPr>
          <a:xfrm>
            <a:off x="7720560" y="6488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Содержимое 3" descr="3470429.jpg"/>
          <p:cNvPicPr/>
          <p:nvPr/>
        </p:nvPicPr>
        <p:blipFill>
          <a:blip r:embed="rId4"/>
          <a:stretch/>
        </p:blipFill>
        <p:spPr>
          <a:xfrm>
            <a:off x="0" y="42876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4"/>
          <p:cNvSpPr/>
          <p:nvPr/>
        </p:nvSpPr>
        <p:spPr>
          <a:xfrm>
            <a:off x="3960" y="29289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Рисунок 4" descr="Рисунок3.jpg"/>
          <p:cNvPicPr/>
          <p:nvPr/>
        </p:nvPicPr>
        <p:blipFill>
          <a:blip r:embed="rId1"/>
          <a:stretch/>
        </p:blipFill>
        <p:spPr>
          <a:xfrm>
            <a:off x="0" y="4390920"/>
            <a:ext cx="3181320" cy="24670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"/>
          <p:cNvSpPr/>
          <p:nvPr/>
        </p:nvSpPr>
        <p:spPr>
          <a:xfrm>
            <a:off x="3214800" y="34920"/>
            <a:ext cx="2786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9e98e"/>
                </a:solidFill>
                <a:latin typeface="Times New Roman"/>
                <a:ea typeface="Calibri"/>
              </a:rPr>
              <a:t>С.Никулина </a:t>
            </a:r>
            <a:r>
              <a:rPr b="0" lang="ru-RU" sz="1200" spc="-1" strike="noStrike">
                <a:solidFill>
                  <a:srgbClr val="f9e98e"/>
                </a:solidFill>
                <a:latin typeface="Calibri"/>
                <a:ea typeface="Calibri"/>
              </a:rPr>
              <a:t>«</a:t>
            </a:r>
            <a:r>
              <a:rPr b="0" lang="ru-RU" sz="1200" spc="-1" strike="noStrike">
                <a:solidFill>
                  <a:srgbClr val="f9e98e"/>
                </a:solidFill>
                <a:latin typeface="Times New Roman"/>
                <a:ea typeface="Calibri"/>
              </a:rPr>
              <a:t>Русский лес</a:t>
            </a:r>
            <a:r>
              <a:rPr b="0" lang="ru-RU" sz="1200" spc="-1" strike="noStrike">
                <a:solidFill>
                  <a:srgbClr val="f9e98e"/>
                </a:solidFill>
                <a:latin typeface="Calibri"/>
                <a:ea typeface="Calibri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т ничего миле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Бродить и думать здес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Излечит, обогрее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кормит русский л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А будет жажда мучить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То мне лесович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Средь зарослей колюч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кажет роднич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гнусь к нему напиться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видно все до д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чет вода-водиц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Вкусна и холод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с ждут в лесу рябин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Орехи и цветы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Душистая мал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кустиках густ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Ищу грибов поля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Я, не жалея ног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А если и устан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сяду на пен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Лес очень любит пе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ля них совсем он св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есь где-то бродит ле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С зеленой бород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Жизнь кажется иною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сердце не боли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гда над головою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вечность, лес шуми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Содержимое 9" descr="40157800_06.jpg"/>
          <p:cNvPicPr/>
          <p:nvPr/>
        </p:nvPicPr>
        <p:blipFill>
          <a:blip r:embed="rId2"/>
          <a:stretch/>
        </p:blipFill>
        <p:spPr>
          <a:xfrm>
            <a:off x="0" y="0"/>
            <a:ext cx="3198960" cy="435780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10" descr="50429667_38188028_1232016213_D0A0D18FD0B1D0B8D0BDD0B0201.jpg"/>
          <p:cNvPicPr/>
          <p:nvPr/>
        </p:nvPicPr>
        <p:blipFill>
          <a:blip r:embed="rId3"/>
          <a:stretch/>
        </p:blipFill>
        <p:spPr>
          <a:xfrm>
            <a:off x="5572080" y="2602080"/>
            <a:ext cx="3197160" cy="4255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11" descr="Рисунок4.jpg"/>
          <p:cNvPicPr/>
          <p:nvPr/>
        </p:nvPicPr>
        <p:blipFill>
          <a:blip r:embed="rId4"/>
          <a:stretch/>
        </p:blipFill>
        <p:spPr>
          <a:xfrm>
            <a:off x="5191200" y="0"/>
            <a:ext cx="3952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25:52Z</dcterms:created>
  <dc:creator>Admin</dc:creator>
  <dc:description/>
  <dc:language>en-US</dc:language>
  <cp:lastModifiedBy>Admin</cp:lastModifiedBy>
  <dcterms:modified xsi:type="dcterms:W3CDTF">2012-03-13T18:07:13Z</dcterms:modified>
  <cp:revision>16</cp:revision>
  <dc:subject/>
  <dc:title>Слайд 1</dc:title>
</cp:coreProperties>
</file>