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AB3-DF3F-428C-9075-DBC55590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2C3-2CC5-43CC-939A-C0DB858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63E-9CED-42D4-A4BE-3F318635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E25-F75D-4591-B073-60FCA292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0CE-5674-46C3-A613-E87E3D0F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DAA9-F022-4806-9ABE-D32E8625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FA2E-47BD-4676-9C57-1D47E5C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78BE-0641-4528-B0CB-213F647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94F-5DEE-489B-9BB6-95A5826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A0C1-AB7D-496E-B028-BB01669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E86-13D5-4FFB-A4FD-2478948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142-2A2E-4315-89FD-BE77333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886-9FBF-4250-83D7-37BA707F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64A4-4727-4CCB-92F4-70F9BC0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0B96-CF46-49EE-ACF5-882B0AF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D413-775C-47BA-8B80-DBBCC655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4392-5291-4C01-86DF-1D69003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1D9-CBE2-4E22-9BA1-8A1360E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670-884B-4D32-93AD-93762DB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672-AEB8-4B20-A4E1-B94BA3A2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0F8-02F9-40D5-A4C1-991BCA0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C2D-BB20-4F68-BC6A-988D613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658-5574-416B-97AA-00ED431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C5E-5CBF-4D89-849C-AD932F3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4103-8422-4955-B5F9-96A77B2874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669-351E-4C3E-B0BC-BC85D7568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2193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еждометия. Можно ли без них обойтис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010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и: Коновалова А., УгурлуеваЭ, ученицы 7-В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: Жигалова Е.С.,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251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 такое междомет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е — это слова, выражающие чувства, настроения (ах!, ох!, тьфу!) и побуждения (прочь!, шабаш!), но не называющие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ждометия не изменяются по родам и по числам. При использовании во множественном числе междометия становятся именами существитель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8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6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Разряды междометий по значени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04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эмоциональные междометия: ах, ой-ой-ой, увы, боже мой, батюшки, и др.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императивные междометия выражают побуждение к действию, команды, приказы: ну, эй, караул, кис-кис, вон, кыш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) этикетные междометия : здравствуй(те), привет, спасибо, пожалуй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2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42640" y="129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крики-выкрики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!, О!, У!, Ух!, Фу!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ились «стихийно-импульсивно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о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лло!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явилосьвместе с телефоном, скорее всего, пришло из английского языка и восходит к английскому hello "здравствуй«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лое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ю-ба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Скорее всего, это форма глагола баять "говорить, рассказывать сказки". следовательно, баю-бай является родственником слов басня, краснобай, обаятельны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"/>
          <p:cNvGraphicFramePr/>
          <p:nvPr/>
        </p:nvGraphicFramePr>
        <p:xfrm>
          <a:off x="165240" y="1447920"/>
          <a:ext cx="897876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47920"/>
                    <a:ext cx="897876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-паразиты типа “ммм” и “эээ” активизируют внимание слушателей. Такое открытие сделали шотландские ученые, перевернув наши представления о междометиях-парази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нсационное открыт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ждометия взывают о помощ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лось, что звуки «гм-м» или «э-э-э» означают просьбу о психологической поддержке. «Воспринимайте их как зашифрованное послание: «Послушай, у меня проблемы», – совету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295_188"/>
          <p:cNvPicPr/>
          <p:nvPr/>
        </p:nvPicPr>
        <p:blipFill>
          <a:blip r:embed="rId1"/>
          <a:stretch/>
        </p:blipFill>
        <p:spPr>
          <a:xfrm>
            <a:off x="4673520" y="4749840"/>
            <a:ext cx="44704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45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к можно обойтись без междомети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040" y="4051080"/>
            <a:ext cx="66675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и делают речь яркой, и без них она станет менее эмоциональной, ску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руб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ие, просто необходимо гнать их из нашей речи, чтобы сделать ее чистой, правильной и мелодичн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15T05:18:1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