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10.wmf" ContentType="image/x-wmf"/>
  <Override PartName="/ppt/media/image2.png" ContentType="image/png"/>
  <Override PartName="/ppt/media/image25.png" ContentType="image/png"/>
  <Override PartName="/ppt/media/image7.gif" ContentType="image/gif"/>
  <Override PartName="/ppt/media/image8.gif" ContentType="image/gif"/>
  <Override PartName="/ppt/media/image9.wmf" ContentType="image/x-wmf"/>
  <Override PartName="/ppt/media/image14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E38-4D32-4F78-8C40-2B2DC46A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E29-906D-40B2-8BD4-95558FEA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8FD-DF1B-4069-BF5D-F9873575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459-14FE-494E-B37D-F58358CA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E331-2005-45A8-9BCE-D526864F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8382-735E-4A89-8B7D-2208A132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CFEB-C1CC-45ED-A17B-F4502F66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6818-516E-4091-8F89-BD955857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8FBD-EDAC-4737-868E-06734B8B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0995-CE52-4D50-9720-268CD5F0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9124-832E-4682-8BD8-D61643D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092-942E-4EC2-ACB7-733E426C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EB11-BF99-4E2D-9F7A-4805DE9E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2952-AB93-4B80-A81C-B8299285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E620-E68B-4029-914E-BA567B02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4587-A76A-4A58-AFAD-07EFF1C1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A5B4-E0B5-4B60-9306-0B0C4DFA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F982-713D-4587-8B44-09D503F6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DD71-757D-4D55-953B-7941192F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7B46-FEF0-48EF-ADB1-D4116FF3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1B67-8233-4796-9CC6-5A990CBA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4D9F-7095-41F1-8000-014BFC85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D41-8615-4E6C-9504-23CD0BC2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805D-92BB-4380-A24A-9CB1782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9163-3177-4648-812E-5C14815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E1B8-8AE5-43F3-9E78-4B1C485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448C-E63A-4DFE-9B9B-E29A413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30FA-3721-4BAF-8C41-D692F20A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A42F4-F393-4D34-847D-9A0408F0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58C6-0F0A-463E-BCC7-2A5C79FB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7EC0-CFC6-4ED1-A2E7-45CF7C7E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D511-96A6-4A84-B4FC-7624B7A7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523B-79BA-4DF2-BEB2-98529F19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E10-58FA-4710-B52E-DD5D168A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F03D-8156-4072-B2C1-45AD7205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BB443-2EE4-4E4C-8E96-48EF5250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0D5F-A233-46F9-9450-CF5A6FF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460F-B6BF-4ADA-BDFA-525DABF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74424-7725-443E-BD05-E796FAF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87957-ED48-4A37-B778-585343F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B7E6-1B6B-4913-BCFE-B00752E0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D23C4-C6CC-4030-BF53-5106BE8F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81F6-4A68-4DCE-AB39-FBBD40B6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5E9E5-44AF-4D5D-8693-87F4A4E9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FB9-5414-49B0-AE8C-EF3D62DB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D187-6A10-4AB6-A3DF-A193D212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207EB-AA1C-473A-9657-6B49CD47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FD4CD-F807-420F-82BF-F5307EB3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20AA-63DC-4C1F-9FFE-73D1512D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CDF1-D4CC-4AB8-B286-08F67B76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D1901-4E56-4684-A55B-1B21FAE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945F-9F21-4B74-9200-E0DCA180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695DA-9741-4152-B232-1A375C63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ECA60-0666-42ED-81BE-C45D143E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03E0-FBCF-4D86-A21A-8B8C4886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1D8-93F6-4CA4-8CA3-C19EE1D6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A772-2F3F-41BC-9C00-0F05CCA7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85A99-ECA7-4A7F-BAA3-A8C58188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5B482-F41C-42FC-A067-74AC815E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79DF6-A66D-497C-922B-52124DE8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DC79-46BE-40FD-8071-7D1A74D1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EF400-9479-4B40-A986-A3290DD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A075-57C9-428D-9543-148AA5F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BA64E-F44F-4FF5-AEB5-E09E34B8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97A03-2744-483C-8840-6EA55BE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6EC2-E1CF-4051-9925-D9B1C32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527-46D4-40F6-8022-FAF738C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1621-0A06-4A16-85B0-029B3C3F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9CB4E-4016-447A-8E8E-E8FAC846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60559-9072-487A-A6D4-D6281502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812A8-D2C2-4781-9861-71FE63E7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CD666-873B-4A44-BA27-575E05E7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020D-5D43-4807-B544-D4BAF0CA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016B0-2BA8-4464-9484-8B3F5904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98EF2-693F-4E79-9E41-27F1E1A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0CDE5-8AED-418C-9907-483344A5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6E54D-9486-4825-9814-EA21C134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D29-6C77-4832-9222-1D94617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CB0A7-82DF-4DD7-95F8-7E69FEE7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F64A-7C7C-4BC9-8EF7-F4436FB2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55B7D-54B7-4DDC-BD3B-8D351BCA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8187E-F281-46E9-833F-E2A1F4D8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4DB15-8546-46D3-85F7-5D65AF53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36B-796A-4984-A7C3-60DDDD56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F9C1-43A5-49A6-B687-AF85303ABA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9BA3-5428-412A-B032-4337E63BA2B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69DB-C411-4F3F-B148-D998824A746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4D30-1124-4071-8CD3-6DBACAB776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3A26-2675-40E0-90DB-7B2F10EB43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8C2-5B53-4495-B621-CC3F3E73BB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F9A8-7E96-4527-A6D3-8729894689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gif"/><Relationship Id="rId3" Type="http://schemas.openxmlformats.org/officeDocument/2006/relationships/slide" Target="slide12.xml"/><Relationship Id="rId4" Type="http://schemas.openxmlformats.org/officeDocument/2006/relationships/image" Target="../media/image5.gif"/><Relationship Id="rId5" Type="http://schemas.openxmlformats.org/officeDocument/2006/relationships/slide" Target="slide13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" Target="slide14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image" Target="../media/image5.gif"/><Relationship Id="rId5" Type="http://schemas.openxmlformats.org/officeDocument/2006/relationships/slide" Target="slide10.xm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slide" Target="slide4.xml"/><Relationship Id="rId4" Type="http://schemas.openxmlformats.org/officeDocument/2006/relationships/image" Target="../media/image5.gif"/><Relationship Id="rId5" Type="http://schemas.openxmlformats.org/officeDocument/2006/relationships/slide" Target="slide5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6.png"/><Relationship Id="rId6" Type="http://schemas.openxmlformats.org/officeDocument/2006/relationships/image" Target="../media/image18.png"/><Relationship Id="rId7" Type="http://schemas.openxmlformats.org/officeDocument/2006/relationships/image" Target="../media/image27.png"/><Relationship Id="rId8" Type="http://schemas.openxmlformats.org/officeDocument/2006/relationships/image" Target="../media/image18.png"/><Relationship Id="rId9" Type="http://schemas.openxmlformats.org/officeDocument/2006/relationships/image" Target="../media/image28.png"/><Relationship Id="rId10" Type="http://schemas.openxmlformats.org/officeDocument/2006/relationships/image" Target="../media/image21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gif"/><Relationship Id="rId3" Type="http://schemas.openxmlformats.org/officeDocument/2006/relationships/slide" Target="slide9.xml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" Target="slide6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gif"/><Relationship Id="rId3" Type="http://schemas.openxmlformats.org/officeDocument/2006/relationships/slide" Target="slide9.xml"/><Relationship Id="rId4" Type="http://schemas.openxmlformats.org/officeDocument/2006/relationships/image" Target="../media/image5.gif"/><Relationship Id="rId5" Type="http://schemas.openxmlformats.org/officeDocument/2006/relationships/slide" Target="slide2.xm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gif"/><Relationship Id="rId3" Type="http://schemas.openxmlformats.org/officeDocument/2006/relationships/slide" Target="slide9.xml"/><Relationship Id="rId4" Type="http://schemas.openxmlformats.org/officeDocument/2006/relationships/image" Target="../media/image5.gif"/><Relationship Id="rId5" Type="http://schemas.openxmlformats.org/officeDocument/2006/relationships/slide" Target="slide2.xm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" Target="slide8.xml"/><Relationship Id="rId4" Type="http://schemas.openxmlformats.org/officeDocument/2006/relationships/image" Target="../media/image8.gif"/><Relationship Id="rId5" Type="http://schemas.openxmlformats.org/officeDocument/2006/relationships/slide" Target="slide9.xml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8.gif"/><Relationship Id="rId3" Type="http://schemas.openxmlformats.org/officeDocument/2006/relationships/slide" Target="slide8.xml"/><Relationship Id="rId4" Type="http://schemas.openxmlformats.org/officeDocument/2006/relationships/image" Target="../media/image8.gif"/><Relationship Id="rId5" Type="http://schemas.openxmlformats.org/officeDocument/2006/relationships/image" Target="../media/image6.png"/><Relationship Id="rId6" Type="http://schemas.openxmlformats.org/officeDocument/2006/relationships/slide" Target="slide10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8.gif"/><Relationship Id="rId3" Type="http://schemas.openxmlformats.org/officeDocument/2006/relationships/slide" Target="slide8.xml"/><Relationship Id="rId4" Type="http://schemas.openxmlformats.org/officeDocument/2006/relationships/image" Target="../media/image8.gif"/><Relationship Id="rId5" Type="http://schemas.openxmlformats.org/officeDocument/2006/relationships/slide" Target="slide6.xm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8.gif"/><Relationship Id="rId3" Type="http://schemas.openxmlformats.org/officeDocument/2006/relationships/slide" Target="slide8.xml"/><Relationship Id="rId4" Type="http://schemas.openxmlformats.org/officeDocument/2006/relationships/image" Target="../media/image8.gif"/><Relationship Id="rId5" Type="http://schemas.openxmlformats.org/officeDocument/2006/relationships/slide" Target="slide6.xm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80726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ный тест</a:t>
            </a:r>
            <a:br>
              <a:rPr sz="6000"/>
            </a:br>
            <a:r>
              <a:rPr b="1" lang="ru-RU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Повторяйка»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предназначены функциональные клавиш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42960" y="144756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А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висимости от работающей программы выполняют различные действия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Б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жат для ввода букв и чисел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В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яют курсором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C:\Documents and Settings\Admin\Рабочий стол\геометрия\1025_babochkiz.narod.ru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43800" y="20001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Documents and Settings\Admin\Рабочий стол\геометрия\1025_babochkiz.narod.ru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240" y="37861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Admin\Рабочий стол\геометрия\1025_babochkiz.narod.ru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29240" y="521496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предназначены функциональные клавиш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42960" y="144756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А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висимости от работающей программы выполняют различные действия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Б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жат для ввода букв и чисел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В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яют курсором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2" descr="C:\Documents and Settings\Admin\Рабочий стол\геометрия\1025_babochkiz.narod.ru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240" y="37861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Documents and Settings\Admin\Рабочий стол\геометрия\1025_babochkiz.narod.ru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240" y="5214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Documents and Settings\Admin\Рабочий стол\картинки для презен\s8.png"/>
          <p:cNvPicPr/>
          <p:nvPr/>
        </p:nvPicPr>
        <p:blipFill>
          <a:blip r:embed="rId5"/>
          <a:stretch/>
        </p:blipFill>
        <p:spPr>
          <a:xfrm rot="468600">
            <a:off x="6838920" y="1766520"/>
            <a:ext cx="1959120" cy="1959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C:\Documents and Settings\Admin\Рабочий стол\геометрия\1006_babochkiz.narod.ru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72240" y="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предназначены функциональные клавиш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42960" y="144756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А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висимости от работающей программы выполняют различные действия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Б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жат для ввода букв и чисел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В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яют курсором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2" descr="C:\Documents and Settings\Admin\Рабочий стол\геометрия\1025_babochkiz.narod.ru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43800" y="20001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Documents and Settings\Admin\Рабочий стол\геометрия\1025_babochkiz.narod.ru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240" y="521496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80" name="Облако 6"/>
          <p:cNvSpPr/>
          <p:nvPr/>
        </p:nvSpPr>
        <p:spPr>
          <a:xfrm>
            <a:off x="6643800" y="4000680"/>
            <a:ext cx="1857240" cy="11430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C:\Documents and Settings\Admin\Рабочий стол\геометрия\1006_babochkiz.narod.ru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00960" y="21420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предназначены функциональные клавиш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42960" y="144756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А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висимости от работающей программы выполняют различные действия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Б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жат для ввода букв и чисел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В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яют курсором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2" descr="C:\Documents and Settings\Admin\Рабочий стол\геометрия\1025_babochkiz.narod.ru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43800" y="20001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Documents and Settings\Admin\Рабочий стол\геометрия\1025_babochkiz.narod.ru.gif"/>
          <p:cNvPicPr/>
          <p:nvPr/>
        </p:nvPicPr>
        <p:blipFill>
          <a:blip r:embed="rId3"/>
          <a:stretch/>
        </p:blipFill>
        <p:spPr>
          <a:xfrm>
            <a:off x="6429240" y="378612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86" name="Облако 7"/>
          <p:cNvSpPr/>
          <p:nvPr/>
        </p:nvSpPr>
        <p:spPr>
          <a:xfrm>
            <a:off x="6643800" y="5000760"/>
            <a:ext cx="1857240" cy="11430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C:\Documents and Settings\Admin\Рабочий стол\геометрия\1006_babochkiz.narod.ru.gif"/>
          <p:cNvPicPr/>
          <p:nvPr/>
        </p:nvPicPr>
        <p:blipFill>
          <a:blip r:embed="rId4"/>
          <a:stretch/>
        </p:blipFill>
        <p:spPr>
          <a:xfrm>
            <a:off x="7429680" y="21420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предназначены алфавитно-цифровые клавиши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А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управления курсором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Б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ввода букв и чисел;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В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ется дополнительная клавиатур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2" descr="C:\Documents and Settings\Admin\Рабочий стол\геометрия\126.gif"/>
          <p:cNvPicPr/>
          <p:nvPr/>
        </p:nvPicPr>
        <p:blipFill>
          <a:blip r:embed="rId1"/>
          <a:stretch/>
        </p:blipFill>
        <p:spPr>
          <a:xfrm rot="1641600">
            <a:off x="7319520" y="1679040"/>
            <a:ext cx="1666800" cy="1089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Documents and Settings\Admin\Рабочий стол\геометрия\126.gif"/>
          <p:cNvPicPr/>
          <p:nvPr/>
        </p:nvPicPr>
        <p:blipFill>
          <a:blip r:embed="rId2"/>
          <a:stretch/>
        </p:blipFill>
        <p:spPr>
          <a:xfrm rot="1641600">
            <a:off x="7319520" y="3179520"/>
            <a:ext cx="1666800" cy="1089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Documents and Settings\Admin\Рабочий стол\геометрия\126.gif"/>
          <p:cNvPicPr/>
          <p:nvPr/>
        </p:nvPicPr>
        <p:blipFill>
          <a:blip r:embed="rId3"/>
          <a:stretch/>
        </p:blipFill>
        <p:spPr>
          <a:xfrm rot="1641600">
            <a:off x="7086240" y="4965480"/>
            <a:ext cx="16668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предназначены алфавитно-цифровые клавиши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А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управления курсором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Б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ввода букв и чисел;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В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ется дополнительная клавиатур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2" descr="C:\Documents and Settings\Admin\Рабочий стол\геометрия\126.gif"/>
          <p:cNvPicPr/>
          <p:nvPr/>
        </p:nvPicPr>
        <p:blipFill>
          <a:blip r:embed="rId1"/>
          <a:stretch/>
        </p:blipFill>
        <p:spPr>
          <a:xfrm rot="1641600">
            <a:off x="7319520" y="3179520"/>
            <a:ext cx="1666800" cy="1089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C:\Documents and Settings\Admin\Рабочий стол\геометрия\126.gif"/>
          <p:cNvPicPr/>
          <p:nvPr/>
        </p:nvPicPr>
        <p:blipFill>
          <a:blip r:embed="rId2"/>
          <a:stretch/>
        </p:blipFill>
        <p:spPr>
          <a:xfrm rot="1641600">
            <a:off x="7086240" y="4965480"/>
            <a:ext cx="1666800" cy="1089000"/>
          </a:xfrm>
          <a:prstGeom prst="rect">
            <a:avLst/>
          </a:prstGeom>
          <a:ln w="0">
            <a:noFill/>
          </a:ln>
        </p:spPr>
      </p:pic>
      <p:sp>
        <p:nvSpPr>
          <p:cNvPr id="397" name="Облако 7"/>
          <p:cNvSpPr/>
          <p:nvPr/>
        </p:nvSpPr>
        <p:spPr>
          <a:xfrm>
            <a:off x="7000920" y="1857240"/>
            <a:ext cx="1857240" cy="11430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C:\Documents and Settings\Admin\Рабочий стол\геометрия\1006_babochkiz.narod.ru.gif"/>
          <p:cNvPicPr/>
          <p:nvPr/>
        </p:nvPicPr>
        <p:blipFill>
          <a:blip r:embed="rId3"/>
          <a:stretch/>
        </p:blipFill>
        <p:spPr>
          <a:xfrm>
            <a:off x="357120" y="507204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предназначены алфавитно-цифровые клавиши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А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управления курсором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Б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ввода букв и чисел;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В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ется дополнительная клавиатур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2" descr="C:\Documents and Settings\Admin\Рабочий стол\геометрия\126.gif"/>
          <p:cNvPicPr/>
          <p:nvPr/>
        </p:nvPicPr>
        <p:blipFill>
          <a:blip r:embed="rId1"/>
          <a:stretch/>
        </p:blipFill>
        <p:spPr>
          <a:xfrm rot="1641600">
            <a:off x="7319520" y="1679040"/>
            <a:ext cx="1666800" cy="1089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Documents and Settings\Admin\Рабочий стол\геометрия\126.gif"/>
          <p:cNvPicPr/>
          <p:nvPr/>
        </p:nvPicPr>
        <p:blipFill>
          <a:blip r:embed="rId2"/>
          <a:stretch/>
        </p:blipFill>
        <p:spPr>
          <a:xfrm rot="1641600">
            <a:off x="7086240" y="4965480"/>
            <a:ext cx="1666800" cy="1089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Documents and Settings\Admin\Рабочий стол\картинки для презен\s8.png"/>
          <p:cNvPicPr/>
          <p:nvPr/>
        </p:nvPicPr>
        <p:blipFill>
          <a:blip r:embed="rId3"/>
          <a:stretch/>
        </p:blipFill>
        <p:spPr>
          <a:xfrm rot="468600">
            <a:off x="7061040" y="2552400"/>
            <a:ext cx="1959120" cy="1958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Documents and Settings\Admin\Рабочий стол\геометрия\1006_babochkiz.narod.ru.gif"/>
          <p:cNvPicPr/>
          <p:nvPr/>
        </p:nvPicPr>
        <p:blipFill>
          <a:blip r:embed="rId4"/>
          <a:stretch/>
        </p:blipFill>
        <p:spPr>
          <a:xfrm>
            <a:off x="500040" y="485784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предназначены алфавитно-цифровые клавиши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А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управления курсором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Б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ввода букв и чисел; для управления курсором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e0241"/>
                </a:solidFill>
                <a:latin typeface="Times New Roman"/>
                <a:ea typeface="Times New Roman"/>
              </a:rPr>
              <a:t>В)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ется дополнительная клавиатур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Picture 2" descr="C:\Documents and Settings\Admin\Рабочий стол\геометрия\126.gif"/>
          <p:cNvPicPr/>
          <p:nvPr/>
        </p:nvPicPr>
        <p:blipFill>
          <a:blip r:embed="rId1"/>
          <a:stretch/>
        </p:blipFill>
        <p:spPr>
          <a:xfrm rot="1641600">
            <a:off x="7319520" y="1679040"/>
            <a:ext cx="1666800" cy="1089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Admin\Рабочий стол\геометрия\126.gif"/>
          <p:cNvPicPr/>
          <p:nvPr/>
        </p:nvPicPr>
        <p:blipFill>
          <a:blip r:embed="rId2"/>
          <a:stretch/>
        </p:blipFill>
        <p:spPr>
          <a:xfrm rot="1641600">
            <a:off x="7319520" y="3179520"/>
            <a:ext cx="1666800" cy="1089000"/>
          </a:xfrm>
          <a:prstGeom prst="rect">
            <a:avLst/>
          </a:prstGeom>
          <a:ln w="0">
            <a:noFill/>
          </a:ln>
        </p:spPr>
      </p:pic>
      <p:sp>
        <p:nvSpPr>
          <p:cNvPr id="409" name="Облако 6"/>
          <p:cNvSpPr/>
          <p:nvPr/>
        </p:nvSpPr>
        <p:spPr>
          <a:xfrm>
            <a:off x="6929280" y="5429160"/>
            <a:ext cx="1857600" cy="11430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C:\Documents and Settings\Admin\Рабочий стол\геометрия\1006_babochkiz.narod.ru.gif"/>
          <p:cNvPicPr/>
          <p:nvPr/>
        </p:nvPicPr>
        <p:blipFill>
          <a:blip r:embed="rId3"/>
          <a:stretch/>
        </p:blipFill>
        <p:spPr>
          <a:xfrm>
            <a:off x="285840" y="464328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71680" y="1447560"/>
            <a:ext cx="8362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виатура.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позиция пальцев на клавиатуре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3" name="Picture 5" descr="HACKR008"/>
          <p:cNvPicPr/>
          <p:nvPr/>
        </p:nvPicPr>
        <p:blipFill>
          <a:blip r:embed="rId1"/>
          <a:stretch/>
        </p:blipFill>
        <p:spPr>
          <a:xfrm>
            <a:off x="6643800" y="4071960"/>
            <a:ext cx="2286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Правила работы на клавиатур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Основания ладоней лежат на передней кромке корпуса клавиатуры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Форма кистей округла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Большие пальцы обеих рук полусогнуты над клавишей пробе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Picture 7" descr="KNIGH002"/>
          <p:cNvPicPr/>
          <p:nvPr/>
        </p:nvPicPr>
        <p:blipFill>
          <a:blip r:embed="rId1"/>
          <a:stretch/>
        </p:blipFill>
        <p:spPr>
          <a:xfrm>
            <a:off x="7151760" y="1428840"/>
            <a:ext cx="1992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группы клавиш вы знаете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400" y="1447560"/>
            <a:ext cx="85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А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Б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В)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Documents and Settings\Admin\Рабочий стол\геометрия\1025_babochkiz.narod.ru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57240" y="19288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Documents and Settings\Admin\Рабочий стол\геометрия\1025_babochkiz.narod.ru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14680" y="32860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C:\Documents and Settings\Admin\Рабочий стол\геометрия\1025_babochkiz.narod.ru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28880" y="4643280"/>
            <a:ext cx="164304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виши управления курсоро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Page Up –</a:t>
            </a:r>
            <a:r>
              <a:rPr b="1" lang="en-US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перевод курсора на страницу вверх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Page Down </a:t>
            </a:r>
            <a:r>
              <a:rPr b="1" lang="en-US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перевод курсора на страницу вниз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Home –</a:t>
            </a:r>
            <a:r>
              <a:rPr b="1" lang="en-US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перевод курсора в начало стро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End –</a:t>
            </a:r>
            <a:r>
              <a:rPr b="1" lang="ru-RU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 перевод курсора в конец стро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Delete -</a:t>
            </a:r>
            <a:r>
              <a:rPr b="1" lang="en-US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 удаление символа справ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9" name="Picture 6" descr="SCHOOLG"/>
          <p:cNvPicPr/>
          <p:nvPr/>
        </p:nvPicPr>
        <p:blipFill>
          <a:blip r:embed="rId1"/>
          <a:stretch/>
        </p:blipFill>
        <p:spPr>
          <a:xfrm>
            <a:off x="7500960" y="2214720"/>
            <a:ext cx="14223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ьные клавиши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1680" y="1447560"/>
            <a:ext cx="8362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Enter –</a:t>
            </a:r>
            <a:r>
              <a:rPr b="1" lang="ru-RU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ершение ввода абзац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Alt, Ctrl, Shift – </a:t>
            </a:r>
            <a:r>
              <a:rPr b="1" lang="ru-RU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ются совместно с другими клавишам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Esc –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мена последней команды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BackSpace –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аление символа слев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10532"/>
                </a:solidFill>
                <a:uFillTx/>
                <a:latin typeface="Times New Roman"/>
                <a:ea typeface="Times New Roman"/>
              </a:rPr>
              <a:t>Пробел –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деляет слова друг от дру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ктическая работа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28400" y="1447560"/>
            <a:ext cx="85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КОТ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ru-RU" sz="48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ЕНОК</a:t>
            </a:r>
            <a:r>
              <a:rPr b="1" lang="ru-RU" sz="4400" spc="-1" strike="noStrike">
                <a:solidFill>
                  <a:srgbClr val="310532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4" name="Скругленный прямоугольник 3"/>
          <p:cNvGrpSpPr/>
          <p:nvPr/>
        </p:nvGrpSpPr>
        <p:grpSpPr>
          <a:xfrm>
            <a:off x="3749760" y="1944720"/>
            <a:ext cx="2065320" cy="1305000"/>
            <a:chOff x="3749760" y="1944720"/>
            <a:chExt cx="2065320" cy="1305000"/>
          </a:xfrm>
        </p:grpSpPr>
        <p:pic>
          <p:nvPicPr>
            <p:cNvPr id="42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749760" y="1944720"/>
              <a:ext cx="20653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056120" y="2055960"/>
              <a:ext cx="14605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Скругленный прямоугольник 4"/>
          <p:cNvGrpSpPr/>
          <p:nvPr/>
        </p:nvGrpSpPr>
        <p:grpSpPr>
          <a:xfrm>
            <a:off x="5821200" y="2017800"/>
            <a:ext cx="2067120" cy="1298520"/>
            <a:chOff x="5821200" y="2017800"/>
            <a:chExt cx="2067120" cy="1298520"/>
          </a:xfrm>
        </p:grpSpPr>
        <p:pic>
          <p:nvPicPr>
            <p:cNvPr id="428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5821200" y="2017800"/>
              <a:ext cx="20671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6127920" y="2127240"/>
              <a:ext cx="1460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Скругленный прямоугольник 5"/>
          <p:cNvGrpSpPr/>
          <p:nvPr/>
        </p:nvGrpSpPr>
        <p:grpSpPr>
          <a:xfrm>
            <a:off x="4181400" y="3444840"/>
            <a:ext cx="2067120" cy="1303200"/>
            <a:chOff x="4181400" y="3444840"/>
            <a:chExt cx="2067120" cy="1303200"/>
          </a:xfrm>
        </p:grpSpPr>
        <p:pic>
          <p:nvPicPr>
            <p:cNvPr id="43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181400" y="3444840"/>
              <a:ext cx="206712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4484520" y="3556080"/>
              <a:ext cx="14605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Скругленный прямоугольник 6"/>
          <p:cNvGrpSpPr/>
          <p:nvPr/>
        </p:nvGrpSpPr>
        <p:grpSpPr>
          <a:xfrm>
            <a:off x="6540480" y="3444840"/>
            <a:ext cx="2067120" cy="1303200"/>
            <a:chOff x="6540480" y="3444840"/>
            <a:chExt cx="2067120" cy="1303200"/>
          </a:xfrm>
        </p:grpSpPr>
        <p:pic>
          <p:nvPicPr>
            <p:cNvPr id="43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540480" y="3444840"/>
              <a:ext cx="206712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842160" y="3556080"/>
              <a:ext cx="14605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8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МАРТ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ru-RU" sz="48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ЫШКА</a:t>
            </a:r>
            <a:br>
              <a:rPr sz="4800"/>
            </a:b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2560" y="1447560"/>
            <a:ext cx="87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38" name="Скругленный прямоугольник 3"/>
          <p:cNvGrpSpPr/>
          <p:nvPr/>
        </p:nvGrpSpPr>
        <p:grpSpPr>
          <a:xfrm>
            <a:off x="1968480" y="3591000"/>
            <a:ext cx="2067120" cy="1298520"/>
            <a:chOff x="1968480" y="3591000"/>
            <a:chExt cx="2067120" cy="1298520"/>
          </a:xfrm>
        </p:grpSpPr>
        <p:pic>
          <p:nvPicPr>
            <p:cNvPr id="43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968480" y="3591000"/>
              <a:ext cx="20671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270160" y="3699000"/>
              <a:ext cx="14605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Скругленный прямоугольник 4"/>
          <p:cNvGrpSpPr/>
          <p:nvPr/>
        </p:nvGrpSpPr>
        <p:grpSpPr>
          <a:xfrm>
            <a:off x="4035600" y="3517920"/>
            <a:ext cx="2066760" cy="1298520"/>
            <a:chOff x="4035600" y="3517920"/>
            <a:chExt cx="2066760" cy="1298520"/>
          </a:xfrm>
        </p:grpSpPr>
        <p:pic>
          <p:nvPicPr>
            <p:cNvPr id="442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035600" y="3517920"/>
              <a:ext cx="20667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341960" y="3627360"/>
              <a:ext cx="14605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Скругленный прямоугольник 5"/>
          <p:cNvGrpSpPr/>
          <p:nvPr/>
        </p:nvGrpSpPr>
        <p:grpSpPr>
          <a:xfrm>
            <a:off x="6108840" y="3517920"/>
            <a:ext cx="2065320" cy="1298520"/>
            <a:chOff x="6108840" y="3517920"/>
            <a:chExt cx="2065320" cy="1298520"/>
          </a:xfrm>
        </p:grpSpPr>
        <p:pic>
          <p:nvPicPr>
            <p:cNvPr id="445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108840" y="3517920"/>
              <a:ext cx="20653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413400" y="3627360"/>
              <a:ext cx="14605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9"/>
          <p:cNvGrpSpPr/>
          <p:nvPr/>
        </p:nvGrpSpPr>
        <p:grpSpPr>
          <a:xfrm>
            <a:off x="2214720" y="1857240"/>
            <a:ext cx="1571400" cy="1143000"/>
            <a:chOff x="2214720" y="1857240"/>
            <a:chExt cx="1571400" cy="1143000"/>
          </a:xfrm>
        </p:grpSpPr>
        <p:grpSp>
          <p:nvGrpSpPr>
            <p:cNvPr id="448" name="Скругленный прямоугольник 6"/>
            <p:cNvGrpSpPr/>
            <p:nvPr/>
          </p:nvGrpSpPr>
          <p:grpSpPr>
            <a:xfrm>
              <a:off x="2214720" y="1857240"/>
              <a:ext cx="1571400" cy="1143000"/>
              <a:chOff x="2214720" y="1857240"/>
              <a:chExt cx="1571400" cy="1143000"/>
            </a:xfrm>
          </p:grpSpPr>
          <p:pic>
            <p:nvPicPr>
              <p:cNvPr id="449" name="Скругленный прямоугольник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14720" y="1857240"/>
                <a:ext cx="15714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2338560" y="1953000"/>
                <a:ext cx="132516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Прямая со стрелкой 8" descr=""/>
            <p:cNvPicPr/>
            <p:nvPr/>
          </p:nvPicPr>
          <p:blipFill>
            <a:blip r:embed="rId5"/>
            <a:stretch/>
          </p:blipFill>
          <p:spPr>
            <a:xfrm>
              <a:off x="2308680" y="2130840"/>
              <a:ext cx="1023840" cy="59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Группа 10"/>
          <p:cNvGrpSpPr/>
          <p:nvPr/>
        </p:nvGrpSpPr>
        <p:grpSpPr>
          <a:xfrm>
            <a:off x="4214880" y="1785960"/>
            <a:ext cx="1571400" cy="1143000"/>
            <a:chOff x="4214880" y="1785960"/>
            <a:chExt cx="1571400" cy="1143000"/>
          </a:xfrm>
        </p:grpSpPr>
        <p:grpSp>
          <p:nvGrpSpPr>
            <p:cNvPr id="453" name="Скругленный прямоугольник 11"/>
            <p:cNvGrpSpPr/>
            <p:nvPr/>
          </p:nvGrpSpPr>
          <p:grpSpPr>
            <a:xfrm>
              <a:off x="4214880" y="1785960"/>
              <a:ext cx="1571400" cy="1143000"/>
              <a:chOff x="4214880" y="1785960"/>
              <a:chExt cx="1571400" cy="1143000"/>
            </a:xfrm>
          </p:grpSpPr>
          <p:pic>
            <p:nvPicPr>
              <p:cNvPr id="454" name="Скругленный прямоугольник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4214880" y="1785960"/>
                <a:ext cx="15714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4339440" y="1883160"/>
                <a:ext cx="132516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6" name="Прямая со стрелкой 12" descr=""/>
            <p:cNvPicPr/>
            <p:nvPr/>
          </p:nvPicPr>
          <p:blipFill>
            <a:blip r:embed="rId7"/>
            <a:stretch/>
          </p:blipFill>
          <p:spPr>
            <a:xfrm>
              <a:off x="4308840" y="2064960"/>
              <a:ext cx="1023840" cy="59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Группа 13"/>
          <p:cNvGrpSpPr/>
          <p:nvPr/>
        </p:nvGrpSpPr>
        <p:grpSpPr>
          <a:xfrm>
            <a:off x="6286680" y="1785960"/>
            <a:ext cx="1571400" cy="1143000"/>
            <a:chOff x="6286680" y="1785960"/>
            <a:chExt cx="1571400" cy="1143000"/>
          </a:xfrm>
        </p:grpSpPr>
        <p:grpSp>
          <p:nvGrpSpPr>
            <p:cNvPr id="458" name="Скругленный прямоугольник 14"/>
            <p:cNvGrpSpPr/>
            <p:nvPr/>
          </p:nvGrpSpPr>
          <p:grpSpPr>
            <a:xfrm>
              <a:off x="6286680" y="1785960"/>
              <a:ext cx="1571400" cy="1143000"/>
              <a:chOff x="6286680" y="1785960"/>
              <a:chExt cx="1571400" cy="1143000"/>
            </a:xfrm>
          </p:grpSpPr>
          <p:pic>
            <p:nvPicPr>
              <p:cNvPr id="459" name="Скругленный прямоугольник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6286680" y="1785960"/>
                <a:ext cx="15714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6410520" y="1883160"/>
                <a:ext cx="132516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1" name="Прямая со стрелкой 15" descr=""/>
            <p:cNvPicPr/>
            <p:nvPr/>
          </p:nvPicPr>
          <p:blipFill>
            <a:blip r:embed="rId9"/>
            <a:stretch/>
          </p:blipFill>
          <p:spPr>
            <a:xfrm>
              <a:off x="6380640" y="2064960"/>
              <a:ext cx="1023840" cy="59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КОРОВ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ru-RU" sz="54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28400" y="1447560"/>
            <a:ext cx="85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4" name="Скругленный прямоугольник 4"/>
          <p:cNvGrpSpPr/>
          <p:nvPr/>
        </p:nvGrpSpPr>
        <p:grpSpPr>
          <a:xfrm>
            <a:off x="755640" y="1871640"/>
            <a:ext cx="3346560" cy="1590840"/>
            <a:chOff x="755640" y="1871640"/>
            <a:chExt cx="3346560" cy="1590840"/>
          </a:xfrm>
        </p:grpSpPr>
        <p:pic>
          <p:nvPicPr>
            <p:cNvPr id="465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55640" y="1871640"/>
              <a:ext cx="33465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927000" y="1998720"/>
              <a:ext cx="300348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Скругленный прямоугольник 5"/>
          <p:cNvGrpSpPr/>
          <p:nvPr/>
        </p:nvGrpSpPr>
        <p:grpSpPr>
          <a:xfrm>
            <a:off x="4475160" y="1871640"/>
            <a:ext cx="3346560" cy="1590840"/>
            <a:chOff x="4475160" y="1871640"/>
            <a:chExt cx="3346560" cy="1590840"/>
          </a:xfrm>
        </p:grpSpPr>
        <p:pic>
          <p:nvPicPr>
            <p:cNvPr id="46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475160" y="1871640"/>
              <a:ext cx="33465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4641840" y="1998720"/>
              <a:ext cx="300348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Б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ru-RU" sz="54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ЛОКНОТ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57120" y="1447560"/>
            <a:ext cx="8577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2" name="Скругленный прямоугольник 3"/>
          <p:cNvGrpSpPr/>
          <p:nvPr/>
        </p:nvGrpSpPr>
        <p:grpSpPr>
          <a:xfrm>
            <a:off x="347760" y="2017800"/>
            <a:ext cx="3517920" cy="1298520"/>
            <a:chOff x="347760" y="2017800"/>
            <a:chExt cx="3517920" cy="1298520"/>
          </a:xfrm>
        </p:grpSpPr>
        <p:pic>
          <p:nvPicPr>
            <p:cNvPr id="47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47760" y="2017800"/>
              <a:ext cx="3517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84200" y="2127240"/>
              <a:ext cx="324648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spa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Скругленный прямоугольник 4"/>
          <p:cNvGrpSpPr/>
          <p:nvPr/>
        </p:nvGrpSpPr>
        <p:grpSpPr>
          <a:xfrm>
            <a:off x="3822840" y="2090880"/>
            <a:ext cx="2065320" cy="1298520"/>
            <a:chOff x="3822840" y="2090880"/>
            <a:chExt cx="2065320" cy="1298520"/>
          </a:xfrm>
        </p:grpSpPr>
        <p:pic>
          <p:nvPicPr>
            <p:cNvPr id="476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822840" y="2090880"/>
              <a:ext cx="20653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4127400" y="2198520"/>
              <a:ext cx="14605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Скругленный прямоугольник 5"/>
          <p:cNvGrpSpPr/>
          <p:nvPr/>
        </p:nvGrpSpPr>
        <p:grpSpPr>
          <a:xfrm>
            <a:off x="6321600" y="3803760"/>
            <a:ext cx="2066760" cy="1298520"/>
            <a:chOff x="6321600" y="3803760"/>
            <a:chExt cx="2066760" cy="1298520"/>
          </a:xfrm>
        </p:grpSpPr>
        <p:pic>
          <p:nvPicPr>
            <p:cNvPr id="479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321600" y="3803760"/>
              <a:ext cx="20667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627960" y="3913200"/>
              <a:ext cx="14605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Группа 13"/>
          <p:cNvGrpSpPr/>
          <p:nvPr/>
        </p:nvGrpSpPr>
        <p:grpSpPr>
          <a:xfrm>
            <a:off x="6072120" y="2143080"/>
            <a:ext cx="1571760" cy="1143000"/>
            <a:chOff x="6072120" y="2143080"/>
            <a:chExt cx="1571760" cy="1143000"/>
          </a:xfrm>
        </p:grpSpPr>
        <p:grpSp>
          <p:nvGrpSpPr>
            <p:cNvPr id="482" name="Скругленный прямоугольник 7"/>
            <p:cNvGrpSpPr/>
            <p:nvPr/>
          </p:nvGrpSpPr>
          <p:grpSpPr>
            <a:xfrm>
              <a:off x="6072120" y="2143080"/>
              <a:ext cx="1533960" cy="1143000"/>
              <a:chOff x="6072120" y="2143080"/>
              <a:chExt cx="1533960" cy="1143000"/>
            </a:xfrm>
          </p:grpSpPr>
          <p:pic>
            <p:nvPicPr>
              <p:cNvPr id="483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6072120" y="2143080"/>
                <a:ext cx="15339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6192000" y="2238120"/>
                <a:ext cx="129384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5" name="Прямая со стрелкой 8" descr=""/>
            <p:cNvPicPr/>
            <p:nvPr/>
          </p:nvPicPr>
          <p:blipFill>
            <a:blip r:embed="rId5"/>
            <a:stretch/>
          </p:blipFill>
          <p:spPr>
            <a:xfrm>
              <a:off x="6390720" y="2422080"/>
              <a:ext cx="1253160" cy="58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Группа 14"/>
          <p:cNvGrpSpPr/>
          <p:nvPr/>
        </p:nvGrpSpPr>
        <p:grpSpPr>
          <a:xfrm>
            <a:off x="571680" y="3857760"/>
            <a:ext cx="1571400" cy="1143000"/>
            <a:chOff x="571680" y="3857760"/>
            <a:chExt cx="1571400" cy="1143000"/>
          </a:xfrm>
        </p:grpSpPr>
        <p:grpSp>
          <p:nvGrpSpPr>
            <p:cNvPr id="487" name="Скругленный прямоугольник 15"/>
            <p:cNvGrpSpPr/>
            <p:nvPr/>
          </p:nvGrpSpPr>
          <p:grpSpPr>
            <a:xfrm>
              <a:off x="571680" y="3857760"/>
              <a:ext cx="1539000" cy="1143000"/>
              <a:chOff x="571680" y="3857760"/>
              <a:chExt cx="1539000" cy="1143000"/>
            </a:xfrm>
          </p:grpSpPr>
          <p:pic>
            <p:nvPicPr>
              <p:cNvPr id="488" name="Скругленный прямоугольник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680" y="3857760"/>
                <a:ext cx="1539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690120" y="3953880"/>
                <a:ext cx="129816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0" name="Прямая со стрелкой 16" descr=""/>
            <p:cNvPicPr/>
            <p:nvPr/>
          </p:nvPicPr>
          <p:blipFill>
            <a:blip r:embed="rId7"/>
            <a:stretch/>
          </p:blipFill>
          <p:spPr>
            <a:xfrm>
              <a:off x="885960" y="4142160"/>
              <a:ext cx="1257120" cy="58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Группа 17"/>
          <p:cNvGrpSpPr/>
          <p:nvPr/>
        </p:nvGrpSpPr>
        <p:grpSpPr>
          <a:xfrm>
            <a:off x="2571840" y="3857760"/>
            <a:ext cx="1571400" cy="1143000"/>
            <a:chOff x="2571840" y="3857760"/>
            <a:chExt cx="1571400" cy="1143000"/>
          </a:xfrm>
        </p:grpSpPr>
        <p:grpSp>
          <p:nvGrpSpPr>
            <p:cNvPr id="492" name="Скругленный прямоугольник 18"/>
            <p:cNvGrpSpPr/>
            <p:nvPr/>
          </p:nvGrpSpPr>
          <p:grpSpPr>
            <a:xfrm>
              <a:off x="2571840" y="3857760"/>
              <a:ext cx="1539000" cy="1143000"/>
              <a:chOff x="2571840" y="3857760"/>
              <a:chExt cx="1539000" cy="1143000"/>
            </a:xfrm>
          </p:grpSpPr>
          <p:pic>
            <p:nvPicPr>
              <p:cNvPr id="493" name="Скругленный прямоугольник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71840" y="3857760"/>
                <a:ext cx="1539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>
                <a:off x="2691000" y="3953880"/>
                <a:ext cx="129816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5" name="Прямая со стрелкой 19" descr=""/>
            <p:cNvPicPr/>
            <p:nvPr/>
          </p:nvPicPr>
          <p:blipFill>
            <a:blip r:embed="rId9"/>
            <a:stretch/>
          </p:blipFill>
          <p:spPr>
            <a:xfrm>
              <a:off x="2886120" y="4142160"/>
              <a:ext cx="1257120" cy="58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Группа 20"/>
          <p:cNvGrpSpPr/>
          <p:nvPr/>
        </p:nvGrpSpPr>
        <p:grpSpPr>
          <a:xfrm>
            <a:off x="4572000" y="3857760"/>
            <a:ext cx="1571760" cy="1143000"/>
            <a:chOff x="4572000" y="3857760"/>
            <a:chExt cx="1571760" cy="1143000"/>
          </a:xfrm>
        </p:grpSpPr>
        <p:grpSp>
          <p:nvGrpSpPr>
            <p:cNvPr id="497" name="Скругленный прямоугольник 21"/>
            <p:cNvGrpSpPr/>
            <p:nvPr/>
          </p:nvGrpSpPr>
          <p:grpSpPr>
            <a:xfrm>
              <a:off x="4572000" y="3857760"/>
              <a:ext cx="1533960" cy="1143000"/>
              <a:chOff x="4572000" y="3857760"/>
              <a:chExt cx="1533960" cy="1143000"/>
            </a:xfrm>
          </p:grpSpPr>
          <p:pic>
            <p:nvPicPr>
              <p:cNvPr id="498" name="Скругленный прямоугольник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72000" y="3857760"/>
                <a:ext cx="15339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691520" y="3953880"/>
                <a:ext cx="129384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0" name="Прямая со стрелкой 22" descr=""/>
            <p:cNvPicPr/>
            <p:nvPr/>
          </p:nvPicPr>
          <p:blipFill>
            <a:blip r:embed="rId11"/>
            <a:stretch/>
          </p:blipFill>
          <p:spPr>
            <a:xfrm>
              <a:off x="4890600" y="4142160"/>
              <a:ext cx="1253160" cy="58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М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ru-RU" sz="54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АРК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3" name="Группа 3"/>
          <p:cNvGrpSpPr/>
          <p:nvPr/>
        </p:nvGrpSpPr>
        <p:grpSpPr>
          <a:xfrm>
            <a:off x="785880" y="2286000"/>
            <a:ext cx="1571400" cy="1143000"/>
            <a:chOff x="785880" y="2286000"/>
            <a:chExt cx="1571400" cy="1143000"/>
          </a:xfrm>
        </p:grpSpPr>
        <p:grpSp>
          <p:nvGrpSpPr>
            <p:cNvPr id="504" name="Скругленный прямоугольник 4"/>
            <p:cNvGrpSpPr/>
            <p:nvPr/>
          </p:nvGrpSpPr>
          <p:grpSpPr>
            <a:xfrm>
              <a:off x="785880" y="2286000"/>
              <a:ext cx="1533600" cy="1143000"/>
              <a:chOff x="785880" y="2286000"/>
              <a:chExt cx="1533600" cy="1143000"/>
            </a:xfrm>
          </p:grpSpPr>
          <p:pic>
            <p:nvPicPr>
              <p:cNvPr id="505" name="Скругленный прямоугольник 4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2286000"/>
                <a:ext cx="15336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904680" y="2382840"/>
                <a:ext cx="129348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7" name="Прямая со стрелкой 5" descr=""/>
            <p:cNvPicPr/>
            <p:nvPr/>
          </p:nvPicPr>
          <p:blipFill>
            <a:blip r:embed="rId2"/>
            <a:stretch/>
          </p:blipFill>
          <p:spPr>
            <a:xfrm>
              <a:off x="1104480" y="2568960"/>
              <a:ext cx="1252800" cy="5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Скругленный прямоугольник 6"/>
          <p:cNvGrpSpPr/>
          <p:nvPr/>
        </p:nvGrpSpPr>
        <p:grpSpPr>
          <a:xfrm>
            <a:off x="5321160" y="2230560"/>
            <a:ext cx="2067120" cy="1304640"/>
            <a:chOff x="5321160" y="2230560"/>
            <a:chExt cx="2067120" cy="1304640"/>
          </a:xfrm>
        </p:grpSpPr>
        <p:pic>
          <p:nvPicPr>
            <p:cNvPr id="509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5321160" y="2230560"/>
              <a:ext cx="20671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627520" y="2341440"/>
              <a:ext cx="14605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Скругленный прямоугольник 7"/>
          <p:cNvGrpSpPr/>
          <p:nvPr/>
        </p:nvGrpSpPr>
        <p:grpSpPr>
          <a:xfrm>
            <a:off x="3133800" y="2230560"/>
            <a:ext cx="1730160" cy="1304640"/>
            <a:chOff x="3133800" y="2230560"/>
            <a:chExt cx="1730160" cy="1304640"/>
          </a:xfrm>
        </p:grpSpPr>
        <p:pic>
          <p:nvPicPr>
            <p:cNvPr id="512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33800" y="2230560"/>
              <a:ext cx="173016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3270240" y="2341440"/>
              <a:ext cx="146052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28760" y="428760"/>
          <a:ext cx="8505720" cy="6294240"/>
        </p:xfrm>
        <a:graphic>
          <a:graphicData uri="http://schemas.openxmlformats.org/drawingml/2006/table">
            <a:tbl>
              <a:tblPr/>
              <a:tblGrid>
                <a:gridCol w="2835000"/>
                <a:gridCol w="2835360"/>
                <a:gridCol w="2835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бин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ви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12240">
                      <a:solidFill>
                        <a:srgbClr val="84aa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жим ввода русских бук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12240">
                      <a:solidFill>
                        <a:srgbClr val="84aa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жим ввода латинских бук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12240">
                      <a:solidFill>
                        <a:srgbClr val="84aa33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10532"/>
                          </a:solidFill>
                          <a:latin typeface="Times New Roman"/>
                          <a:ea typeface="Times New Roman"/>
                        </a:rPr>
                        <a:t>Shift+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1224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1224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1224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10532"/>
                          </a:solidFill>
                          <a:latin typeface="Times New Roman"/>
                          <a:ea typeface="Times New Roman"/>
                        </a:rPr>
                        <a:t>Shift+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10532"/>
                          </a:solidFill>
                          <a:latin typeface="Times New Roman"/>
                          <a:ea typeface="Times New Roman"/>
                        </a:rPr>
                        <a:t>Shift+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10532"/>
                          </a:solidFill>
                          <a:latin typeface="Times New Roman"/>
                          <a:ea typeface="Times New Roman"/>
                        </a:rPr>
                        <a:t>Shift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10532"/>
                          </a:solidFill>
                          <a:latin typeface="Times New Roman"/>
                          <a:ea typeface="Times New Roman"/>
                        </a:rPr>
                        <a:t>Shift+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10532"/>
                          </a:solidFill>
                          <a:latin typeface="Times New Roman"/>
                          <a:ea typeface="Times New Roman"/>
                        </a:rPr>
                        <a:t>Shift+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10532"/>
                          </a:solidFill>
                          <a:latin typeface="Times New Roman"/>
                          <a:ea typeface="Times New Roman"/>
                        </a:rPr>
                        <a:t>Shift+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яя работа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Учебник стр. 73-75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10532"/>
                </a:solidFill>
                <a:latin typeface="Times New Roman"/>
                <a:ea typeface="Times New Roman"/>
              </a:rPr>
              <a:t>Раб.тетрадь  стр.60, № 9, 10, 11, 12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группы клавиш вы знаете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28400" y="1447560"/>
            <a:ext cx="85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А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Б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В)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C:\Documents and Settings\Admin\Рабочий стол\геометрия\1025_babochkiz.narod.ru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14680" y="32860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Admin\Рабочий стол\геометрия\1025_babochkiz.narod.ru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28880" y="4643280"/>
            <a:ext cx="1643040" cy="1643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Admin\Рабочий стол\картинки для презен\s8.png"/>
          <p:cNvPicPr/>
          <p:nvPr/>
        </p:nvPicPr>
        <p:blipFill>
          <a:blip r:embed="rId5"/>
          <a:stretch/>
        </p:blipFill>
        <p:spPr>
          <a:xfrm rot="468600">
            <a:off x="1940040" y="1487520"/>
            <a:ext cx="195732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геометрия\1006_babochkiz.narod.ru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58040" y="464328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группы клавиш вы знаете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28400" y="1447560"/>
            <a:ext cx="85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А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Б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В)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C:\Documents and Settings\Admin\Рабочий стол\геометрия\1025_babochkiz.narod.ru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57240" y="19288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Documents and Settings\Admin\Рабочий стол\геометрия\1025_babochkiz.narod.ru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28880" y="500076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34" name="Облако 8"/>
          <p:cNvSpPr/>
          <p:nvPr/>
        </p:nvSpPr>
        <p:spPr>
          <a:xfrm>
            <a:off x="2000160" y="3500280"/>
            <a:ext cx="1571760" cy="107172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C:\Documents and Settings\Admin\Рабочий стол\геометрия\1006_babochkiz.narod.ru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86720" y="428616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группы клавиш вы знаете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28400" y="1447560"/>
            <a:ext cx="85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А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Б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В)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Documents and Settings\Admin\Рабочий стол\геометрия\1025_babochkiz.narod.ru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57240" y="19288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Documents and Settings\Admin\Рабочий стол\геометрия\1025_babochkiz.narod.ru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14680" y="328608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40" name="Облако 8"/>
          <p:cNvSpPr/>
          <p:nvPr/>
        </p:nvSpPr>
        <p:spPr>
          <a:xfrm>
            <a:off x="2071800" y="4929120"/>
            <a:ext cx="1714320" cy="107172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C:\Documents and Settings\Admin\Рабочий стол\геометрия\1006_babochkiz.narod.ru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072200" y="428616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360360"/>
            <a:ext cx="82674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находятся функциональные клавиш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71320" y="1848960"/>
            <a:ext cx="8267400" cy="4294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А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ерхней части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виатуры;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Б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ижней части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виатуры;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В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ва и справа от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фавитно-цифровых клавиш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2" descr="C:\Documents and Settings\Admin\Рабочий стол\геометрия\12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41600">
            <a:off x="5371920" y="1893600"/>
            <a:ext cx="1666800" cy="1089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Documents and Settings\Admin\Рабочий стол\геометрия\126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641600">
            <a:off x="5300280" y="3322440"/>
            <a:ext cx="1666800" cy="1089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C:\Documents and Settings\Admin\Рабочий стол\геометрия\126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1641600">
            <a:off x="7014960" y="4608000"/>
            <a:ext cx="16668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1320" y="360360"/>
            <a:ext cx="82674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находятся функциональные клавиш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571320" y="1848960"/>
            <a:ext cx="8267400" cy="4294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А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ерхней части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виатуры;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Б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ижней части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виатуры;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В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ва и справа от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фавитно-цифровых клавиш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2" descr="C:\Documents and Settings\Admin\Рабочий стол\геометрия\12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41600">
            <a:off x="5300280" y="3322440"/>
            <a:ext cx="1666800" cy="108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Documents and Settings\Admin\Рабочий стол\геометрия\126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641600">
            <a:off x="7014960" y="4608000"/>
            <a:ext cx="1666800" cy="1089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C:\Documents and Settings\Admin\Рабочий стол\картинки для презен\s8.png"/>
          <p:cNvPicPr/>
          <p:nvPr/>
        </p:nvPicPr>
        <p:blipFill>
          <a:blip r:embed="rId5"/>
          <a:stretch/>
        </p:blipFill>
        <p:spPr>
          <a:xfrm rot="468600">
            <a:off x="5052960" y="1409400"/>
            <a:ext cx="1959120" cy="19587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C:\Documents and Settings\Admin\Рабочий стол\геометрия\1006_babochkiz.narod.ru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00960" y="28584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360360"/>
            <a:ext cx="82674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находятся функциональные клавиш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71320" y="1848960"/>
            <a:ext cx="8267400" cy="4294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А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ерхней части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виатуры;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Б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ижней части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виатуры;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В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ва и справа от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фавитно-цифровых клавиш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2" descr="C:\Documents and Settings\Admin\Рабочий стол\геометрия\12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41600">
            <a:off x="5371920" y="1893600"/>
            <a:ext cx="1666800" cy="1089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Documents and Settings\Admin\Рабочий стол\геометрия\126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641600">
            <a:off x="7014960" y="4608000"/>
            <a:ext cx="1666800" cy="1089000"/>
          </a:xfrm>
          <a:prstGeom prst="rect">
            <a:avLst/>
          </a:prstGeom>
          <a:ln w="0">
            <a:noFill/>
          </a:ln>
        </p:spPr>
      </p:pic>
      <p:sp>
        <p:nvSpPr>
          <p:cNvPr id="357" name="Облако 6"/>
          <p:cNvSpPr/>
          <p:nvPr/>
        </p:nvSpPr>
        <p:spPr>
          <a:xfrm>
            <a:off x="5072040" y="3286080"/>
            <a:ext cx="1857240" cy="11430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C:\Documents and Settings\Admin\Рабочий стол\геометрия\1006_babochkiz.narod.ru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29680" y="28584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360360"/>
            <a:ext cx="82674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находятся функциональные клавиш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71320" y="1848960"/>
            <a:ext cx="8267400" cy="4294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А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ерхней части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виатуры;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Б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ижней части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виатуры;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В) 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ва и справа от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фавитно-цифровых клавиш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Documents and Settings\Admin\Рабочий стол\геометрия\12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41600">
            <a:off x="5371920" y="1893600"/>
            <a:ext cx="1666800" cy="1089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C:\Documents and Settings\Admin\Рабочий стол\геометрия\126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641600">
            <a:off x="5300280" y="3322440"/>
            <a:ext cx="1666800" cy="1089000"/>
          </a:xfrm>
          <a:prstGeom prst="rect">
            <a:avLst/>
          </a:prstGeom>
          <a:ln w="0">
            <a:noFill/>
          </a:ln>
        </p:spPr>
      </p:pic>
      <p:sp>
        <p:nvSpPr>
          <p:cNvPr id="363" name="Облако 7"/>
          <p:cNvSpPr/>
          <p:nvPr/>
        </p:nvSpPr>
        <p:spPr>
          <a:xfrm>
            <a:off x="6715080" y="4357800"/>
            <a:ext cx="1857600" cy="11430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C:\Documents and Settings\Admin\Рабочий стол\геометрия\1006_babochkiz.narod.ru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00960" y="285840"/>
            <a:ext cx="1414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5:52:15Z</dcterms:created>
  <dc:creator>надия</dc:creator>
  <dc:description/>
  <dc:language>en-US</dc:language>
  <cp:lastModifiedBy>надия</cp:lastModifiedBy>
  <dcterms:modified xsi:type="dcterms:W3CDTF">2012-03-13T05:59:08Z</dcterms:modified>
  <cp:revision>12</cp:revision>
  <dc:subject/>
  <dc:title>Сколько группы клавиш вы знаете?</dc:title>
</cp:coreProperties>
</file>