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wind.wav" ContentType="audio/x-wav"/>
  <Override PartName="/ppt/media/image6.png" ContentType="image/png"/>
  <Override PartName="/ppt/media/image11.png" ContentType="image/png"/>
  <Override PartName="/ppt/media/image12.jpeg" ContentType="image/jpeg"/>
  <Override PartName="/ppt/media/image4.wmf" ContentType="image/x-wmf"/>
  <Override PartName="/ppt/media/image5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AAA-2319-4E70-B490-55DB4866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325-85A8-4C47-8577-2B72D88E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9E35D4-7FDC-45F8-83BF-85AD13AC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3FB43F-0072-48CA-9E9C-4620A105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5583C3-B72A-4BE0-9932-6165EE71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6984B7-A113-4864-A708-54CB4992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B7C81A-4A20-4ACF-B2FD-867E8130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3E5433-ABFC-46A9-B8E4-1BA59AD1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743379-A2CF-48F7-B281-594999A1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873102-5EFF-4085-959F-B1A5B620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6BA033-6482-4778-ACC0-77CACE45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EC9F-84C0-4870-A22E-4FC9D9F7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75E-C6E1-4B06-8B94-EE35F3B1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6229-2670-4323-81FE-01DB7965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1599-8639-433F-877C-65363C9D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49D2-BC1C-4F8B-8F04-79700DE0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C463-CC79-4DF8-AEE1-BC3271D2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E2E1-4214-4EB4-9F68-988209BC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CB1E-FAAE-43DA-9D5E-002193E4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F8E0-ADEE-413E-9D90-1D0A59D8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87A-93AB-48BF-92BA-F999374D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4500-A11B-49ED-8ECD-EECE41EA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740E-6100-4249-9000-9CFD80F5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06FA-3860-4276-BC45-4804ECEA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4C5F-F378-44B7-AEA9-50D8AD75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ABCB-FC2D-43C0-8EC4-AF261087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5F181-4331-4AA0-9D4A-96167AF1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63092-8D05-4169-BE93-86B43A24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BF733-0207-4530-AD5C-F5B0D16D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D4914-82BA-441F-A5FA-A07ADE09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42253-09BB-4F8B-AFA1-FA57AE9D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1C6-2917-4001-99FC-6679B26D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CF07F-D94A-46CF-B712-9704E123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AC34A-3B5C-4C55-B403-B8A31E50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9A73B-843F-40BF-B17D-1125C5A9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429D5-0166-4B65-840A-EBC15DAD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3F937-8F29-4C24-BA41-9AF81757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0D2DE-F957-49A8-856C-8E4AB7A9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5F8B1-0B3E-4DE3-BDC1-B995996D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2DD92-7F04-453F-B864-09AEECC3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10160-E9E3-4E6C-A241-20F54A82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FF1F9-BE8D-4855-BA39-3CB0D33D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193-E653-4A1D-A27F-5317EC57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C5F97-DF72-45D4-BDAC-F3754283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3ED75-9BE0-457B-932F-CDCD98C0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7754E-3718-430A-A4F8-B4D87D66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E577F-09EF-46FE-9E17-9BAB15AE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06B8A-A87B-4615-B9DD-26162B80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30C32-ED5F-4DCB-AA3A-C72217D0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CE3D7-AB65-405F-8010-69DF0756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EFC3B-F1CF-4FCE-85A8-1BE7F276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6346A-AE4F-44A2-B47F-B8E79E39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42305C-FFBB-4265-A9F6-5F4B6AA1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B6D-B036-4542-9643-B497299F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029D5-F525-4236-AE49-F4FB85D0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012070-AC7D-41F8-9373-BC0F7B43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12B6E-628C-4D88-8E83-4326AFBB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44780-2522-4CE1-945E-7A527F4F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6E41C3-9F85-4D7A-A59F-CF97BC92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FFF20-937C-43DB-832A-BB8B2217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4BC5B-FCD0-47E4-9A02-D8DFB8FF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43669D-9849-40EA-BA08-F770B8CF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DF4C80-9879-4420-A581-AC37075E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4782A6-74A4-48F6-88D2-E0C21325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A7D3-AC65-4965-8256-2153E2C6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3B0A65-9769-4144-A6FA-5D36DD5F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D5203-8665-4256-9626-18DDA3F5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4FF0F-B9CC-4312-BA0D-270CBF47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C6867-BC28-45FE-A6C2-6BCB063A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54C00-E2C1-401E-973A-8585ACEC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C35EF-C930-419B-94B6-3DA361F0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36A6C-1673-4967-95C9-BE9246B5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BE75C-8A94-4490-9003-5EEC2088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40AE3-58FB-42FA-8B8E-9C41E3DC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C8651-C1AF-4879-A35E-295EBFD7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94D-9107-4D18-BB21-4F564F06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AD56A-2286-4459-8711-AA329973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67018-C33B-4CC6-8F58-B847557B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6B200-B0EB-4F99-8BD5-3C2A90AC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D52267-35E1-4601-B9F0-04C8BFE5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3DFB65-65AF-4B67-8AF2-F9ADDFAF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CC254F-7006-4F7A-AA9A-C6B0A4B9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A116E2-B0C9-49A0-B823-E71C2187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FFA6F9-BA99-48DB-95EE-60A1CCAF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F7BA0C-0065-4A17-A4A0-F7C914F4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8689B6-6A7C-4126-942F-6F4F1252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0C2-4935-462A-85D9-E4C3BB7C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A8BAE0-6DA0-44A6-9FF5-F64B092C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0C6DAE-C949-41C6-81A4-C389163A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657C14-4DC1-4FD6-8BC4-E221145B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F2E46B-1276-4778-A33F-246C563D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7D00BC-9F44-410B-B3FF-658ED8E6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2D9945-64F9-44D8-A4CD-BB857544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8BDE43-CBB8-4764-A60F-53EF48FD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AD89B9-90B0-4583-80E5-C1A9F1C7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19D194-CCE3-4919-8A0C-E2AC32A5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D2BC2C-E19D-41A4-9FC2-7B9E17D4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2305-0B57-4F76-BFE9-0E534AD5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A0AA2B-CB82-47ED-B207-84E4F374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E17ED0-9ACD-4987-A2CE-FF47AE26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58443F-7058-425D-B582-F0997F08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D4C321-7098-4104-8D97-C15C4C63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65FB59-C772-4188-B9AF-E1463F16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8EFCD3-DACE-432D-A865-D8F84942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CD773C-C4D9-4009-A436-3F209E38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F47C37-2B77-464E-B13C-392065A9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86E6CC-483C-4D17-BC0D-B740CD9D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9716DE-67A2-4A66-99E1-97CD7E80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1EA2-4568-411F-8604-96A9F9B8B88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C1FF-5E64-4081-BD75-5F5BE35F23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2F6E-A38F-4CBB-9330-FE94828BF51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3F0D-7311-4F54-989E-22704B685DE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A092-C3BA-4578-AB60-32937099004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622A-99C9-46DF-9E80-231B1A4A608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FDC6-AFA3-4F0D-BFA8-2C06BC58995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803F-93D3-4BE6-A554-7374FC8EB8B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E79B-1EF6-4426-836C-77B68A3446A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04" name="Прямоугольник 5" descr=""/>
          <p:cNvPicPr/>
          <p:nvPr/>
        </p:nvPicPr>
        <p:blipFill>
          <a:blip r:embed="rId1"/>
          <a:stretch/>
        </p:blipFill>
        <p:spPr>
          <a:xfrm>
            <a:off x="165240" y="152280"/>
            <a:ext cx="8813520" cy="11336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775280" cy="51372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  <p:sndAc>
      <p:stSnd>
        <p:snd r:embed="rId3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20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9966ff"/>
                </a:solidFill>
                <a:latin typeface="Century Schoolbook"/>
              </a:rPr>
              <a:t>СПИСОК ИСПОЛЬЗОВАННОЙ ЛИТЕРАТУРЫ</a:t>
            </a:r>
            <a:br>
              <a:rPr sz="4900"/>
            </a:b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68360" y="2133720"/>
            <a:ext cx="8229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entury Schoolbook"/>
              </a:rPr>
              <a:t>Учебник  Окружающий мир  2 класс Н.Я. Дмитриево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entury Schoolbook"/>
              </a:rPr>
              <a:t>Энциклопедия Кирилла и Мефодия – 2005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entury Schoolbook"/>
              </a:rPr>
              <a:t>Аудиозапись ветр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3399"/>
                </a:solidFill>
                <a:latin typeface="Century Schoolbook"/>
              </a:rPr>
              <a:t>Мультимедийный проектор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08" name="Picture 4" descr="Закат1"/>
          <p:cNvPicPr/>
          <p:nvPr/>
        </p:nvPicPr>
        <p:blipFill>
          <a:blip r:embed="rId1"/>
          <a:stretch/>
        </p:blipFill>
        <p:spPr>
          <a:xfrm>
            <a:off x="501480" y="260280"/>
            <a:ext cx="8318520" cy="633744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5"/>
          <p:cNvSpPr/>
          <p:nvPr/>
        </p:nvSpPr>
        <p:spPr>
          <a:xfrm>
            <a:off x="468360" y="1268280"/>
            <a:ext cx="806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6699"/>
                </a:solidFill>
                <a:latin typeface="Arial"/>
              </a:rPr>
              <a:t>Что такое  ветер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0"/>
          <p:cNvSpPr/>
          <p:nvPr/>
        </p:nvSpPr>
        <p:spPr>
          <a:xfrm>
            <a:off x="-541440" y="476280"/>
            <a:ext cx="1034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75ca7"/>
                </a:solidFill>
                <a:latin typeface="Arial"/>
              </a:rPr>
              <a:t>Задачи исследования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11"/>
          <p:cNvSpPr/>
          <p:nvPr/>
        </p:nvSpPr>
        <p:spPr>
          <a:xfrm>
            <a:off x="611280" y="179244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Arial"/>
              </a:rPr>
              <a:t>Определить понятие «ветер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Arial"/>
              </a:rPr>
              <a:t>Выявить виды ветров, дать им     опреде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Arial"/>
              </a:rPr>
              <a:t>*Объяснить причину его образ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Arial"/>
              </a:rPr>
              <a:t>Сделать выводы о значении ветра в природе и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66ff"/>
                </a:solidFill>
                <a:latin typeface="Century Schoolbook"/>
              </a:rPr>
              <a:t>ГИПОТЕЗА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0" y="22766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ff"/>
                </a:solidFill>
                <a:latin typeface="Arial"/>
              </a:rPr>
              <a:t>Ветер дует для того чтобы облака «плыли», чтобы волны прибивалис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ff"/>
                </a:solidFill>
                <a:latin typeface="Arial"/>
              </a:rPr>
              <a:t>к берегу и чтобы формировалась погода над какой-либо территори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6" descr="j0293828"/>
          <p:cNvPicPr/>
          <p:nvPr/>
        </p:nvPicPr>
        <p:blipFill>
          <a:blip r:embed="rId1"/>
          <a:stretch/>
        </p:blipFill>
        <p:spPr>
          <a:xfrm>
            <a:off x="1332000" y="260280"/>
            <a:ext cx="174456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1042920" y="890640"/>
            <a:ext cx="3313080" cy="5076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456000" cy="21607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"/>
          <p:cNvPicPr/>
          <p:nvPr/>
        </p:nvPicPr>
        <p:blipFill>
          <a:blip r:embed="rId3"/>
          <a:stretch/>
        </p:blipFill>
        <p:spPr>
          <a:xfrm>
            <a:off x="4643280" y="3573360"/>
            <a:ext cx="4176720" cy="2880000"/>
          </a:xfrm>
          <a:prstGeom prst="rect">
            <a:avLst/>
          </a:prstGeom>
          <a:ln w="0">
            <a:noFill/>
          </a:ln>
        </p:spPr>
      </p:pic>
      <p:sp>
        <p:nvSpPr>
          <p:cNvPr id="518" name="TextBox 4"/>
          <p:cNvSpPr/>
          <p:nvPr/>
        </p:nvSpPr>
        <p:spPr>
          <a:xfrm>
            <a:off x="1476360" y="0"/>
            <a:ext cx="603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тры бывают раз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0" y="844560"/>
            <a:ext cx="4643280" cy="5537160"/>
          </a:xfrm>
          <a:prstGeom prst="rect">
            <a:avLst/>
          </a:prstGeom>
          <a:ln w="0">
            <a:noFill/>
          </a:ln>
        </p:spPr>
      </p:pic>
      <p:sp>
        <p:nvSpPr>
          <p:cNvPr id="520" name="TextBox 2"/>
          <p:cNvSpPr/>
          <p:nvPr/>
        </p:nvSpPr>
        <p:spPr>
          <a:xfrm>
            <a:off x="826920" y="0"/>
            <a:ext cx="764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определения направления ветра используют флюг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2"/>
          <a:stretch/>
        </p:blipFill>
        <p:spPr>
          <a:xfrm>
            <a:off x="5292720" y="836640"/>
            <a:ext cx="35514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4"/>
          <p:cNvSpPr/>
          <p:nvPr/>
        </p:nvSpPr>
        <p:spPr>
          <a:xfrm>
            <a:off x="-684360" y="260280"/>
            <a:ext cx="1058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660033"/>
                </a:solidFill>
                <a:latin typeface="Arial"/>
              </a:rPr>
              <a:t>Способы определения направления и силы вет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0" y="249228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 местным признакам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ействие ветра на парус, отклонение дыма от труб, раскачивание деревье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 помощью метеорологических приборов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люгер (определяет направление и скорость ветра), шары-пилоты, анемометр (определение скорост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1471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Century Schoolbook"/>
              </a:rPr>
              <a:t>ЗНАЧЕНИЕ ВЕТРА В ПРИРОДЕ И ЖИЗН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5" name="Line 4"/>
          <p:cNvSpPr/>
          <p:nvPr/>
        </p:nvSpPr>
        <p:spPr>
          <a:xfrm flipH="1">
            <a:off x="1908000" y="981000"/>
            <a:ext cx="1440000" cy="647640"/>
          </a:xfrm>
          <a:prstGeom prst="line">
            <a:avLst/>
          </a:prstGeom>
          <a:ln w="47520">
            <a:solidFill>
              <a:srgbClr val="ffc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5"/>
          <p:cNvSpPr/>
          <p:nvPr/>
        </p:nvSpPr>
        <p:spPr>
          <a:xfrm>
            <a:off x="5796000" y="907920"/>
            <a:ext cx="1512720" cy="576360"/>
          </a:xfrm>
          <a:prstGeom prst="line">
            <a:avLst/>
          </a:prstGeom>
          <a:ln w="47520">
            <a:solidFill>
              <a:srgbClr val="ffc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0" y="1484280"/>
            <a:ext cx="10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Положительное</a:t>
            </a: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                         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трицательно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7"/>
          <p:cNvSpPr/>
          <p:nvPr/>
        </p:nvSpPr>
        <p:spPr>
          <a:xfrm>
            <a:off x="447840" y="301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9"/>
          <p:cNvSpPr/>
          <p:nvPr/>
        </p:nvSpPr>
        <p:spPr>
          <a:xfrm>
            <a:off x="0" y="1989000"/>
            <a:ext cx="550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нос семян раст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ирование климат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кроклима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ние и перемещ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ла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еевание  загрязняющ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щест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учение электроэнерг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ветряные мельниц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1"/>
          <p:cNvSpPr/>
          <p:nvPr/>
        </p:nvSpPr>
        <p:spPr>
          <a:xfrm>
            <a:off x="4657680" y="1989000"/>
            <a:ext cx="448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ер обладает разруш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ьным действием (навод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ния, ураганы и д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Прямоугольник 1" descr=""/>
          <p:cNvPicPr/>
          <p:nvPr/>
        </p:nvPicPr>
        <p:blipFill>
          <a:blip r:embed="rId1"/>
          <a:stretch/>
        </p:blipFill>
        <p:spPr>
          <a:xfrm>
            <a:off x="2523960" y="133200"/>
            <a:ext cx="4125960" cy="1128960"/>
          </a:xfrm>
          <a:prstGeom prst="rect">
            <a:avLst/>
          </a:prstGeom>
          <a:ln w="0">
            <a:noFill/>
          </a:ln>
        </p:spPr>
      </p:pic>
      <p:sp>
        <p:nvSpPr>
          <p:cNvPr id="532" name="TextBox 4"/>
          <p:cNvSpPr/>
          <p:nvPr/>
        </p:nvSpPr>
        <p:spPr>
          <a:xfrm>
            <a:off x="684360" y="1628640"/>
            <a:ext cx="792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Я работал на уроке с каким настроением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Я в какой степени доволен собой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Я испытывал затруднения когда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Я бы хотел стать более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0:59:38Z</dcterms:created>
  <dc:creator>Компутер</dc:creator>
  <dc:description/>
  <dc:language>en-US</dc:language>
  <cp:lastModifiedBy>admin</cp:lastModifiedBy>
  <dcterms:modified xsi:type="dcterms:W3CDTF">2011-02-06T11:34:03Z</dcterms:modified>
  <cp:revision>66</cp:revision>
  <dc:subject/>
  <dc:title>Слайд 1</dc:title>
</cp:coreProperties>
</file>