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gif" ContentType="image/gif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588-8AC2-41F8-9DE6-A55FC458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516-2B84-4517-8D47-894AF1E8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843-6AAC-424E-9570-5251A1FB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010-4BCE-4D59-A273-81321C5C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176F-45AF-40DF-BEFB-0B4F8112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981D-9CC3-4100-9A9C-A7A5EF49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5171-4C55-489D-AE29-D8E22D39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7B7E-E958-42C3-BDE4-BECFA9EA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5BAE-44DC-410E-99D1-41AD79EE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F55D-E9D1-409B-B309-6B21AE33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334C-B8A5-4F2C-A972-36AF4F5A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9A0-6F70-4F1C-9F6E-764FBC56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12EB-14CB-416B-B892-8BF13AD6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E866-F65C-487B-9738-AF169B11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B550-4772-440E-96F1-8801F2C8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C433-AA45-4F7B-A052-62B30117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4BB9-8C7B-4C82-91CF-1CCEA9E7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940-4724-4A0E-89E9-B33BB71A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FD1-D1BF-45FE-A185-08E0B920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953-1E12-4FC9-943C-586DDA03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C24-E542-4B84-8811-7A81ECAB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464-A2AC-4F9A-9978-06366F99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8B3-438A-49A7-A2B1-2DB21B93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0578-1684-4FFE-BAC2-7BF3A279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F0B1-D86F-4C5E-B43C-86FF278C591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743F-A91B-45C3-A8DD-0C416C063FB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7f00"/>
                </a:solidFill>
                <a:latin typeface="Bradley Hand ITC"/>
              </a:rPr>
              <a:t>Какая сила </a:t>
            </a:r>
            <a:br>
              <a:rPr sz="4400"/>
            </a:br>
            <a:r>
              <a:rPr b="1" i="1" lang="en-US" sz="4400" spc="-1" strike="noStrike">
                <a:solidFill>
                  <a:srgbClr val="fe7f00"/>
                </a:solidFill>
                <a:latin typeface="Bradley Hand ITC"/>
              </a:rPr>
              <a:t>изменяет скорость этих тел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5" descr="b_936"/>
          <p:cNvPicPr/>
          <p:nvPr/>
        </p:nvPicPr>
        <p:blipFill>
          <a:blip r:embed="rId1"/>
          <a:stretch/>
        </p:blipFill>
        <p:spPr>
          <a:xfrm>
            <a:off x="3352680" y="1752480"/>
            <a:ext cx="2500560" cy="30481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214" name="Picture 9" descr="sila_2ь"/>
          <p:cNvPicPr/>
          <p:nvPr/>
        </p:nvPicPr>
        <p:blipFill>
          <a:blip r:embed="rId2"/>
          <a:srcRect l="50298" t="29279" r="28742" b="0"/>
          <a:stretch/>
        </p:blipFill>
        <p:spPr>
          <a:xfrm>
            <a:off x="533520" y="4114800"/>
            <a:ext cx="2743200" cy="24541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215" name="Picture 10" descr="sila_2ь"/>
          <p:cNvPicPr/>
          <p:nvPr/>
        </p:nvPicPr>
        <p:blipFill>
          <a:blip r:embed="rId3"/>
          <a:srcRect l="28023" t="29279" r="54617" b="7985"/>
          <a:stretch/>
        </p:blipFill>
        <p:spPr>
          <a:xfrm>
            <a:off x="5943600" y="4038480"/>
            <a:ext cx="2743200" cy="24577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94464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Bradley Hand ITC"/>
              </a:rPr>
              <a:t>Сила трения качен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3" descr="3"/>
          <p:cNvPicPr/>
          <p:nvPr/>
        </p:nvPicPr>
        <p:blipFill>
          <a:blip r:embed="rId1"/>
          <a:srcRect l="0" t="0" r="0" b="7158"/>
          <a:stretch/>
        </p:blipFill>
        <p:spPr>
          <a:xfrm>
            <a:off x="304920" y="1371600"/>
            <a:ext cx="3657600" cy="25146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249" name="Picture 8" descr="t_____________1363"/>
          <p:cNvPicPr/>
          <p:nvPr/>
        </p:nvPicPr>
        <p:blipFill>
          <a:blip r:embed="rId2"/>
          <a:stretch/>
        </p:blipFill>
        <p:spPr>
          <a:xfrm>
            <a:off x="4191120" y="1371600"/>
            <a:ext cx="4647960" cy="25146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250" name="Text Box 9"/>
          <p:cNvSpPr/>
          <p:nvPr/>
        </p:nvSpPr>
        <p:spPr>
          <a:xfrm>
            <a:off x="304920" y="4191120"/>
            <a:ext cx="8534160" cy="155628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Bradley Hand ITC"/>
              </a:rPr>
              <a:t>Если тело не скользит, а катится по поверхности другого, то трение называется трением качен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сила трения качения меньше силы трения скольжения, при равных нагрузках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сила трения зависит от материалов, соприкасающихся поверхностей и качества обработки поверхносте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сила трения зависит от силы, прижимающей тело к поверхн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598760"/>
            <a:ext cx="748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304920"/>
          <a:ext cx="8224920" cy="5983200"/>
        </p:xfrm>
        <a:graphic>
          <a:graphicData uri="http://schemas.openxmlformats.org/drawingml/2006/table">
            <a:tbl>
              <a:tblPr/>
              <a:tblGrid>
                <a:gridCol w="4114800"/>
                <a:gridCol w="4110120"/>
              </a:tblGrid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оложительная роль силы трения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рицательная роль силы трения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Bradley Hand ITC"/>
              </a:rPr>
              <a:t>Уменьшение трения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Picture 5" descr="big-bearing"/>
          <p:cNvPicPr/>
          <p:nvPr/>
        </p:nvPicPr>
        <p:blipFill>
          <a:blip r:embed="rId1"/>
          <a:stretch/>
        </p:blipFill>
        <p:spPr>
          <a:xfrm>
            <a:off x="457200" y="4038480"/>
            <a:ext cx="2362320" cy="22352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259" name="Picture 6" descr="23"/>
          <p:cNvPicPr/>
          <p:nvPr/>
        </p:nvPicPr>
        <p:blipFill>
          <a:blip r:embed="rId2"/>
          <a:stretch/>
        </p:blipFill>
        <p:spPr>
          <a:xfrm>
            <a:off x="457200" y="1523880"/>
            <a:ext cx="2362320" cy="2289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22"/>
          <p:cNvPicPr/>
          <p:nvPr/>
        </p:nvPicPr>
        <p:blipFill>
          <a:blip r:embed="rId3"/>
          <a:srcRect l="11812" t="0" r="0" b="0"/>
          <a:stretch/>
        </p:blipFill>
        <p:spPr>
          <a:xfrm>
            <a:off x="6172200" y="1523880"/>
            <a:ext cx="2438280" cy="4724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261" name="Text Box 9"/>
          <p:cNvSpPr/>
          <p:nvPr/>
        </p:nvSpPr>
        <p:spPr>
          <a:xfrm>
            <a:off x="2512080" y="1523880"/>
            <a:ext cx="3937680" cy="106920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eaeaea"/>
              </a:buClr>
              <a:buFont typeface="Bradley Hand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Bradley Hand ITC"/>
              </a:rPr>
              <a:t>Смазк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Bradley Hand ITC"/>
              </a:rPr>
              <a:t>уменьшает тр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873160" y="2743200"/>
            <a:ext cx="3198240" cy="350676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2. Примене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подшипников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(шариковы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и роликовые)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так как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трение качени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меньше тре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сколь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00"/>
                </a:solidFill>
                <a:latin typeface="Bradley Hand ITC"/>
              </a:rPr>
              <a:t>Увеличение трения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4" descr="2_"/>
          <p:cNvPicPr/>
          <p:nvPr/>
        </p:nvPicPr>
        <p:blipFill>
          <a:blip r:embed="rId1"/>
          <a:stretch/>
        </p:blipFill>
        <p:spPr>
          <a:xfrm>
            <a:off x="533520" y="1600200"/>
            <a:ext cx="2074680" cy="25146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266" name="Picture 5" descr="dyubeli-cat"/>
          <p:cNvPicPr/>
          <p:nvPr/>
        </p:nvPicPr>
        <p:blipFill>
          <a:blip r:embed="rId2"/>
          <a:stretch/>
        </p:blipFill>
        <p:spPr>
          <a:xfrm>
            <a:off x="2819520" y="1600200"/>
            <a:ext cx="2438280" cy="25146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267" name="Picture 6" descr="zima03"/>
          <p:cNvPicPr/>
          <p:nvPr/>
        </p:nvPicPr>
        <p:blipFill>
          <a:blip r:embed="rId3"/>
          <a:stretch/>
        </p:blipFill>
        <p:spPr>
          <a:xfrm>
            <a:off x="5410080" y="1600200"/>
            <a:ext cx="3251160" cy="25146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268" name="Text Box 7"/>
          <p:cNvSpPr/>
          <p:nvPr/>
        </p:nvSpPr>
        <p:spPr>
          <a:xfrm>
            <a:off x="-13680" y="4311720"/>
            <a:ext cx="9198360" cy="180036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Если трение полезно, его увеличивают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увеличивая шероховатость поверхносте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шины – ребристые, дюбель – крепление для стен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скользкие дороги посыпают песком и т.п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55760" y="914400"/>
          <a:ext cx="8226360" cy="5287680"/>
        </p:xfrm>
        <a:graphic>
          <a:graphicData uri="http://schemas.openxmlformats.org/drawingml/2006/table">
            <a:tbl>
              <a:tblPr/>
              <a:tblGrid>
                <a:gridCol w="4113000"/>
                <a:gridCol w="4113360"/>
              </a:tblGrid>
              <a:tr h="17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рение скольжения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дно тело катится по поверхности другого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рение качения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Я слишком слаб, чтобы сдвинуть эту коробку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рение покоя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дно тело скользит по поверхности другого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304560"/>
            <a:ext cx="82263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 зимние сумерки нянины сказ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аша любила. Поутру в салаз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аша садилась, летела стрелой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олная счастья, с горы ледян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Хоть тяжело подчас в ней бремя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Телега на ходу легк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Ямщик лихой, седое время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езет, не слезет с облуч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Кошка за Жучку, Жучка за внучку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нучка за бабку, Бабка за дедку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Дедка за репку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Тянут – потянут, Вытянуть не могут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518148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Arial"/>
              </a:rPr>
              <a:t>Домашнее задание: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Arial"/>
                <a:ea typeface="Arial"/>
              </a:rPr>
              <a:t>§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  <a:ea typeface="Arial"/>
              </a:rPr>
              <a:t> 30, 31, 32,</a:t>
            </a:r>
            <a:r>
              <a:rPr b="0" lang="ru-RU" sz="80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йти ответы на оставшиеся вопросы </a:t>
            </a:r>
            <a:br>
              <a:rPr sz="8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571500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500"/>
            </a:br>
            <a:r>
              <a:rPr b="1" lang="en-US" sz="10500" spc="-1" strike="noStrike">
                <a:solidFill>
                  <a:srgbClr val="cc0000"/>
                </a:solidFill>
                <a:latin typeface="Arial"/>
              </a:rPr>
              <a:t>Сила трения</a:t>
            </a:r>
            <a:br>
              <a:rPr sz="10500"/>
            </a:br>
            <a:endParaRPr b="0" lang="en-US" sz="10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7f00"/>
                </a:solidFill>
                <a:latin typeface="Arial"/>
              </a:rPr>
              <a:t>Где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7f00"/>
                </a:solidFill>
                <a:latin typeface="Arial"/>
              </a:rPr>
              <a:t>Что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7f00"/>
                </a:solidFill>
                <a:latin typeface="Arial"/>
              </a:rPr>
              <a:t>Когда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7f00"/>
                </a:solidFill>
                <a:latin typeface="Arial"/>
              </a:rPr>
              <a:t>Куда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7f00"/>
                </a:solidFill>
                <a:latin typeface="Arial"/>
              </a:rPr>
              <a:t>Почему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7f00"/>
                </a:solidFill>
                <a:latin typeface="Arial"/>
              </a:rPr>
              <a:t>Как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7f00"/>
                </a:solidFill>
                <a:latin typeface="Arial"/>
              </a:rPr>
              <a:t>Какие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7f00"/>
                </a:solidFill>
                <a:latin typeface="Arial"/>
              </a:rPr>
              <a:t>Что будет, если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456840"/>
            <a:ext cx="822636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РЕ́НИЕ, -я, ср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 Сила, препятствующая движению одного тела по поверхности другого (спец.). 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Коэффициент трения. Кинематическое т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 (между движущимися телами). 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Т. покоя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 (между неподвижными телами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 Движение предмета по тесно соприкасающейся с ним поверхности другого предмета. 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Детали износились от тр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 , мн. ч. Враждебные столкновения, споры, мешающие ходу дела. 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Трения между сослуживцами. Трения с начальнико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304560"/>
            <a:ext cx="82267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7f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e7f00"/>
                </a:solidFill>
                <a:latin typeface="Arial"/>
              </a:rPr>
              <a:t>Сила трения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– это сила, возникающая при движении одного тела по поверхности другого, приложенная к движущемуся телу и направленная против движени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4" descr="1"/>
          <p:cNvPicPr/>
          <p:nvPr/>
        </p:nvPicPr>
        <p:blipFill>
          <a:blip r:embed="rId1"/>
          <a:stretch/>
        </p:blipFill>
        <p:spPr>
          <a:xfrm>
            <a:off x="2438280" y="3581280"/>
            <a:ext cx="4343400" cy="282276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09872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cc0000"/>
                </a:solidFill>
                <a:latin typeface="Bradley Hand ITC"/>
              </a:rPr>
              <a:t>Измерение силы трения скольжения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3" descr="0048r2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30481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228" name="Text Box 4"/>
          <p:cNvSpPr/>
          <p:nvPr/>
        </p:nvSpPr>
        <p:spPr>
          <a:xfrm>
            <a:off x="457200" y="4876920"/>
            <a:ext cx="8153280" cy="222696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   </a:t>
            </a: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1.  Динамометр держать строго параллельно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      </a:t>
            </a: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поверхности, по которой скользит тел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  </a:t>
            </a: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2.  Равномерно без рывков тянуть тел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Bradley Hand ITC"/>
              </a:rPr>
              <a:t>Причины возникновения т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Picture 4" descr="22"/>
          <p:cNvPicPr/>
          <p:nvPr/>
        </p:nvPicPr>
        <p:blipFill>
          <a:blip r:embed="rId1"/>
          <a:srcRect l="11812" t="0" r="0" b="49449"/>
          <a:stretch/>
        </p:blipFill>
        <p:spPr>
          <a:xfrm>
            <a:off x="304920" y="2286000"/>
            <a:ext cx="2666880" cy="26179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232" name="Text Box 5"/>
          <p:cNvSpPr/>
          <p:nvPr/>
        </p:nvSpPr>
        <p:spPr>
          <a:xfrm>
            <a:off x="3124080" y="2590920"/>
            <a:ext cx="5667480" cy="204372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Шероховатость поверхностей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Взаимное притяжение молекул</a:t>
            </a:r>
            <a:r>
              <a:rPr b="1" i="1" lang="en-US" sz="3200" spc="-1" strike="noStrike">
                <a:solidFill>
                  <a:srgbClr val="eaeaea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02096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Bradley Hand ITC"/>
              </a:rPr>
              <a:t>Сила трения поко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6" descr="trenie"/>
          <p:cNvPicPr/>
          <p:nvPr/>
        </p:nvPicPr>
        <p:blipFill>
          <a:blip r:embed="rId1"/>
          <a:srcRect l="0" t="0" r="0" b="23937"/>
          <a:stretch/>
        </p:blipFill>
        <p:spPr>
          <a:xfrm>
            <a:off x="457200" y="1447920"/>
            <a:ext cx="4038480" cy="21304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236" name="Picture 7" descr="ftrenia"/>
          <p:cNvPicPr/>
          <p:nvPr/>
        </p:nvPicPr>
        <p:blipFill>
          <a:blip r:embed="rId2"/>
          <a:srcRect l="0" t="10079" r="33070" b="47244"/>
          <a:stretch/>
        </p:blipFill>
        <p:spPr>
          <a:xfrm>
            <a:off x="4648320" y="1447920"/>
            <a:ext cx="4038480" cy="213336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237" name="Text Box 9"/>
          <p:cNvSpPr/>
          <p:nvPr/>
        </p:nvSpPr>
        <p:spPr>
          <a:xfrm>
            <a:off x="438120" y="3817800"/>
            <a:ext cx="8172360" cy="308016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Сила трения покоя существует межд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любыми покоящимися телами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Она удерживает тела на наклонной плоскост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При попытке сдвинуть тело сила трения поко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Bradley Hand ITC"/>
              </a:rPr>
              <a:t>препятствует этому действию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Line 10"/>
          <p:cNvSpPr/>
          <p:nvPr/>
        </p:nvSpPr>
        <p:spPr>
          <a:xfrm flipH="1">
            <a:off x="1828440" y="3352680"/>
            <a:ext cx="1219320" cy="0"/>
          </a:xfrm>
          <a:prstGeom prst="line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1296720" y="3200400"/>
            <a:ext cx="515880" cy="368280"/>
          </a:xfrm>
          <a:prstGeom prst="rect">
            <a:avLst/>
          </a:prstGeom>
          <a:solidFill>
            <a:srgbClr val="ff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тр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Bradley Hand ITC"/>
              </a:rPr>
              <a:t>Сила трения скольжен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Picture 5" descr="564381938_1317017267"/>
          <p:cNvPicPr/>
          <p:nvPr/>
        </p:nvPicPr>
        <p:blipFill>
          <a:blip r:embed="rId1"/>
          <a:stretch/>
        </p:blipFill>
        <p:spPr>
          <a:xfrm>
            <a:off x="457200" y="1600200"/>
            <a:ext cx="3029040" cy="20574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243" name="Picture 6" descr="09-01"/>
          <p:cNvPicPr/>
          <p:nvPr/>
        </p:nvPicPr>
        <p:blipFill>
          <a:blip r:embed="rId2"/>
          <a:stretch/>
        </p:blipFill>
        <p:spPr>
          <a:xfrm>
            <a:off x="5715000" y="1600200"/>
            <a:ext cx="2886120" cy="20574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244" name="Picture 7" descr="тр"/>
          <p:cNvPicPr/>
          <p:nvPr/>
        </p:nvPicPr>
        <p:blipFill>
          <a:blip r:embed="rId3"/>
          <a:stretch/>
        </p:blipFill>
        <p:spPr>
          <a:xfrm>
            <a:off x="3657600" y="1600200"/>
            <a:ext cx="1905120" cy="20574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245" name="Text Box 8"/>
          <p:cNvSpPr/>
          <p:nvPr/>
        </p:nvSpPr>
        <p:spPr>
          <a:xfrm>
            <a:off x="438120" y="4267080"/>
            <a:ext cx="8105760" cy="204372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Bradley Hand ITC"/>
              </a:rPr>
              <a:t>Сила трения скольжения возникает при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Bradley Hand ITC"/>
              </a:rPr>
              <a:t>скольжении одного тела по поверхности другого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Зорина Людмила Михайловна</dc:creator>
  <dc:description/>
  <cp:keywords>трение</cp:keywords>
  <dc:language>en-US</dc:language>
  <cp:lastModifiedBy>нк</cp:lastModifiedBy>
  <dcterms:modified xsi:type="dcterms:W3CDTF">2012-01-01T14:22:39Z</dcterms:modified>
  <cp:revision>9</cp:revision>
  <dc:subject>Сила трен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