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1.jpeg" ContentType="image/jpeg"/>
  <Override PartName="/ppt/media/image32.wmf" ContentType="image/x-wmf"/>
  <Override PartName="/ppt/media/image19.gif" ContentType="image/gif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gif" ContentType="image/gif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13.png" ContentType="image/png"/>
  <Override PartName="/ppt/media/image2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392-46DA-4D3D-932F-23A437A8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0C8-6FD7-4F02-93D1-75B635A4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45771-834D-44E3-A873-10C12315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AC481-72F2-4CFF-9B97-53995C11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C71D5-A741-45F8-A531-5D106C4C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50EEC-2E0E-418D-8424-865A759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12618-7CC3-4D51-BE48-0457464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A46C0-D4CA-4A54-822F-22A91ABD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F128C-370D-4FB0-89D0-F217E28D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33B34-519F-43EC-A213-4AA70782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05113-FF9D-430D-888F-DAFA0E0B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FA0-9710-4904-960A-D1ECB0A0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106-C912-49BB-A9C4-2CCEFB49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AFEB-6CEA-4312-AA83-1D739EAB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A229-DAD7-434E-A954-010C7310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EB08-EA7A-4AA7-AEC9-424801BB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8095-7ABB-452C-8D53-1EAA92F6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57AB-8DC6-49A3-8DAA-CFFA9E47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5896-1A22-42EB-80DB-714E026F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7C6A-FEF6-44C4-8143-3D5EB46A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A45-4B6D-4DAD-9156-C9D9AE5E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61B3-6ED9-4C56-8D6C-DA29D5BB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F7BA-0E3B-4186-9537-D24471C1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1F40-FBFD-4B4E-BB6A-39B0750E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59CD-2048-46C1-AC9F-E6246481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00EB-CC20-4FBD-AD0D-571F4406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E416-0A59-41C8-B824-979EBC03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D7A3-1FA8-433D-AD37-0ABF5A2D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577B-A887-4F88-9053-4C02485C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91AC-678F-4A56-8D75-83EC0940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69E6-F137-415D-8C27-6411E5C1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CE9-C461-4570-A214-65F29512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297A-F240-4979-8FB2-A3F659E5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0AAB-8EB9-4E2C-B9CD-C5ECDEF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D34A-3460-41F1-87B6-43EB065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1C1E-AA86-44F2-BB15-1D3054C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796B-7307-493B-9A03-D551000A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E044-B1DC-413C-AC81-377CDBB3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B174-ACF7-42CC-B3D0-7DC92831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BAC5-1A9D-45CC-A985-3F8680BE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E5A8-F8DC-4293-AD88-88B6C94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6DBB-5DB8-4FA6-9C4C-9F9324D6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F9F-6134-4936-BAC9-ACED570F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E268-5866-44FD-875C-07FAA6F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5072B-A5EE-40B3-95A6-981AEF26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E6DF8-0E2F-42BB-9668-49F82D9A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4460-6BB9-4BF3-BEF2-173952B5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BBD2-FFBE-4F1D-A295-DB976574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F03F7-6160-42CB-9999-9D767E16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0C1F6-27DC-4CB0-B2B8-D7D61BD5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CE01-A475-49E6-B03E-7A57651F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BD4E-6729-4D62-A37F-489BBB3E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4A156-83FA-4301-B0FE-ED03999B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B3D-CC58-49E1-BAE4-28F48E13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2E284-2328-4479-BB50-EC98CBB0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E1819-4DBB-4858-969C-A02E577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F191-0953-4AE7-B617-C2202E47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412C-9113-4CD1-942E-E09B8179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25FF-34E0-4CCC-BB85-433473D8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4A6B5-C07F-4089-92FA-997A2084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0C904-884B-47C4-A5AE-C87B548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823B0-D98F-4074-8A2C-6511E82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403B-E23C-44A3-93FF-8A42425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D397-A1A7-42F0-A7D5-9DABEF39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489-1F04-49AB-9D31-6EEBEEF0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B7A9-422E-4F7B-B084-2FCB1807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C5F61-190C-4DEF-8961-AD9F5A76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73AF7-BA5B-454F-8A88-AFCBDF24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79947-BDF3-4547-84DE-786E4BD0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89E0B-3CDB-4EC6-8234-9AAE2D57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CB755-C45D-4128-9663-D4629264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D9618-3E8A-4A03-942D-4166865F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370DC-E620-4F40-A25C-F9EF14BB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4751A-FA57-4FB4-A28A-9220BDB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BEA10-317A-484F-8EE6-CEB9813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D24-5DA0-4274-8C40-B2EEF8A3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B00E5-3BA7-4457-A238-FF9853B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54E39-7A33-45A0-BC17-8B245424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B8FF8-3D64-4AA2-A76B-8F4AF565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D4605-1914-4177-B514-4D83483E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33B13-5AA8-4A8E-8AFB-A4F0803A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E8F9B-C06B-49AA-85A5-729A3981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8385F-4E62-4903-99EE-F2A4D285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05E23-E1C2-43EE-90B7-D5231EBE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1A6FE-1A88-47BA-9D38-277FA012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6926F-ABFB-4970-963E-9445A67B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184-75E4-43FD-B2CB-220DC63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EC86-057B-4A34-B5CC-E1F13CD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16005-2A30-49AC-A4C6-CD7DB8F1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F7DCC-9824-49B5-A3BC-295661C1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D6B81-6335-4917-8A6F-C0214DBC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D36F-A524-4AE3-9344-C441A08B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C858B-05B2-4DCB-9DE1-7EE3776D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9FBFD-B8B2-442E-B24C-52921527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5632C-1FC9-48EF-8AAC-CB00204E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FE842-906B-48CB-A173-89B67C9F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4935F-9B58-4642-849B-58102BE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0B1-04F2-4F75-B5B7-21CCA35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2C5D-0ED3-42CD-B018-EF6020E9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EE136-A79D-4B5D-8038-D41E5194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A980F-0853-4CDC-B09A-05C47F0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A33C5-6594-45C7-AE00-2906E9C3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95A9C-C037-4BEE-AF17-A0281914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BAEE-718F-4354-B7E9-07DD6355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8086C-C11B-48D1-A624-CD51D32C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D2F36-54ED-414D-B04B-D8FD5066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DF41F-6758-40CF-9DFF-F85635A4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4F220-F33D-4198-91EA-EF9DDB5C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218E-1E11-4217-8F52-44AAA7842C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AFA1-F6E3-4B9D-BFDD-27039754F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3F92-773E-409F-8E10-699AAD0BA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7CB9-238B-4778-BFB2-285C54BFA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94920" y="11430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D5F8-AC23-4A47-91E8-D52DB066D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71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75C5-E992-4C55-909D-F5C642FB8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8797-3E52-4A31-A2BF-0EE885314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890D-952B-4161-B944-271E5303D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94920" y="11430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A9B3-AE50-4282-BC8D-10D776295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О «Гимназия №3 г. Витебска имени А.С.Пушкин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928880" y="4357800"/>
            <a:ext cx="675792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ашуткина Татьяна Ивановна,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10544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Чем отличаются лягушки и жаб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68360" y="1916280"/>
          <a:ext cx="8229600" cy="4322520"/>
        </p:xfrm>
        <a:graphic>
          <a:graphicData uri="http://schemas.openxmlformats.org/drawingml/2006/table">
            <a:tbl>
              <a:tblPr/>
              <a:tblGrid>
                <a:gridCol w="3960720"/>
                <a:gridCol w="42688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Где живу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змер т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Окраска т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оверхность т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Text Box 45"/>
          <p:cNvSpPr/>
          <p:nvPr/>
        </p:nvSpPr>
        <p:spPr>
          <a:xfrm>
            <a:off x="145584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6"/>
          <p:cNvSpPr/>
          <p:nvPr/>
        </p:nvSpPr>
        <p:spPr>
          <a:xfrm>
            <a:off x="611280" y="2492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прудах, реках, озерах и возле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8"/>
          <p:cNvSpPr/>
          <p:nvPr/>
        </p:nvSpPr>
        <p:spPr>
          <a:xfrm>
            <a:off x="4716360" y="2492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а огороде, на лугу, в поле,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9"/>
          <p:cNvSpPr/>
          <p:nvPr/>
        </p:nvSpPr>
        <p:spPr>
          <a:xfrm>
            <a:off x="684360" y="371628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ельче, до 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5219640" y="3645000"/>
            <a:ext cx="28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рупнее, до 2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3"/>
          <p:cNvSpPr/>
          <p:nvPr/>
        </p:nvSpPr>
        <p:spPr>
          <a:xfrm>
            <a:off x="539640" y="4581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леного цвета с темными пятнами и светлой поло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6"/>
          <p:cNvSpPr/>
          <p:nvPr/>
        </p:nvSpPr>
        <p:spPr>
          <a:xfrm>
            <a:off x="4716360" y="4581360"/>
            <a:ext cx="338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лено-серого и серо-коричнев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7"/>
          <p:cNvSpPr/>
          <p:nvPr/>
        </p:nvSpPr>
        <p:spPr>
          <a:xfrm>
            <a:off x="1909800" y="5824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лад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5076720" y="5805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угр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9" descr="лягушка1"/>
          <p:cNvPicPr/>
          <p:nvPr/>
        </p:nvPicPr>
        <p:blipFill>
          <a:blip r:embed="rId1"/>
          <a:stretch/>
        </p:blipFill>
        <p:spPr>
          <a:xfrm>
            <a:off x="250920" y="189000"/>
            <a:ext cx="1584360" cy="1388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32" name="Picture 60" descr="жаба"/>
          <p:cNvPicPr/>
          <p:nvPr/>
        </p:nvPicPr>
        <p:blipFill>
          <a:blip r:embed="rId2"/>
          <a:stretch/>
        </p:blipFill>
        <p:spPr>
          <a:xfrm>
            <a:off x="7291440" y="189000"/>
            <a:ext cx="152856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10544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Сравнение  лягушки и жа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95280" y="2133720"/>
          <a:ext cx="8229600" cy="4259160"/>
        </p:xfrm>
        <a:graphic>
          <a:graphicData uri="http://schemas.openxmlformats.org/drawingml/2006/table">
            <a:tbl>
              <a:tblPr/>
              <a:tblGrid>
                <a:gridCol w="3960720"/>
                <a:gridCol w="42688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Форма голо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змеры конечнос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Как передвигают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Когда охотят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75"/>
          <p:cNvSpPr/>
          <p:nvPr/>
        </p:nvSpPr>
        <p:spPr>
          <a:xfrm>
            <a:off x="1332000" y="2637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аостр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6"/>
          <p:cNvSpPr/>
          <p:nvPr/>
        </p:nvSpPr>
        <p:spPr>
          <a:xfrm>
            <a:off x="5292720" y="263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Округ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7"/>
          <p:cNvSpPr/>
          <p:nvPr/>
        </p:nvSpPr>
        <p:spPr>
          <a:xfrm>
            <a:off x="684360" y="3573360"/>
            <a:ext cx="36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ощные задние 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9"/>
          <p:cNvSpPr/>
          <p:nvPr/>
        </p:nvSpPr>
        <p:spPr>
          <a:xfrm>
            <a:off x="4427640" y="35002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онечности довольно короткие и слаб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0"/>
          <p:cNvSpPr/>
          <p:nvPr/>
        </p:nvSpPr>
        <p:spPr>
          <a:xfrm>
            <a:off x="468360" y="48625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орошо плавают и прыг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2"/>
          <p:cNvSpPr/>
          <p:nvPr/>
        </p:nvSpPr>
        <p:spPr>
          <a:xfrm>
            <a:off x="4716360" y="486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едленно, прыгают тяж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3"/>
          <p:cNvSpPr/>
          <p:nvPr/>
        </p:nvSpPr>
        <p:spPr>
          <a:xfrm>
            <a:off x="826920" y="59421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нем и но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4"/>
          <p:cNvSpPr/>
          <p:nvPr/>
        </p:nvSpPr>
        <p:spPr>
          <a:xfrm>
            <a:off x="5219640" y="5942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о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8" descr="лягушка1"/>
          <p:cNvPicPr/>
          <p:nvPr/>
        </p:nvPicPr>
        <p:blipFill>
          <a:blip r:embed="rId1"/>
          <a:stretch/>
        </p:blipFill>
        <p:spPr>
          <a:xfrm>
            <a:off x="395280" y="311040"/>
            <a:ext cx="1584360" cy="1389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44" name="Picture 89" descr="жаба"/>
          <p:cNvPicPr/>
          <p:nvPr/>
        </p:nvPicPr>
        <p:blipFill>
          <a:blip r:embed="rId2"/>
          <a:stretch/>
        </p:blipFill>
        <p:spPr>
          <a:xfrm>
            <a:off x="7093080" y="189000"/>
            <a:ext cx="152856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2268360" y="40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Чье это мен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3708360" y="170028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ары, мухи, улитки, червяки, личинки, стрекозы, мальки ры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1044720" y="498312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. Комары, гусеницы, слизни, ж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лягушка1"/>
          <p:cNvPicPr/>
          <p:nvPr/>
        </p:nvPicPr>
        <p:blipFill>
          <a:blip r:embed="rId1"/>
          <a:stretch/>
        </p:blipFill>
        <p:spPr>
          <a:xfrm>
            <a:off x="668160" y="1197000"/>
            <a:ext cx="2535480" cy="3095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49" name="Picture 6" descr="жаба"/>
          <p:cNvPicPr/>
          <p:nvPr/>
        </p:nvPicPr>
        <p:blipFill>
          <a:blip r:embed="rId2"/>
          <a:stretch/>
        </p:blipFill>
        <p:spPr>
          <a:xfrm>
            <a:off x="5908680" y="3933720"/>
            <a:ext cx="2335320" cy="242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1116000" y="33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Лягушки и жабы – хранители равновесия в при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3492360" y="20239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Ляг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5651640" y="20606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7381800" y="2060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1187280" y="5337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Гусе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3780000" y="537372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Жа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6588000" y="540864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арс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2"/>
          <p:cNvSpPr/>
          <p:nvPr/>
        </p:nvSpPr>
        <p:spPr>
          <a:xfrm>
            <a:off x="2340000" y="2205000"/>
            <a:ext cx="86508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3"/>
          <p:cNvSpPr/>
          <p:nvPr/>
        </p:nvSpPr>
        <p:spPr>
          <a:xfrm>
            <a:off x="5076720" y="2276640"/>
            <a:ext cx="86544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4"/>
          <p:cNvSpPr/>
          <p:nvPr/>
        </p:nvSpPr>
        <p:spPr>
          <a:xfrm>
            <a:off x="6875640" y="2276640"/>
            <a:ext cx="86508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"/>
          <p:cNvSpPr/>
          <p:nvPr/>
        </p:nvSpPr>
        <p:spPr>
          <a:xfrm>
            <a:off x="3635280" y="5589720"/>
            <a:ext cx="86544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6"/>
          <p:cNvSpPr/>
          <p:nvPr/>
        </p:nvSpPr>
        <p:spPr>
          <a:xfrm>
            <a:off x="6012000" y="5589720"/>
            <a:ext cx="86508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755640" y="1989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ом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1" descr="язык"/>
          <p:cNvPicPr/>
          <p:nvPr/>
        </p:nvPicPr>
        <p:blipFill>
          <a:blip r:embed="rId1"/>
          <a:stretch/>
        </p:blipFill>
        <p:spPr>
          <a:xfrm>
            <a:off x="3348000" y="2924280"/>
            <a:ext cx="2689200" cy="196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195640" y="333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Красная книга Р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7" descr="жаба"/>
          <p:cNvPicPr/>
          <p:nvPr/>
        </p:nvPicPr>
        <p:blipFill>
          <a:blip r:embed="rId1"/>
          <a:stretch/>
        </p:blipFill>
        <p:spPr>
          <a:xfrm>
            <a:off x="2859120" y="1557360"/>
            <a:ext cx="4376880" cy="4537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211640" y="1268280"/>
            <a:ext cx="439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ed3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ced3"/>
                </a:solidFill>
                <a:latin typeface="Times New Roman"/>
              </a:rPr>
              <a:t>Прочитать тексты «Озерная лягушка» и «Жабы» и ответить на вопросы к н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(12)"/>
          <p:cNvPicPr/>
          <p:nvPr/>
        </p:nvPicPr>
        <p:blipFill>
          <a:blip r:embed="rId1"/>
          <a:stretch/>
        </p:blipFill>
        <p:spPr>
          <a:xfrm>
            <a:off x="755640" y="549360"/>
            <a:ext cx="25923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539640" y="1052640"/>
            <a:ext cx="4321440" cy="64908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539640" y="2565360"/>
            <a:ext cx="4392720" cy="5763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но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6443640" y="1339920"/>
            <a:ext cx="2017800" cy="3603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рит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6443640" y="2997360"/>
            <a:ext cx="2016000" cy="3603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Жа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>
            <a:off x="6443640" y="2131920"/>
            <a:ext cx="2016000" cy="3603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6443640" y="3789360"/>
            <a:ext cx="2017800" cy="3603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аламанд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1762200" y="4208400"/>
            <a:ext cx="7273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олоднокр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асть времени проводят на суше, но яйца (икру) откладывают в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олодь дышит жабрами, а взрослые пользуются легкими на земле, но могут дышать и через кожу и на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2"/>
          <p:cNvSpPr/>
          <p:nvPr/>
        </p:nvSpPr>
        <p:spPr>
          <a:xfrm>
            <a:off x="2556000" y="1844640"/>
            <a:ext cx="0" cy="57636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25"/>
          <p:cNvGrpSpPr/>
          <p:nvPr/>
        </p:nvGrpSpPr>
        <p:grpSpPr>
          <a:xfrm>
            <a:off x="4932360" y="1557360"/>
            <a:ext cx="1368360" cy="2448000"/>
            <a:chOff x="4932360" y="1557360"/>
            <a:chExt cx="1368360" cy="2448000"/>
          </a:xfrm>
        </p:grpSpPr>
        <p:sp>
          <p:nvSpPr>
            <p:cNvPr id="479" name="Line 19"/>
            <p:cNvSpPr/>
            <p:nvPr/>
          </p:nvSpPr>
          <p:spPr>
            <a:xfrm>
              <a:off x="5651640" y="1557360"/>
              <a:ext cx="0" cy="244800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0"/>
            <p:cNvSpPr/>
            <p:nvPr/>
          </p:nvSpPr>
          <p:spPr>
            <a:xfrm>
              <a:off x="4932360" y="2852640"/>
              <a:ext cx="719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1"/>
            <p:cNvSpPr/>
            <p:nvPr/>
          </p:nvSpPr>
          <p:spPr>
            <a:xfrm>
              <a:off x="5651640" y="1557360"/>
              <a:ext cx="6490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22"/>
            <p:cNvSpPr/>
            <p:nvPr/>
          </p:nvSpPr>
          <p:spPr>
            <a:xfrm>
              <a:off x="5651640" y="2349360"/>
              <a:ext cx="6490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3"/>
            <p:cNvSpPr/>
            <p:nvPr/>
          </p:nvSpPr>
          <p:spPr>
            <a:xfrm>
              <a:off x="5651640" y="3213000"/>
              <a:ext cx="6490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4"/>
            <p:cNvSpPr/>
            <p:nvPr/>
          </p:nvSpPr>
          <p:spPr>
            <a:xfrm>
              <a:off x="5651640" y="3933720"/>
              <a:ext cx="6490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70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пасибо лягушкам и жаб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За то, что в природе нуж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 пупырышках все, некрасивы и ряб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Они в равновесии очень важны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дят комаров, населивших боло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Для жаб и лягушек приятна охот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А аист и цапля лягушек едя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У них разрешенья совсем не спро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Не может быть съедено много лягуше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Тогда комары закусают нас все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 природе комарики, аисты, жабы – все дружа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 их отношениях нет сбоев, поме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И.Антонен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2124000" cy="15066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487" name="Picture 5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2017440" cy="172872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2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2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2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2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2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2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2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2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2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2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2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2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2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2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2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2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2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200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200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200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200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200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200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200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200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200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200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200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200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200"/>
                                        <p:tgtEl>
                                          <p:spTgt spid="4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200"/>
                                        <p:tgtEl>
                                          <p:spTgt spid="4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200"/>
                                        <p:tgtEl>
                                          <p:spTgt spid="4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200"/>
                                        <p:tgtEl>
                                          <p:spTgt spid="4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200"/>
                                        <p:tgtEl>
                                          <p:spTgt spid="4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200"/>
                                        <p:tgtEl>
                                          <p:spTgt spid="4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200"/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7,56,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200"/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200"/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мальчик с цветами"/>
          <p:cNvPicPr/>
          <p:nvPr/>
        </p:nvPicPr>
        <p:blipFill>
          <a:blip r:embed="rId1"/>
          <a:stretch/>
        </p:blipFill>
        <p:spPr>
          <a:xfrm>
            <a:off x="1619280" y="1339920"/>
            <a:ext cx="5116320" cy="5184720"/>
          </a:xfrm>
          <a:prstGeom prst="rect">
            <a:avLst/>
          </a:prstGeom>
          <a:ln w="0">
            <a:noFill/>
          </a:ln>
        </p:spPr>
      </p:pic>
      <p:sp>
        <p:nvSpPr>
          <p:cNvPr id="489" name="WordArt 5"/>
          <p:cNvSpPr txBox="1"/>
          <p:nvPr/>
        </p:nvSpPr>
        <p:spPr>
          <a:xfrm>
            <a:off x="1692360" y="404640"/>
            <a:ext cx="5759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90560" y="69840"/>
            <a:ext cx="5545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урс «Человек и мир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771640" y="3300480"/>
            <a:ext cx="601992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ть представление о жабе и лягушке как особой группе живот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ить, как они приспособлены к условиям жизни, какую роль выполняют в природ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оцессе формирования понятия «земноводные» развивать логическое мышление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овать изменению отрицательного      отношения детей к так называемым нелюбимым животным на основе раскрытия особенностей их поведения, питания и размножения, особенной роли в приро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1547640" y="2421000"/>
            <a:ext cx="1229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796000" y="184464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598920" y="1197000"/>
            <a:ext cx="5545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ягушки и ж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20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Xenia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8"/>
          <p:cNvSpPr/>
          <p:nvPr/>
        </p:nvSpPr>
        <p:spPr>
          <a:xfrm>
            <a:off x="3132000" y="1700280"/>
            <a:ext cx="2808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0"/>
          <p:cNvSpPr/>
          <p:nvPr/>
        </p:nvSpPr>
        <p:spPr>
          <a:xfrm>
            <a:off x="3132000" y="3211560"/>
            <a:ext cx="2808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1"/>
          <p:cNvSpPr/>
          <p:nvPr/>
        </p:nvSpPr>
        <p:spPr>
          <a:xfrm>
            <a:off x="4788000" y="4724280"/>
            <a:ext cx="17287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лав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2"/>
          <p:cNvSpPr/>
          <p:nvPr/>
        </p:nvSpPr>
        <p:spPr>
          <a:xfrm>
            <a:off x="2340000" y="5300640"/>
            <a:ext cx="201600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Скользкая чеш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33"/>
          <p:cNvSpPr/>
          <p:nvPr/>
        </p:nvSpPr>
        <p:spPr>
          <a:xfrm>
            <a:off x="322200" y="4653000"/>
            <a:ext cx="17287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4"/>
          <p:cNvSpPr/>
          <p:nvPr/>
        </p:nvSpPr>
        <p:spPr>
          <a:xfrm>
            <a:off x="6948360" y="5300640"/>
            <a:ext cx="180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Жаб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5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2159280" cy="1621080"/>
          </a:xfrm>
          <a:prstGeom prst="rect">
            <a:avLst/>
          </a:prstGeom>
          <a:ln w="0">
            <a:noFill/>
          </a:ln>
        </p:spPr>
      </p:pic>
      <p:sp>
        <p:nvSpPr>
          <p:cNvPr id="384" name="Line 38"/>
          <p:cNvSpPr/>
          <p:nvPr/>
        </p:nvSpPr>
        <p:spPr>
          <a:xfrm>
            <a:off x="4500720" y="2349360"/>
            <a:ext cx="0" cy="71928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9"/>
          <p:cNvSpPr/>
          <p:nvPr/>
        </p:nvSpPr>
        <p:spPr>
          <a:xfrm flipH="1">
            <a:off x="3492000" y="3860640"/>
            <a:ext cx="863640" cy="115272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0"/>
          <p:cNvSpPr/>
          <p:nvPr/>
        </p:nvSpPr>
        <p:spPr>
          <a:xfrm>
            <a:off x="4500720" y="3860640"/>
            <a:ext cx="1008000" cy="72072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1"/>
          <p:cNvSpPr/>
          <p:nvPr/>
        </p:nvSpPr>
        <p:spPr>
          <a:xfrm flipH="1">
            <a:off x="1618920" y="3860640"/>
            <a:ext cx="2592360" cy="57636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2"/>
          <p:cNvSpPr/>
          <p:nvPr/>
        </p:nvSpPr>
        <p:spPr>
          <a:xfrm>
            <a:off x="4716360" y="3860640"/>
            <a:ext cx="3240360" cy="108108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3" descr=""/>
          <p:cNvPicPr/>
          <p:nvPr/>
        </p:nvPicPr>
        <p:blipFill>
          <a:blip r:embed="rId2"/>
          <a:stretch/>
        </p:blipFill>
        <p:spPr>
          <a:xfrm>
            <a:off x="6681960" y="1413000"/>
            <a:ext cx="20667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земноводные"/>
          <p:cNvPicPr/>
          <p:nvPr/>
        </p:nvPicPr>
        <p:blipFill>
          <a:blip r:embed="rId1"/>
          <a:stretch/>
        </p:blipFill>
        <p:spPr>
          <a:xfrm>
            <a:off x="179280" y="909720"/>
            <a:ext cx="8740800" cy="468000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итие лягуш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3" descr="лягушки"/>
          <p:cNvPicPr/>
          <p:nvPr/>
        </p:nvPicPr>
        <p:blipFill>
          <a:blip r:embed="rId1"/>
          <a:stretch/>
        </p:blipFill>
        <p:spPr>
          <a:xfrm>
            <a:off x="1187280" y="1484280"/>
            <a:ext cx="76838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AutoShape 4"/>
          <p:cNvSpPr/>
          <p:nvPr/>
        </p:nvSpPr>
        <p:spPr>
          <a:xfrm>
            <a:off x="2484360" y="765000"/>
            <a:ext cx="3960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2482920" y="2708280"/>
            <a:ext cx="3960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Земно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/>
          <p:cNvSpPr/>
          <p:nvPr/>
        </p:nvSpPr>
        <p:spPr>
          <a:xfrm>
            <a:off x="6300720" y="494172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Голая влажная 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3276720" y="4869000"/>
            <a:ext cx="2447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324000" y="4941720"/>
            <a:ext cx="237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76320">
            <a:solidFill>
              <a:srgbClr val="a2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4572000" y="1628640"/>
            <a:ext cx="0" cy="93672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2"/>
          <p:cNvSpPr/>
          <p:nvPr/>
        </p:nvSpPr>
        <p:spPr>
          <a:xfrm>
            <a:off x="4500720" y="3860640"/>
            <a:ext cx="0" cy="93672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3"/>
          <p:cNvSpPr/>
          <p:nvPr/>
        </p:nvSpPr>
        <p:spPr>
          <a:xfrm flipH="1">
            <a:off x="2124000" y="3645000"/>
            <a:ext cx="2160720" cy="107928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4"/>
          <p:cNvSpPr/>
          <p:nvPr/>
        </p:nvSpPr>
        <p:spPr>
          <a:xfrm>
            <a:off x="4788000" y="3645000"/>
            <a:ext cx="2232000" cy="100800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5" descr=""/>
          <p:cNvPicPr/>
          <p:nvPr/>
        </p:nvPicPr>
        <p:blipFill>
          <a:blip r:embed="rId1"/>
          <a:stretch/>
        </p:blipFill>
        <p:spPr>
          <a:xfrm>
            <a:off x="208080" y="260280"/>
            <a:ext cx="1771560" cy="1971720"/>
          </a:xfrm>
          <a:prstGeom prst="rect">
            <a:avLst/>
          </a:prstGeom>
          <a:ln w="76320">
            <a:solidFill>
              <a:srgbClr val="a27800"/>
            </a:solidFill>
            <a:miter/>
          </a:ln>
        </p:spPr>
      </p:pic>
      <p:pic>
        <p:nvPicPr>
          <p:cNvPr id="403" name="Picture 16" descr=""/>
          <p:cNvPicPr/>
          <p:nvPr/>
        </p:nvPicPr>
        <p:blipFill>
          <a:blip r:embed="rId2"/>
          <a:stretch/>
        </p:blipFill>
        <p:spPr>
          <a:xfrm>
            <a:off x="142920" y="2781360"/>
            <a:ext cx="1908000" cy="1542960"/>
          </a:xfrm>
          <a:prstGeom prst="rect">
            <a:avLst/>
          </a:prstGeom>
          <a:ln w="76320">
            <a:solidFill>
              <a:srgbClr val="a27800"/>
            </a:solidFill>
            <a:miter/>
          </a:ln>
        </p:spPr>
      </p:pic>
      <p:pic>
        <p:nvPicPr>
          <p:cNvPr id="404" name="Picture 17" descr=""/>
          <p:cNvPicPr/>
          <p:nvPr/>
        </p:nvPicPr>
        <p:blipFill>
          <a:blip r:embed="rId3"/>
          <a:stretch/>
        </p:blipFill>
        <p:spPr>
          <a:xfrm>
            <a:off x="6950160" y="260280"/>
            <a:ext cx="1942920" cy="1971720"/>
          </a:xfrm>
          <a:prstGeom prst="rect">
            <a:avLst/>
          </a:prstGeom>
          <a:ln w="76320">
            <a:solidFill>
              <a:srgbClr val="a27800"/>
            </a:solidFill>
            <a:miter/>
          </a:ln>
        </p:spPr>
      </p:pic>
      <p:pic>
        <p:nvPicPr>
          <p:cNvPr id="405" name="Picture 18" descr=""/>
          <p:cNvPicPr/>
          <p:nvPr/>
        </p:nvPicPr>
        <p:blipFill>
          <a:blip r:embed="rId4"/>
          <a:stretch/>
        </p:blipFill>
        <p:spPr>
          <a:xfrm>
            <a:off x="6948360" y="2781360"/>
            <a:ext cx="2016360" cy="1542960"/>
          </a:xfrm>
          <a:prstGeom prst="rect">
            <a:avLst/>
          </a:prstGeom>
          <a:ln w="76320">
            <a:solidFill>
              <a:srgbClr val="a27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"/>
          <p:cNvPicPr/>
          <p:nvPr/>
        </p:nvPicPr>
        <p:blipFill>
          <a:blip r:embed="rId1"/>
          <a:stretch/>
        </p:blipFill>
        <p:spPr>
          <a:xfrm>
            <a:off x="1979640" y="1951200"/>
            <a:ext cx="5257800" cy="3925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07" name="WordArt 8"/>
          <p:cNvSpPr txBox="1"/>
          <p:nvPr/>
        </p:nvSpPr>
        <p:spPr>
          <a:xfrm>
            <a:off x="1908000" y="476280"/>
            <a:ext cx="540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ритон Карпатски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66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(79)"/>
          <p:cNvPicPr/>
          <p:nvPr/>
        </p:nvPicPr>
        <p:blipFill>
          <a:blip r:embed="rId1"/>
          <a:stretch/>
        </p:blipFill>
        <p:spPr>
          <a:xfrm>
            <a:off x="3419640" y="2708280"/>
            <a:ext cx="2736720" cy="1895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(51)"/>
          <p:cNvPicPr/>
          <p:nvPr/>
        </p:nvPicPr>
        <p:blipFill>
          <a:blip r:embed="rId2"/>
          <a:stretch/>
        </p:blipFill>
        <p:spPr>
          <a:xfrm>
            <a:off x="1476360" y="1773360"/>
            <a:ext cx="959040" cy="2735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(69)"/>
          <p:cNvPicPr/>
          <p:nvPr/>
        </p:nvPicPr>
        <p:blipFill>
          <a:blip r:embed="rId3"/>
          <a:stretch/>
        </p:blipFill>
        <p:spPr>
          <a:xfrm>
            <a:off x="6877080" y="4292640"/>
            <a:ext cx="1557360" cy="1800360"/>
          </a:xfrm>
          <a:prstGeom prst="rect">
            <a:avLst/>
          </a:prstGeom>
          <a:ln w="0">
            <a:noFill/>
          </a:ln>
        </p:spPr>
      </p:pic>
      <p:sp>
        <p:nvSpPr>
          <p:cNvPr id="411" name="WordArt 12"/>
          <p:cNvSpPr txBox="1"/>
          <p:nvPr/>
        </p:nvSpPr>
        <p:spPr>
          <a:xfrm>
            <a:off x="1547640" y="333360"/>
            <a:ext cx="60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7647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753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Чем похожи лягушки и жаб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179280" y="2625840"/>
            <a:ext cx="511200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ем покрыто те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сти те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собенности гл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ем пит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жаба"/>
          <p:cNvPicPr/>
          <p:nvPr/>
        </p:nvPicPr>
        <p:blipFill>
          <a:blip r:embed="rId1"/>
          <a:stretch/>
        </p:blipFill>
        <p:spPr>
          <a:xfrm>
            <a:off x="7236000" y="189000"/>
            <a:ext cx="1736640" cy="180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15" name="Text Box 7"/>
          <p:cNvSpPr/>
          <p:nvPr/>
        </p:nvSpPr>
        <p:spPr>
          <a:xfrm>
            <a:off x="3851280" y="227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олой влажной ко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3924360" y="314172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олова, туловище, передние и задние кон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3995640" y="5950080"/>
            <a:ext cx="42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секомыми, пауками, червя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924360" y="4221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идят добычу, которая находится ближе, проглатывают ее с помощью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3" descr="лягушка1"/>
          <p:cNvPicPr/>
          <p:nvPr/>
        </p:nvPicPr>
        <p:blipFill>
          <a:blip r:embed="rId2"/>
          <a:stretch/>
        </p:blipFill>
        <p:spPr>
          <a:xfrm>
            <a:off x="179280" y="189000"/>
            <a:ext cx="2160720" cy="1893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9:13:02Z</dcterms:created>
  <dc:creator>Ирина</dc:creator>
  <dc:description/>
  <dc:language>en-US</dc:language>
  <cp:lastModifiedBy>Admin</cp:lastModifiedBy>
  <dcterms:modified xsi:type="dcterms:W3CDTF">2012-03-14T16:28:20Z</dcterms:modified>
  <cp:revision>44</cp:revision>
  <dc:subject/>
  <dc:title>Курс «Человек и мир» 2 класс</dc:title>
</cp:coreProperties>
</file>