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A27-DA4D-45DF-8B75-72EE66AF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3BC-761E-4CAC-8607-A75CB4C7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749-4A84-4AE3-82C0-6AE846FD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841-549C-4C30-ABBC-86DD502C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D75-453D-4777-85FD-556B5F7A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C3B-259E-48EC-B140-5441D61B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9F7-F0F1-4AFF-A83E-92C50D2E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C48-89B6-46E1-BC04-5F9EA702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A58-B033-4471-BFF3-7FB5BE08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6A0-2589-401A-AA83-B23C2E64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449-D5A9-410E-A1A0-454BD156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97C-A1FC-475A-A9C3-FA56D527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C08A-A39D-48E5-B931-C9E0139C3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3htm1"/>
          <p:cNvPicPr/>
          <p:nvPr/>
        </p:nvPicPr>
        <p:blipFill>
          <a:blip r:embed="rId1"/>
          <a:stretch/>
        </p:blipFill>
        <p:spPr>
          <a:xfrm>
            <a:off x="142920" y="3643200"/>
            <a:ext cx="1800360" cy="1486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hohloma6"/>
          <p:cNvPicPr/>
          <p:nvPr/>
        </p:nvPicPr>
        <p:blipFill>
          <a:blip r:embed="rId2"/>
          <a:stretch/>
        </p:blipFill>
        <p:spPr>
          <a:xfrm>
            <a:off x="214200" y="5357880"/>
            <a:ext cx="1785960" cy="127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21" descr="040"/>
          <p:cNvPicPr/>
          <p:nvPr/>
        </p:nvPicPr>
        <p:blipFill>
          <a:blip r:embed="rId3"/>
          <a:stretch/>
        </p:blipFill>
        <p:spPr>
          <a:xfrm>
            <a:off x="4143240" y="3000240"/>
            <a:ext cx="2711520" cy="166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Picture 23" descr="doski_razdeloch"/>
          <p:cNvPicPr/>
          <p:nvPr/>
        </p:nvPicPr>
        <p:blipFill>
          <a:blip r:embed="rId4"/>
          <a:stretch/>
        </p:blipFill>
        <p:spPr>
          <a:xfrm>
            <a:off x="214200" y="214200"/>
            <a:ext cx="171792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Picture 25" descr="polka"/>
          <p:cNvPicPr/>
          <p:nvPr/>
        </p:nvPicPr>
        <p:blipFill>
          <a:blip r:embed="rId5"/>
          <a:stretch/>
        </p:blipFill>
        <p:spPr>
          <a:xfrm>
            <a:off x="214200" y="2000160"/>
            <a:ext cx="171468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31" descr="022"/>
          <p:cNvPicPr/>
          <p:nvPr/>
        </p:nvPicPr>
        <p:blipFill>
          <a:blip r:embed="rId6"/>
          <a:srcRect l="0" t="-15198" r="0" b="-11472"/>
          <a:stretch/>
        </p:blipFill>
        <p:spPr>
          <a:xfrm>
            <a:off x="6072120" y="4857840"/>
            <a:ext cx="2732040" cy="1714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025"/>
          <p:cNvPicPr/>
          <p:nvPr/>
        </p:nvPicPr>
        <p:blipFill>
          <a:blip r:embed="rId7"/>
          <a:stretch/>
        </p:blipFill>
        <p:spPr>
          <a:xfrm>
            <a:off x="2857680" y="5000760"/>
            <a:ext cx="2714400" cy="14014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3" descr=""/>
          <p:cNvPicPr/>
          <p:nvPr/>
        </p:nvPicPr>
        <p:blipFill>
          <a:blip r:embed="rId8"/>
          <a:stretch/>
        </p:blipFill>
        <p:spPr>
          <a:xfrm>
            <a:off x="1889280" y="225360"/>
            <a:ext cx="7121520" cy="283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Александр\Рабочий стол\ярлыки\Хохлома\cf12ef537f27ae5b3899d8dc267e5c48.jpg"/>
          <p:cNvPicPr/>
          <p:nvPr/>
        </p:nvPicPr>
        <p:blipFill>
          <a:blip r:embed="rId1"/>
          <a:stretch/>
        </p:blipFill>
        <p:spPr>
          <a:xfrm>
            <a:off x="357120" y="3946680"/>
            <a:ext cx="3357720" cy="2554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214200" y="21960"/>
            <a:ext cx="8929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ahoma"/>
              </a:rPr>
              <a:t>Свое название хохломской промысел получил от крупного торгового села Хохлома Нижегородской губернии, в которое из близлежащих деревень свозили деревянные изделия на продажу (в самом селе Хохлома эти изделия никогда не производились). Для хохломского промысла характерна оригинальная техника окраски дерева в золотистый цвет без применения золота.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Constanti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  <a:ea typeface="Tahoma"/>
              </a:rPr>
              <a:t>В настоящее время у хохломской росписи два центра — город Семёнов, где находятся фабрики «Хохломская роспись» и «Семёновская роспись», и село Сёмино Ковернинского района, где работает предприятие «Хохломской художник», объединяющее мастеров деревень Ковернинского района: Сёмино, Кулигино, Новопокровское и др. (фабрика находится в Сёмино, в других деревнях — филиал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Александр\Рабочий стол\ярлыки\Хохлома\a4c29f4ee75375ef280db4e37b096f2a.jpg"/>
          <p:cNvPicPr/>
          <p:nvPr/>
        </p:nvPicPr>
        <p:blipFill>
          <a:blip r:embed="rId2"/>
          <a:stretch/>
        </p:blipFill>
        <p:spPr>
          <a:xfrm>
            <a:off x="4786200" y="4000680"/>
            <a:ext cx="3380040" cy="253188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5429160" y="5000760"/>
            <a:ext cx="24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ХохломскаяРос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28760" y="1285920"/>
          <a:ext cx="8358120" cy="466560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d2901"/>
                          </a:solidFill>
                          <a:latin typeface="Times New Roman"/>
                          <a:ea typeface="Times New Roman"/>
                        </a:rPr>
                        <a:t>Вид промыс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d2901"/>
                          </a:solidFill>
                          <a:latin typeface="Times New Roman"/>
                          <a:ea typeface="Times New Roman"/>
                        </a:rPr>
                        <a:t>Время осн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d2901"/>
                          </a:solidFill>
                          <a:latin typeface="Times New Roman"/>
                          <a:ea typeface="Times New Roman"/>
                        </a:rPr>
                        <a:t>Место произво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хло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городская об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ецкая росп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52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городская об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ородская резь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-XVII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ре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X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14200" y="0"/>
            <a:ext cx="77155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62673"/>
                </a:solidFill>
                <a:uFillTx/>
                <a:latin typeface="Arial"/>
              </a:rPr>
              <a:t>Хохло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аринное село, затерявшееся в глуши дремучих заволжских лесов. Вместе с его историей уходят в далекое прошлое зарождение там известного на весь мир искусства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хломской роспис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е ряд селений вместе с Хохломой перешли во владения Троице-Сергиева монастыря. Возможно, уже в это время зародилось в Хохломе производство золоченой деревянной посу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ая  хохлома  -  это  огненные  краски  узоров, которые  складываются  из  разнообразных  завитков  тра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ов  и  ягод  и  восхищают  нас  своей  неповторимой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этой техники окраски - получении золотистого цвета без применения зол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точенные из дерева предметы сначала подвергают грунтовке - натирают раствором глины, маслом и порошком алюминия (алюминий со временем пришел на смену олову). В роспись они поступают гладкими, блестящими, похожими на металлические. После того как художник украсит изделие орнаментом, на него наносится лак. Далее следует закалка в печи. Под влиянием высокой температуры пленка лака, покрывающего роспись, темнеет и приобретает теплый янтарный оттенок, а просвечивающая сквозь нее поверхность дерева, закрашенная серебристым алюминиевым порошком, становится похожей на золот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Н.Г. Подогов: Блюдо. 1952 г."/>
          <p:cNvPicPr/>
          <p:nvPr/>
        </p:nvPicPr>
        <p:blipFill>
          <a:blip r:embed="rId1"/>
          <a:stretch/>
        </p:blipFill>
        <p:spPr>
          <a:xfrm>
            <a:off x="7500960" y="1143000"/>
            <a:ext cx="144288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matr"/>
          <p:cNvPicPr/>
          <p:nvPr/>
        </p:nvPicPr>
        <p:blipFill>
          <a:blip r:embed="rId2"/>
          <a:stretch/>
        </p:blipFill>
        <p:spPr>
          <a:xfrm>
            <a:off x="7786800" y="4857840"/>
            <a:ext cx="114300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29" descr="kh-2"/>
          <p:cNvPicPr/>
          <p:nvPr/>
        </p:nvPicPr>
        <p:blipFill>
          <a:blip r:embed="rId3"/>
          <a:stretch/>
        </p:blipFill>
        <p:spPr>
          <a:xfrm>
            <a:off x="7572240" y="2714760"/>
            <a:ext cx="1408320" cy="1214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8T09:36:20Z</dcterms:created>
  <dc:creator>саня</dc:creator>
  <dc:description/>
  <dc:language>en-US</dc:language>
  <cp:lastModifiedBy>Innes</cp:lastModifiedBy>
  <dcterms:modified xsi:type="dcterms:W3CDTF">2012-03-13T16:33:02Z</dcterms:modified>
  <cp:revision>40</cp:revision>
  <dc:subject/>
  <dc:title>Слайд 1</dc:title>
</cp:coreProperties>
</file>