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26F-FD78-463D-B77F-3D694391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C43-8CFE-463C-BD5D-719FBCB1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ADE-9ADB-4FCB-9478-3BBC6D42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0E9-5834-4A13-B10C-3FD8B611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9236-3E1C-46E8-A6CE-BD62F972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FA18-7C7D-4FFE-B728-F11AFCF0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0B72-4ADE-40F9-AC58-B93D0CF6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59CB-DE6F-4399-AEBC-4F97D5C4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B4B2-BF36-41C3-9737-B37F4645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423B-5820-4F1B-BAEE-7C9162AF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AEF9-304E-4534-BAD6-6CD35FFF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EA6-327E-4395-9E26-31A49737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FCBC-38EE-4987-8394-A16FEB04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5E3D-4221-42FE-B88E-ADED4346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3921-CBF1-4790-A738-2B5CD54B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A407-F060-47DF-819A-3492E97A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DD0D-6F52-409B-BEE4-43BE12D3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238-C31F-4BAE-A3F2-86073F70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0F3-AAD2-4FF6-A333-E267130A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893-199B-4A2E-A6C3-D54406E1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D3F0-7A76-481E-8F07-5747BA89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E4E-B59E-43A6-8A09-9201FEF9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9477-8750-4A38-9666-F05A2942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A2B-3E28-483A-A693-A962F74E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384D-5745-4AC8-B6DD-3CEEC01BB1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E702-0691-4821-A469-5596FD00FC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%202468sing1111l"/>
          <p:cNvPicPr/>
          <p:nvPr/>
        </p:nvPicPr>
        <p:blipFill>
          <a:blip r:embed="rId1"/>
          <a:stretch/>
        </p:blipFill>
        <p:spPr>
          <a:xfrm>
            <a:off x="714240" y="714240"/>
            <a:ext cx="7858440" cy="58928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2799360" y="2781360"/>
            <a:ext cx="398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Arial"/>
              </a:rPr>
              <a:t>Гжель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713880"/>
            <a:ext cx="8425080" cy="127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Приёмы росписи:</a:t>
            </a:r>
            <a:br>
              <a:rPr sz="2800"/>
            </a:b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 «мазок на одну сторону» или «мазок с тенью»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Линии: прямая, волнистая, спиралевидная, округлая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1" name="Picture 4" descr="Изображение 004"/>
          <p:cNvPicPr/>
          <p:nvPr/>
        </p:nvPicPr>
        <p:blipFill>
          <a:blip r:embed="rId1"/>
          <a:stretch/>
        </p:blipFill>
        <p:spPr>
          <a:xfrm>
            <a:off x="4000680" y="3071880"/>
            <a:ext cx="4501800" cy="3462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Гжельский мотив цветочный букет"/>
          <p:cNvPicPr/>
          <p:nvPr/>
        </p:nvPicPr>
        <p:blipFill>
          <a:blip r:embed="rId2"/>
          <a:stretch/>
        </p:blipFill>
        <p:spPr>
          <a:xfrm>
            <a:off x="571680" y="3071880"/>
            <a:ext cx="2890800" cy="2928960"/>
          </a:xfrm>
          <a:prstGeom prst="rect">
            <a:avLst/>
          </a:prstGeom>
          <a:ln w="38160">
            <a:solidFill>
              <a:srgbClr val="4d4d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1" descr=""/>
          <p:cNvPicPr/>
          <p:nvPr/>
        </p:nvPicPr>
        <p:blipFill>
          <a:blip r:embed="rId1"/>
          <a:stretch/>
        </p:blipFill>
        <p:spPr>
          <a:xfrm>
            <a:off x="5429160" y="1285920"/>
            <a:ext cx="3348000" cy="431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Гжельский мотив в круге copy"/>
          <p:cNvPicPr/>
          <p:nvPr/>
        </p:nvPicPr>
        <p:blipFill>
          <a:blip r:embed="rId2"/>
          <a:stretch/>
        </p:blipFill>
        <p:spPr>
          <a:xfrm>
            <a:off x="142920" y="928800"/>
            <a:ext cx="47512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4" descr="Гжель соусник Рыба"/>
          <p:cNvPicPr/>
          <p:nvPr/>
        </p:nvPicPr>
        <p:blipFill>
          <a:blip r:embed="rId1"/>
          <a:stretch/>
        </p:blipFill>
        <p:spPr>
          <a:xfrm>
            <a:off x="6143760" y="3429000"/>
            <a:ext cx="2714400" cy="3171960"/>
          </a:xfrm>
          <a:prstGeom prst="rect">
            <a:avLst/>
          </a:prstGeom>
          <a:ln w="38160">
            <a:solidFill>
              <a:srgbClr val="4d4d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Picture 15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3071880" cy="2944800"/>
          </a:xfrm>
          <a:prstGeom prst="rect">
            <a:avLst/>
          </a:prstGeom>
          <a:ln w="38160">
            <a:solidFill>
              <a:srgbClr val="4d4d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7" name="Picture 20" descr="31"/>
          <p:cNvPicPr/>
          <p:nvPr/>
        </p:nvPicPr>
        <p:blipFill>
          <a:blip r:embed="rId3"/>
          <a:stretch/>
        </p:blipFill>
        <p:spPr>
          <a:xfrm>
            <a:off x="4143240" y="714240"/>
            <a:ext cx="1667160" cy="164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1" descr="Изображение 002"/>
          <p:cNvPicPr/>
          <p:nvPr/>
        </p:nvPicPr>
        <p:blipFill>
          <a:blip r:embed="rId4"/>
          <a:stretch/>
        </p:blipFill>
        <p:spPr>
          <a:xfrm>
            <a:off x="6215040" y="285840"/>
            <a:ext cx="2643120" cy="278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2" descr="Изображение 003"/>
          <p:cNvPicPr/>
          <p:nvPr/>
        </p:nvPicPr>
        <p:blipFill>
          <a:blip r:embed="rId5"/>
          <a:stretch/>
        </p:blipFill>
        <p:spPr>
          <a:xfrm>
            <a:off x="357120" y="3500280"/>
            <a:ext cx="2916360" cy="321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3" descr="Гжель фигурка обезьяны copy"/>
          <p:cNvPicPr/>
          <p:nvPr/>
        </p:nvPicPr>
        <p:blipFill>
          <a:blip r:embed="rId6"/>
          <a:stretch/>
        </p:blipFill>
        <p:spPr>
          <a:xfrm>
            <a:off x="3059280" y="2492280"/>
            <a:ext cx="30114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28727 L 0.00399 0.04606 E">
                                      <p:cBhvr>
                                        <p:cTn id="2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219 0.01088 L -0.00781 0.01088 E">
                                      <p:cBhvr>
                                        <p:cTn id="3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9 -0.32546 L -3.33333E-006 7.77778E-006 E">
                                      <p:cBhvr>
                                        <p:cTn id="3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33334 L 1.11111E-006 4.44444E-006 E">
                                      <p:cBhvr>
                                        <p:cTn id="4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8" descr="36341841_1"/>
          <p:cNvPicPr/>
          <p:nvPr/>
        </p:nvPicPr>
        <p:blipFill>
          <a:blip r:embed="rId1"/>
          <a:stretch/>
        </p:blipFill>
        <p:spPr>
          <a:xfrm>
            <a:off x="4635360" y="214200"/>
            <a:ext cx="4021200" cy="314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45642732_DSC02488"/>
          <p:cNvPicPr/>
          <p:nvPr/>
        </p:nvPicPr>
        <p:blipFill>
          <a:blip r:embed="rId2"/>
          <a:stretch/>
        </p:blipFill>
        <p:spPr>
          <a:xfrm>
            <a:off x="214200" y="214200"/>
            <a:ext cx="4062600" cy="3286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gjel_woman"/>
          <p:cNvPicPr/>
          <p:nvPr/>
        </p:nvPicPr>
        <p:blipFill>
          <a:blip r:embed="rId3"/>
          <a:stretch/>
        </p:blipFill>
        <p:spPr>
          <a:xfrm>
            <a:off x="285840" y="3767040"/>
            <a:ext cx="4000320" cy="3090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plPosuda800"/>
          <p:cNvPicPr/>
          <p:nvPr/>
        </p:nvPicPr>
        <p:blipFill>
          <a:blip r:embed="rId4"/>
          <a:stretch/>
        </p:blipFill>
        <p:spPr>
          <a:xfrm>
            <a:off x="4786200" y="3714840"/>
            <a:ext cx="4037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6" name="Picture 4" descr="0106093854_h_Gjel%20500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10:14:36Z</dcterms:created>
  <dc:creator>АПВЫ</dc:creator>
  <dc:description/>
  <dc:language>en-US</dc:language>
  <cp:lastModifiedBy>Innes</cp:lastModifiedBy>
  <dcterms:modified xsi:type="dcterms:W3CDTF">2012-03-13T16:32:27Z</dcterms:modified>
  <cp:revision>49</cp:revision>
  <dc:subject/>
  <dc:title>Набор деревянной посуды в традициях Городецкой росписи</dc:title>
</cp:coreProperties>
</file>