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CECB-A383-4CB6-A217-D9D8D43C2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F5D7-70F2-428B-8BD6-867D3859F5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805-C811-4B6B-B086-86AD2229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D00-67CC-464F-98A6-D213DEFD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7E3-8F24-4AB7-B8E4-C010A9E1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3DD-5F44-42EF-959B-861EE638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4404-5D17-45A9-871E-F16F4EAA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D4CC-6238-4549-8054-4C197555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5B6F-21BA-4C67-B34F-393FAF2D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EA2E-D0BF-4828-89B6-15773391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2D2E-ADCA-41F1-AA6F-B0BD784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7842-DADD-417A-B6DC-896B3A3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F12F-346E-4D2A-B797-33972D2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470-FC13-460D-BE44-76974803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97E0-FEA3-4464-977A-ACF3A23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ED0F-79BC-4205-A998-8A81C9D0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0382-3583-43CC-8E31-92E74E39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6474-66C4-4C11-8CA5-CAE73EDB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BA88-C24A-4B82-A3F8-5D321BA8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FF2-6C22-41DC-90A8-06C05B8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FE9-324F-4A6C-9C0D-5693044A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76A-948E-43A7-8772-09148D2F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7A2-7472-4A7F-A704-223428D1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D8C-BA38-401F-AED6-89CCB69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741-D291-49DD-AE96-91EF35A2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1FE-3761-4411-8950-0A848799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C6D5-B581-4466-BAA0-1C900B557F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C1B4-4477-450D-B76A-AB6DA5338F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0&amp;ed=1&amp;text=&#1075;&#1086;&#1088;&#1086;&#1076;&#1077;&#1094;&#1082;&#1072;&#1103;%20&#1088;&#1086;&#1089;&#1087;&#1080;&#1089;&#1100;&amp;spsite=www.stihi.ru&amp;img_url=demiart.ru%2Fforum%2Fuploads%2Fpost-25406-1178993159.gif&amp;rpt=simage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p=5&amp;ed=1&amp;text=&#1075;&#1086;&#1088;&#1086;&#1076;&#1077;&#1094;&#1082;&#1072;&#1103;%20&#1088;&#1086;&#1089;&#1087;&#1080;&#1089;&#1100;&amp;spsite=www.kalyamalya.ru&amp;img_url=www.kalyamalya.ru%2Fmodules%2Fbamagalerie3%2Fgalerie%2Fkon.jpg&amp;rpt=simag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p=6&amp;ed=1&amp;text=&#1075;&#1086;&#1088;&#1086;&#1076;&#1077;&#1094;&#1082;&#1072;&#1103;%20&#1088;&#1086;&#1089;&#1087;&#1080;&#1089;&#1100;&amp;spsite=www.pycb.orthodoxy.ru&amp;img_url=tmn.fio.ru%2Fworks%2F127x%2F304_1%2Fimages%2F345-1.gif&amp;rpt=simage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8&amp;ed=1&amp;text=&#1075;&#1086;&#1088;&#1086;&#1076;&#1077;&#1094;&#1082;&#1072;&#1103;%20&#1088;&#1086;&#1089;&#1087;&#1080;&#1089;&#1100;&amp;spsite=www.nosh.unn.ru&amp;img_url=www.nosh.unn.ru%2Fartists%2Fimages%2F1%2Fkolesnikova_v%2FUntitled-8.jpg&amp;rpt=simag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p=9&amp;ed=1&amp;text=&#1075;&#1086;&#1088;&#1086;&#1076;&#1077;&#1094;&#1082;&#1072;&#1103;%20&#1088;&#1086;&#1089;&#1087;&#1080;&#1089;&#1100;&amp;spsite=spoons.playnext.ru&amp;img_url=spoons.playnext.ru%2Fg%2FphotoImages%2F176_1.jpg&amp;rpt=simage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ages.yandex.ru/yandsearch?p=12&amp;ed=1&amp;text=&#1075;&#1086;&#1088;&#1086;&#1076;&#1077;&#1094;&#1082;&#1072;&#1103;%20&#1088;&#1086;&#1089;&#1087;&#1080;&#1089;&#1100;&amp;spsite=timeart.ru&amp;img_url=timeart.ru%2Fgallery%2Falbums%2Fuserpics%2Fnormal_%25CF%25E5%25F2%25F3%25F5%25E8%2520%25C3%25EE%25F0%25EE%25E4%25E5%25F6%25EA%25E0%25FF%2520%25F0%25EE%25F1%25EF%25E8%25F1%25FC%2520%25CC%25E5%25EB%25E5%25ED%25F2%25FC%25E5%25E2%25E0%2520%25CE%25EB%25FF%252018%2520%25EB%25E5%25F2.jpg&amp;rpt=simage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yandex.ru/yandsearch?p=13&amp;ed=1&amp;text=&#1075;&#1086;&#1088;&#1086;&#1076;&#1077;&#1094;&#1082;&#1072;&#1103;%20&#1088;&#1086;&#1089;&#1087;&#1080;&#1089;&#1100;&amp;spsite=chrio.chebnet.com&amp;img_url=art-remeslo.narod.ru%2F201.jpg&amp;rpt=simage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yandex.ru/yandsearch?p=3&amp;ed=1&amp;text=&#1075;&#1086;&#1088;&#1086;&#1076;&#1077;&#1094;&#1082;&#1072;&#1103;%20&#1088;&#1086;&#1089;&#1087;&#1080;&#1089;&#1100;&amp;spsite=vikki.by.ru&amp;img_url=biserps.narod.ru%2Fkg.jpg&amp;rpt=simage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468360" y="260280"/>
            <a:ext cx="784872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ородецкая росп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9" name="Picture 5" descr="i?id=40761537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35728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?id=57421184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2000160"/>
            <a:ext cx="2305080" cy="273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i?id=1364422&amp;tov=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4869000"/>
            <a:ext cx="2808000" cy="1871640"/>
          </a:xfrm>
          <a:prstGeom prst="rect">
            <a:avLst/>
          </a:prstGeom>
          <a:ln w="0">
            <a:noFill/>
          </a:ln>
        </p:spPr>
      </p:pic>
      <p:pic>
        <p:nvPicPr>
          <p:cNvPr id="162" name="16 - Track 16.mp3" descr=""/>
          <p:cNvPicPr/>
          <p:nvPr/>
        </p:nvPicPr>
        <p:blipFill>
          <a:blip r:embed="rId7"/>
          <a:stretch/>
        </p:blipFill>
        <p:spPr>
          <a:xfrm>
            <a:off x="8820000" y="189000"/>
            <a:ext cx="152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900" spc="-1" strike="noStrike">
                <a:solidFill>
                  <a:srgbClr val="ffff00"/>
                </a:solidFill>
                <a:latin typeface="Arial"/>
              </a:rPr>
              <a:t>История Городц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79280" y="1341360"/>
            <a:ext cx="8464680" cy="5302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9eb57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Городецкая роспись по дереву – знаменитый народ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промысел Нижегородского кр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Он получил развитие во второй половине XIX 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в заволжских деревнях близ Город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Жители окрестных деревень слыли искусн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ремесленниками,среди которых были кузнец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ткачи, красильщики, резчики, плотники и столя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Леса в Заволжье было много, и он давал много дешёв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материала, из которого делали всё: от детских игруш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до предметов мебели. Особой известностью пользовались городецки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прялки, которые в большом количестве продавались на Нижегород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ярмарке и расходились по все России. Их с удовольствием покуп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благодаря забавным расписным картинкам на донце прял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После окончания работы такими донцами хозяйки украш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стены вместо картин. Вскоре такой росписью стали украш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не только прялки, но и многие предметы народ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быта: стульчики, лукошки, короба, солонки и игру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Городецкая роспись"/>
          <p:cNvPicPr/>
          <p:nvPr/>
        </p:nvPicPr>
        <p:blipFill>
          <a:blip r:embed="rId1"/>
          <a:stretch/>
        </p:blipFill>
        <p:spPr>
          <a:xfrm>
            <a:off x="2268360" y="115920"/>
            <a:ext cx="4105440" cy="27813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250920" y="2924280"/>
            <a:ext cx="8642160" cy="3744720"/>
          </a:xfrm>
          <a:prstGeom prst="rect">
            <a:avLst/>
          </a:prstGeom>
          <a:gradFill rotWithShape="0">
            <a:gsLst>
              <a:gs pos="0">
                <a:srgbClr val="29eb57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Городецкая роспись своеобразна по своей манер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поэтому спутать её достаточно тру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Ни одно городецкое изделие не обходится без пышных гирлян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букетов цветов, напоминающих розы и ромаш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Городецкие мастера не знали законов перспектив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поэтому их рисунки были плоскими. Но их работы всегда отличали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удивительной лёгкостью и прозрач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Раньше городецкая роспись делалась яичными красками, котор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ложились на изделие большими цветовыми пятнами, без предварите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контура. Рисунок наносился свободными мазками с графической обвод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чёрного или белого цвета. Преобладали синие, красные, белые и чёрные ц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В наши дни мастера используют масляную краску, что расшири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54b"/>
                </a:solidFill>
                <a:latin typeface="Arial"/>
              </a:rPr>
              <a:t>цветовую гамму. Но технология осталась та 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ffff00"/>
                </a:solidFill>
                <a:latin typeface="Arial"/>
              </a:rPr>
              <a:t>Основные элементы и сюжеты росписи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85840" y="1357200"/>
            <a:ext cx="7964280" cy="3714840"/>
          </a:xfrm>
          <a:prstGeom prst="rect">
            <a:avLst/>
          </a:prstGeom>
          <a:gradFill rotWithShape="0">
            <a:gsLst>
              <a:gs pos="0">
                <a:srgbClr val="61e92b"/>
              </a:gs>
              <a:gs pos="100000">
                <a:srgbClr val="ffff66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Основными элементами городецкой росписи считаю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«розаны», «купавки», «ромашки», «бубенчик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Главные герои городецкой росписи – птица и ко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Все это по преимуществу фантастические птиц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кони, которые пришли к нам из доброй сказки. Вспомните ска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«Сивка-бурка», «Жар-птица», «Аленький цветочек»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Сюжеты городецких изделий имели своеобразный неповторимый сюж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Мастера изображали прогулки кавалеров с дамами, всадников на конях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сцены чаепития в богатых интерьерах, украшенных колоннами, высоки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окнами, пышными занавесками, настенными часами. Но встречалис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и сцены из простой жизни: охотники в лесу, пряхи за работой, строитель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0054b"/>
                </a:solidFill>
                <a:latin typeface="Arial"/>
              </a:rPr>
              <a:t>до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Рисунок 14"/>
          <p:cNvPicPr/>
          <p:nvPr/>
        </p:nvPicPr>
        <p:blipFill>
          <a:blip r:embed="rId1"/>
          <a:stretch/>
        </p:blipFill>
        <p:spPr>
          <a:xfrm>
            <a:off x="6791400" y="4327560"/>
            <a:ext cx="1962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104840" y="236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7" descr="i?id=27949515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?id=34719165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4240" y="1908000"/>
            <a:ext cx="1451160" cy="1882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i?id=11068766&amp;tov=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414324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i?id=12623602&amp;tov=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8584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i?id=147483&amp;tov=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00800" y="2928960"/>
            <a:ext cx="219240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i-tmb-0x" descr="i?id=33361314&amp;tov=0"/>
          <p:cNvPicPr/>
          <p:nvPr/>
        </p:nvPicPr>
        <p:blipFill>
          <a:blip r:embed="rId11"/>
          <a:stretch/>
        </p:blipFill>
        <p:spPr>
          <a:xfrm>
            <a:off x="5429160" y="4929120"/>
            <a:ext cx="2160720" cy="1656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14"/>
          <p:cNvSpPr txBox="1"/>
          <p:nvPr/>
        </p:nvSpPr>
        <p:spPr>
          <a:xfrm>
            <a:off x="539640" y="0"/>
            <a:ext cx="468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спись по дерев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9" descr="i?id=41834883&amp;tov=3"/>
          <p:cNvPicPr/>
          <p:nvPr/>
        </p:nvPicPr>
        <p:blipFill>
          <a:blip r:embed="rId12"/>
          <a:stretch/>
        </p:blipFill>
        <p:spPr>
          <a:xfrm>
            <a:off x="2928960" y="4286160"/>
            <a:ext cx="18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11:04Z</dcterms:created>
  <dc:creator>Usert</dc:creator>
  <dc:description/>
  <dc:language>en-US</dc:language>
  <cp:lastModifiedBy>Innes</cp:lastModifiedBy>
  <dcterms:modified xsi:type="dcterms:W3CDTF">2012-03-13T16:32:34Z</dcterms:modified>
  <cp:revision>10</cp:revision>
  <dc:subject/>
  <dc:title>   </dc:title>
</cp:coreProperties>
</file>