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AB8-7CDE-4D26-9409-0FCC767A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AB5-058F-4EBD-93D7-B7AE7CB5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1321-D9F3-4664-A976-E18E4436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5814-DC11-4B86-A660-572DC233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5239-55FE-4464-805B-2C112D25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59A5-C6BC-4FBE-8F12-0B8D26B9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97A2-EA38-4193-9915-ABDEDC03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3188-8123-419F-B020-A4781FD1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7912-8437-4942-BC2E-88A2D01A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0AE6-F9E8-490C-9F4B-132317C5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5D7F-A69A-4C2C-B155-CB76F62D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EDF-73F9-4BF9-80C5-30F3F1E6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4AC3-BE8D-4260-8B13-DC35280E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C4C0-6F1F-4673-814D-CC08B7CA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707C-A28C-4302-BF41-9B62E52B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FDA8-F02C-431F-9083-336829F8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0DB7-86CB-40D8-83A4-BA2AC823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E8E3C-15E0-47F7-AD89-B0EFEF3C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2CD4E-5C1F-4CCA-9C5F-53D1D991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398A7-CA82-4E36-ADE8-466C1038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AB12B-EE89-42A3-9461-BFA84266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737C5-E84C-4248-83A6-6A51ABF6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BED-2A29-41DA-A474-2360B01E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E019D-8D3C-4653-9BC5-528BDFB8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A202-7110-4FCD-A774-C8663C8C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0351E-9069-4B4E-9436-8FD149B6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3B361-3E3E-4534-91FB-787552A7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3812E-8E84-4C12-ACE1-1CBB59DD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23BFC-64C2-4723-9537-F9D86AF7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B7248-121A-4126-87CC-0117DB19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E503E-22F4-477F-BD55-D13D01CD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462B8-5AE8-4507-A78B-809F923B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C21EF-6332-40C5-AD99-96118953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FEB1-F42A-4AC6-8849-264603DD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C377C-206F-48C6-91C5-9BA5242F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5499A-7516-4652-8B5E-21D11ED6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78EC1-696D-44DA-BB64-AEB2C81A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FBA3F-F722-4A23-97D0-CF474997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52AF6-CC42-4124-9E61-9EF30C78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EDF6E-69D1-4549-8345-F637C527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D92ED-D2E9-475B-BED3-E8091B8B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84352-81E6-45C8-8592-A6B22B18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555DD-C89F-4CDE-9EAA-9D224C72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75DF5-997A-4823-9E24-0A9430DF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436D-6FA6-415B-8F2F-0C15CD3F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481DC-4ED3-418D-B50F-5340B8EC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219C5-B512-4881-834D-733E262E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0BCDA-7223-40FF-B949-0468A125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E25BD-65C2-411E-8BBE-AFF79707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98078-A8C2-4220-B87B-C2800995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AC7CE-141B-4078-B6BB-A5753DBB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B7432-A56E-4ABB-951C-F5980498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17926-9523-4F3F-A677-3587B251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EC70F-033B-4A42-A1E4-B14F46D6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ED7D3-CD09-45FB-B540-7B7E1A88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222D-4F4A-4197-8E78-02B270F1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D3438-0E50-49EE-AC28-C1E5DDA0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E05-5E20-4077-816B-5F46281C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6FB9-4891-457E-9B03-42F040ED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C83-07F7-47A0-A2C9-E33ABC7F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0861-E0E6-4B38-A605-07B869A83A63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F863-ABD2-4A1F-AC4D-66E5A4D00439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FDC3-2BE5-4D5C-8182-614ED62861CA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85FD-8E04-49DA-BFCC-EE2DCF5B54C1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8290-D653-44E8-A5C4-D4D8942EA153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9" descr="c3abed8c9c49"/>
          <p:cNvPicPr/>
          <p:nvPr/>
        </p:nvPicPr>
        <p:blipFill>
          <a:blip r:embed="rId1"/>
          <a:stretch/>
        </p:blipFill>
        <p:spPr>
          <a:xfrm>
            <a:off x="4724280" y="1981080"/>
            <a:ext cx="3962520" cy="2946600"/>
          </a:xfrm>
          <a:prstGeom prst="rect">
            <a:avLst/>
          </a:prstGeom>
          <a:ln w="0">
            <a:noFill/>
          </a:ln>
        </p:spPr>
      </p:pic>
      <p:sp>
        <p:nvSpPr>
          <p:cNvPr id="221" name="WordArt 14"/>
          <p:cNvSpPr txBox="1"/>
          <p:nvPr/>
        </p:nvSpPr>
        <p:spPr>
          <a:xfrm>
            <a:off x="609480" y="609480"/>
            <a:ext cx="8382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99ff66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ЖОСТОВСКИЕ ПОДНОСЫ</a:t>
            </a:r>
            <a:endParaRPr b="0" lang="en-US" sz="4000" spc="1" strike="noStrike">
              <a:ln w="9360">
                <a:solidFill>
                  <a:srgbClr val="99ff66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222" name="Picture 11" descr="27153412_Z5"/>
          <p:cNvPicPr/>
          <p:nvPr/>
        </p:nvPicPr>
        <p:blipFill>
          <a:blip r:embed="rId2"/>
          <a:stretch/>
        </p:blipFill>
        <p:spPr>
          <a:xfrm>
            <a:off x="609480" y="2971800"/>
            <a:ext cx="39625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5105160"/>
            <a:ext cx="8183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Жостовская роспись по металлу - русский художественный промысел лаковой росписи по металлу, сложившийся в начале 19 в. в деревне Жостово неподалеку от подмосковных Мытищ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Picture 12" descr="38234197_picture75"/>
          <p:cNvPicPr/>
          <p:nvPr/>
        </p:nvPicPr>
        <p:blipFill>
          <a:blip r:embed="rId1"/>
          <a:stretch/>
        </p:blipFill>
        <p:spPr>
          <a:xfrm>
            <a:off x="1295280" y="457200"/>
            <a:ext cx="64008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411480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825 год город Жостово –мастерская по созданию подносов с  сюжетной и цветочной росписью, основанная художником-миниатюристом О. Ф. Вишняковым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10" descr="1904127txb"/>
          <p:cNvPicPr/>
          <p:nvPr/>
        </p:nvPicPr>
        <p:blipFill>
          <a:blip r:embed="rId1"/>
          <a:stretch/>
        </p:blipFill>
        <p:spPr>
          <a:xfrm>
            <a:off x="4191120" y="533520"/>
            <a:ext cx="4368600" cy="3276360"/>
          </a:xfrm>
          <a:prstGeom prst="rect">
            <a:avLst/>
          </a:prstGeom>
          <a:ln w="0">
            <a:noFill/>
          </a:ln>
        </p:spPr>
      </p:pic>
      <p:sp>
        <p:nvSpPr>
          <p:cNvPr id="227" name="Содержимое 2"/>
          <p:cNvSpPr/>
          <p:nvPr/>
        </p:nvSpPr>
        <p:spPr>
          <a:xfrm>
            <a:off x="380880" y="411480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снове жостовской росписи лежит сочный, свободный мазок кисти. Жостовский мастер не работает по образцам, перед ним нет и живых ц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ческий стиль жостовского искусства предполагает несколько цветочных композиций: "Букет собранный", "Букет враскидку", "Венок", "Ветка с угла", в которых в гармоническом единстве выступают крупные и мелкие цветы, листья, бутоны, стеб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нна</dc:creator>
  <dc:description/>
  <dc:language>en-US</dc:language>
  <cp:lastModifiedBy>Innes</cp:lastModifiedBy>
  <dcterms:modified xsi:type="dcterms:W3CDTF">2012-03-13T16:32:4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