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925-3E7B-4647-8142-898455E4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182-6A97-4E8F-A344-78543C65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A64-3AB1-4D1E-A2A6-555F617B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AD-86B4-41C4-B9A8-BF690826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925A-26EB-4BE7-9ECD-1C56BCD4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9407-C9F7-4EBB-A585-D4A22FE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B440-860E-4E54-B129-4D3B6C4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D3E-8284-4614-8A22-7522779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0A70-7D9B-4332-9CB3-3A3082D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254E-B003-4CDC-9BEB-1177ECC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843F-5B78-489E-BDD0-A8730CD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38D-7040-4EC4-A633-41AE210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71D-D334-4C8B-8B04-524D46E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8917-7CEA-4E2E-8ACA-49897E5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8C1C-0F71-49BA-ABA2-B85782A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DC1B-4206-4137-9126-B772EC11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3E1F-AEC0-4539-ADBA-00E05005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1DB-D47F-4F50-BEFE-7FCA6B2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E99-9BCC-4BEC-93E0-C647B20B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89A-43C8-4736-8CE9-50A51F2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EBE-3383-4845-97B6-87C8ED1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EE6-FD01-4253-9AD7-D3DE582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41E-370E-4D52-80F5-74FD9DCE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9CB-1730-4190-AC80-4F14AB5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F36C-6429-4D5F-93AE-4BB32E793C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C27B-5108-43CE-9B9C-E87AFB71C5B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ектные технологии в системе патриотического воспитания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атранина Т.И. , гимназия № 125 Советского района Города Каза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Comic Sans MS"/>
              </a:rPr>
              <a:t>Оценка презентаци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Качество презентации (доклада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Полнота представления работы, методов исследова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Убедительность и убеждённость докладчи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Аргументирова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бъём и глубина знаний по теме, эрудированнос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Культура речи, соблюдение плана защиты, умение удерживать внимание аудитории, соблюдение регламен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тветы на вопрос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Деловые качества докладчи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еоретические основы проектного метод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Метод проектов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- </a:t>
            </a: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способ достижения дидактической цели через детальную разработку проблемы, которая должна завершиться вполне реальным, осязаемы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практическим результат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Метод проектов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предполагает определённую совокупность учебно - познавательных приёмов, которые позволяют решить ту или иную проблему в результате самостоятельных действий учащихся и предполагаю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презентацию этих результа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23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Основные требования к использованию методов проек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omic Sans MS"/>
              </a:rPr>
              <a:t>Наличие значимой в исследовательском, творческом плане пробл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omic Sans MS"/>
              </a:rPr>
              <a:t>Практическая, теоретическая, познавательная, воспитательная значимость предполагаемых результа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omic Sans MS"/>
              </a:rPr>
              <a:t>Самостоятельная (индивидуальная, парная, групповая)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omic Sans MS"/>
              </a:rPr>
              <a:t>Структурирование содержательной части проек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omic Sans MS"/>
              </a:rPr>
              <a:t>Использование исследовательских метод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Определение проблемы и вытекающих из неё задач исследован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Выдвижение гипотезы их решен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Обсуждение методов исследования (статистических, экспериментальных, наблюдения, анкетирования и др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Сбор, систематизация и анализ полученных данны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Обсуждение способов оформления конечных результат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Подведение итогов, оформление результатов, их презентац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6600"/>
                </a:solidFill>
                <a:latin typeface="Comic Sans MS"/>
              </a:rPr>
              <a:t>Выводы, выдвижение новых проблем исследова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Типология проект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626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сследовательские, поисковые, творческие, ролевые, прикладные (практико – ориентированные), ознакомительно- ориентировочны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о доминирующей в проекте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нопроекты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В рамках одной области знания);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жпредметные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екты </a:t>
            </a: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о предметно – содержательной обла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 непосредственной и со скрытой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неявной, имитирующей участника проекта)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ординацией </a:t>
            </a: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о характеру координации проек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о характеру контактов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среди участников одного класса, школы, города, региона, страны, разных стран мир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дивидуальные, парные, групповые, коллективные </a:t>
            </a: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о количеству участников проек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аткосрочные, среднесрочные и долгосрочные </a:t>
            </a: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о продолжительности про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1571400"/>
            <a:ext cx="8834040" cy="3677040"/>
            <a:chOff x="0" y="1571400"/>
            <a:chExt cx="8834040" cy="3677040"/>
          </a:xfrm>
        </p:grpSpPr>
        <p:cxnSp>
          <p:nvCxnSpPr>
            <p:cNvPr id="162" name="_s198687"/>
            <p:cNvCxnSpPr>
              <a:stCxn id="163" idx="0"/>
              <a:endCxn id="164" idx="2"/>
            </p:cNvCxnSpPr>
            <p:nvPr/>
          </p:nvCxnSpPr>
          <p:spPr>
            <a:xfrm flipV="1">
              <a:off x="1412640" y="2552400"/>
              <a:ext cx="2160" cy="10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98686"/>
            <p:cNvCxnSpPr>
              <a:stCxn id="166" idx="0"/>
              <a:endCxn id="167" idx="2"/>
            </p:cNvCxnSpPr>
            <p:nvPr/>
          </p:nvCxnSpPr>
          <p:spPr>
            <a:xfrm flipV="1">
              <a:off x="7421040" y="2552400"/>
              <a:ext cx="1800" cy="10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98684"/>
            <p:cNvCxnSpPr>
              <a:stCxn id="169" idx="0"/>
              <a:endCxn id="170" idx="2"/>
            </p:cNvCxnSpPr>
            <p:nvPr/>
          </p:nvCxnSpPr>
          <p:spPr>
            <a:xfrm flipV="1">
              <a:off x="4418280" y="2552400"/>
              <a:ext cx="2160" cy="102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98670"/>
            <p:cNvCxnSpPr>
              <a:stCxn id="167" idx="0"/>
              <a:endCxn id="172" idx="2"/>
            </p:cNvCxnSpPr>
            <p:nvPr/>
          </p:nvCxnSpPr>
          <p:spPr>
            <a:xfrm flipV="1" rot="16200000">
              <a:off x="5869080" y="751680"/>
              <a:ext cx="101160" cy="300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98669"/>
            <p:cNvCxnSpPr>
              <a:stCxn id="170" idx="0"/>
              <a:endCxn id="172" idx="2"/>
            </p:cNvCxnSpPr>
            <p:nvPr/>
          </p:nvCxnSpPr>
          <p:spPr>
            <a:xfrm flipV="1">
              <a:off x="4418280" y="2203200"/>
              <a:ext cx="2160" cy="10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98668"/>
            <p:cNvCxnSpPr>
              <a:stCxn id="164" idx="0"/>
              <a:endCxn id="172" idx="2"/>
            </p:cNvCxnSpPr>
            <p:nvPr/>
          </p:nvCxnSpPr>
          <p:spPr>
            <a:xfrm flipH="1" flipV="1" rot="5400000">
              <a:off x="2864880" y="750960"/>
              <a:ext cx="101160" cy="3006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2" name="_s198664"/>
            <p:cNvSpPr/>
            <p:nvPr/>
          </p:nvSpPr>
          <p:spPr>
            <a:xfrm>
              <a:off x="2346840" y="1571400"/>
              <a:ext cx="4141080" cy="6321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dff"/>
                  </a:solidFill>
                  <a:latin typeface="Comic Sans MS"/>
                </a:rPr>
                <a:t>Формы представления результатов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dff"/>
                  </a:solidFill>
                  <a:latin typeface="Comic Sans MS"/>
                </a:rPr>
                <a:t>проектн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198665"/>
            <p:cNvSpPr/>
            <p:nvPr/>
          </p:nvSpPr>
          <p:spPr>
            <a:xfrm>
              <a:off x="438480" y="2305800"/>
              <a:ext cx="1947960" cy="2462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Устные</a:t>
              </a: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198666"/>
            <p:cNvSpPr/>
            <p:nvPr/>
          </p:nvSpPr>
          <p:spPr>
            <a:xfrm>
              <a:off x="3443040" y="2305800"/>
              <a:ext cx="1947960" cy="2462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        </a:t>
              </a: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Письменные</a:t>
              </a:r>
              <a:r>
                <a:rPr b="0" lang="ru-RU" sz="1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198667"/>
            <p:cNvSpPr/>
            <p:nvPr/>
          </p:nvSpPr>
          <p:spPr>
            <a:xfrm>
              <a:off x="6447600" y="2305800"/>
              <a:ext cx="1947960" cy="2462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Наглядно-образ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198679"/>
            <p:cNvSpPr/>
            <p:nvPr/>
          </p:nvSpPr>
          <p:spPr>
            <a:xfrm>
              <a:off x="0" y="2653920"/>
              <a:ext cx="2825280" cy="25945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Доклад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Обзор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Отчет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ообщени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равнительный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 </a:t>
              </a: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анализ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198683"/>
            <p:cNvSpPr/>
            <p:nvPr/>
          </p:nvSpPr>
          <p:spPr>
            <a:xfrm>
              <a:off x="3004200" y="2653920"/>
              <a:ext cx="2825280" cy="25945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Альманах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Отчет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Публикация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Реферат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борник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казк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татья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ценарий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Учебное пособи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198685"/>
            <p:cNvSpPr/>
            <p:nvPr/>
          </p:nvSpPr>
          <p:spPr>
            <a:xfrm>
              <a:off x="6008760" y="2653920"/>
              <a:ext cx="2825280" cy="25945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Видеофиль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Выставк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Инсценировк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Информационный бюллетень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Коллекция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Макет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Модель фигур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Плакат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Презентация в </a:t>
              </a:r>
              <a:r>
                <a:rPr b="1" lang="en-US" sz="1300" spc="-1" strike="noStrike">
                  <a:solidFill>
                    <a:srgbClr val="cc6600"/>
                  </a:solidFill>
                  <a:latin typeface="Comic Sans MS"/>
                </a:rPr>
                <a:t>Power Poi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c6600"/>
                  </a:solidFill>
                  <a:latin typeface="Comic Sans MS"/>
                </a:rPr>
                <a:t>Web </a:t>
              </a: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–сайт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Стенгазет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cc6600"/>
                  </a:solidFill>
                  <a:latin typeface="Comic Sans MS"/>
                </a:rPr>
                <a:t>Тематический журна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Критерии оценки про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ценка работы по подготовке проек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ценка результата проек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ценка презентации проек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Оценка работы по подготовке проек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боснованность выбора тем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дтверждение достоверности выполне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Экскурсия (фото-, видеоотчёты, письменный анализ полученной информации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Исследования (анализ, таблицы, диаграмм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Теоретические исследования (библиография, цитируемость используемой литератур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сылки на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– ресурс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3.     Применение полученной информации для достижения цели про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ценка результата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Актуальность выбора темы, практическая направленность, значимость проект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Полнота раскрытия темы, самостоятельность, завершённость деятельности по проект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Элементы творчества, оригинальность, новизна в раскрытии тем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Аргументированность подходов и действий для достижения цели проект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Качество отчёт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Эстетичность оформл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Соответствие стандартным требованиям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Структурированность информаци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Качество иллюстративного материал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Comic Sans MS"/>
              </a:rPr>
              <a:t>Анализ или реценз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07T15:19:38Z</dcterms:modified>
  <cp:revision>6</cp:revision>
  <dc:subject/>
  <dc:title>PowerPoint Presentation</dc:title>
</cp:coreProperties>
</file>