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844-43E7-4A6B-AC17-DBCB0C80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B2B-DA6C-4B2B-B6DF-58BECADF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9DF-306F-414F-9EE3-84A280FA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721-0CD8-4CA3-BB23-35B0663F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8513-C8ED-4950-8176-D5C3C492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28BB-5CD7-4261-8497-2024C338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76E1-4328-43B1-A5C5-1FED6038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3535-CD12-4517-9FA5-094D35A2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1445-F655-4EF6-8807-D72BF9B4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56A5-F972-469A-9011-ABB607C0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B17E-52B5-41E8-880B-27EF8FC0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8E9-095B-4FCE-8DB7-6FB23E9A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7D69-3B43-4A3B-B611-452CE55C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79E0-E362-4110-A43A-6A8B25D7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CE39-FE14-4E48-AC4A-03257F8E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3B7B-3037-4A53-924C-E8EFD1CA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3358-EBE3-42CC-B181-4D855605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669-A421-4A58-AC7F-4B4F80B6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6A1-E418-4F3B-84BC-4FC29027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8AB-9DFB-439E-911C-25F3963C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9A1-2BCF-4DDF-A467-67A9F05B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B0F-399A-4AD3-9303-58CF5435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D73-F672-4080-B6A4-33FA95AA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FCA-0AB0-4A28-8074-EA32E5DA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2F7C-0437-4B34-B650-DAB73C7842F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71EE-3111-407D-8D03-2E5EBD200F1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28560" y="281160"/>
            <a:ext cx="8045640" cy="603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585792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63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«Преимущество игры перед любой другой деятельностью в том, что в её ходе дети сами, добровольно подчиняются определённым правилам, открытым или заданным ролью… Это практически единственная область, где дошкольники могут проявить свою инициативу и творческую активность. И в тоже время именно в игре они учатся контролировать и оценивать себя, понимать, что делают, и действовать правильно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07880" y="195120"/>
            <a:ext cx="8523360" cy="130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Мои документы\Новая папка\Фото1229.jpg"/>
          <p:cNvPicPr/>
          <p:nvPr/>
        </p:nvPicPr>
        <p:blipFill>
          <a:blip r:embed="rId2"/>
          <a:stretch/>
        </p:blipFill>
        <p:spPr>
          <a:xfrm>
            <a:off x="2873520" y="1690560"/>
            <a:ext cx="339696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C:\Documents and Settings\Admin\Мои документы\Новая папка\Фото1228.jpg"/>
          <p:cNvPicPr/>
          <p:nvPr/>
        </p:nvPicPr>
        <p:blipFill>
          <a:blip r:embed="rId1"/>
          <a:stretch/>
        </p:blipFill>
        <p:spPr>
          <a:xfrm>
            <a:off x="714240" y="285840"/>
            <a:ext cx="778680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C:\Documents and Settings\Admin\Мои документы\Новая папка\Фото1230.jpg"/>
          <p:cNvPicPr/>
          <p:nvPr/>
        </p:nvPicPr>
        <p:blipFill>
          <a:blip r:embed="rId1"/>
          <a:stretch/>
        </p:blipFill>
        <p:spPr>
          <a:xfrm>
            <a:off x="428760" y="428760"/>
            <a:ext cx="807228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C:\Documents and Settings\Admin\Мои документы\Новая папка\Фото1231.jpg"/>
          <p:cNvPicPr/>
          <p:nvPr/>
        </p:nvPicPr>
        <p:blipFill>
          <a:blip r:embed="rId1"/>
          <a:stretch/>
        </p:blipFill>
        <p:spPr>
          <a:xfrm>
            <a:off x="571680" y="285840"/>
            <a:ext cx="77151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6:01:14Z</dcterms:created>
  <dc:creator>Admin</dc:creator>
  <dc:description/>
  <dc:language>en-US</dc:language>
  <cp:lastModifiedBy>user</cp:lastModifiedBy>
  <dcterms:modified xsi:type="dcterms:W3CDTF">2012-03-12T22:05:39Z</dcterms:modified>
  <cp:revision>3</cp:revision>
  <dc:subject/>
  <dc:title>Государственное бюджетное дошкольное образовательное учреждение детский сад №23 компенсирующего вида Невского района Санкт-Петербурга.    Настольно-печатная игра для детей среднего и старшего возраста  «Профессии»     Воспитатель-Васильева А.П.    Санкт-Петербург 2009г.</dc:title>
</cp:coreProperties>
</file>