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D85-4539-445E-BB41-DED50753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6DC-BDF0-4AAC-AD35-E6A58380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422-0D33-40EE-988F-FCD5B8BF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942-64BB-4758-A947-14595E0F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F36-C483-45B7-83C7-2A563ED6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428-87BE-4432-8664-33E035D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907-E6C6-4D2A-ABFE-22E387E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DD7-AD44-41F7-B7F1-1D2CAC2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4F8-5FEA-4903-8732-A390051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6C2-0E9D-43F1-A458-A97E7FB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DE1-7EA0-46F5-914A-74B05E5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EEA-33BB-40F6-BEBD-528E189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0D91-C9DB-4688-8D24-8B94992B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hram-feodosy.kiev.ua/struct_alta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ram-feodosy.kiev.ua/icons_middl_south.htm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72360" y="1125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6320" y="1341360"/>
            <a:ext cx="823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Monotype Corsiva"/>
              </a:rPr>
              <a:t>Древнерусские соб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421000"/>
            <a:ext cx="66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Урок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программе Б.М.Неме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4076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86064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Monotype Corsiva"/>
              </a:rPr>
              <a:t>Учитель Трапезникова Окс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97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У СОШ №4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вского Административн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33 из 721"/>
          <p:cNvPicPr/>
          <p:nvPr/>
        </p:nvPicPr>
        <p:blipFill>
          <a:blip r:embed="rId2"/>
          <a:stretch/>
        </p:blipFill>
        <p:spPr>
          <a:xfrm>
            <a:off x="1042920" y="907920"/>
            <a:ext cx="7129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258920" y="1125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129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403280" y="1052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Ро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129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084720" y="119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476360" y="1268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796000" y="1125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аз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2 из 287286"/>
          <p:cNvPicPr/>
          <p:nvPr/>
        </p:nvPicPr>
        <p:blipFill>
          <a:blip r:embed="rId2"/>
          <a:stretch/>
        </p:blipFill>
        <p:spPr>
          <a:xfrm>
            <a:off x="1116000" y="907920"/>
            <a:ext cx="6985080" cy="5042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-1281240" y="128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119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088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076720" y="119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2 из 9371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133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435640" y="1125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11253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анкт-Петербург «Измайловский соб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56 из 9371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079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979640" y="1052640"/>
            <a:ext cx="5472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«Собор Святого Никол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46 из 9371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09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627280" y="1052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1916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 Black"/>
              </a:rPr>
              <a:t>Посмотри на  древние храмы, кого они  тебе напомин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341360"/>
            <a:ext cx="4859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000"/>
                </a:solidFill>
                <a:latin typeface="Monotype Corsiva"/>
              </a:rPr>
              <a:t>«</a:t>
            </a:r>
            <a:r>
              <a:rPr b="1" lang="en-US" sz="4000" spc="-1" strike="noStrike">
                <a:solidFill>
                  <a:srgbClr val="201000"/>
                </a:solidFill>
                <a:latin typeface="Monotype Corsiva"/>
              </a:rPr>
              <a:t>В центре города на самом красивом и высоком месте, посреди большой площади строили собор – главный храм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616572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зни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556000" y="981000"/>
            <a:ext cx="42494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«Исаакиевский соб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341360"/>
            <a:ext cx="583272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000"/>
                </a:solidFill>
                <a:latin typeface="Monotype Corsiva"/>
              </a:rPr>
              <a:t>Храмы возводили в память знаменательных д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000"/>
                </a:solidFill>
                <a:latin typeface="Monotype Corsiva"/>
              </a:rPr>
              <a:t>Каждое сооружение прекрасно на том месте, где оно задумано и поставле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616572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9 – 2010 уч.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1197000"/>
            <a:ext cx="58327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000"/>
                </a:solidFill>
                <a:latin typeface="Monotype Corsiva"/>
              </a:rPr>
              <a:t>Все в храме неслучайно, имеет свой смыс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000"/>
                </a:solidFill>
                <a:latin typeface="Monotype Corsiva"/>
              </a:rPr>
              <a:t>Устройство храма – это строго определенный поряд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616572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зни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151"/>
            </a:gs>
            <a:gs pos="50000">
              <a:srgbClr val="808080"/>
            </a:gs>
            <a:gs pos="100000">
              <a:srgbClr val="51515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260280"/>
            <a:ext cx="53276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Христианский храм разделялся на три основные ча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алтар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средняя часть храма, или"церковь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притв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29000" cy="635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260280"/>
            <a:ext cx="4716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000"/>
                </a:solidFill>
                <a:latin typeface="Arial Black"/>
              </a:rPr>
              <a:t>Ставят здание алтарной частью на восток – навстречу солн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000"/>
                </a:solidFill>
                <a:latin typeface="Arial Black"/>
              </a:rPr>
              <a:t>Снаружи восточную сторону легко узнать по полукруглым выступам, в которых размещается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161"/>
            </a:gs>
            <a:gs pos="50000">
              <a:srgbClr val="808080"/>
            </a:gs>
            <a:gs pos="100000">
              <a:srgbClr val="61616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060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16520"/>
            <a:ext cx="813744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3300"/>
                </a:solidFill>
                <a:uFillTx/>
                <a:latin typeface="Arial Black"/>
                <a:ea typeface="Arial"/>
                <a:hlinkClick r:id="rId1"/>
              </a:rPr>
              <a:t>Алтарь </a:t>
            </a:r>
            <a:r>
              <a:rPr b="1" lang="en-US" sz="4400" spc="-1" strike="noStrike">
                <a:solidFill>
                  <a:srgbClr val="201000"/>
                </a:solidFill>
                <a:latin typeface="Arial Black"/>
                <a:ea typeface="Arial"/>
              </a:rPr>
              <a:t>— главнейшая часть храма, предназначенная для священнослужителей и лиц, которые им прислуживают во время богослу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01000"/>
                </a:solidFill>
                <a:latin typeface="Arial Black"/>
                <a:ea typeface="Arial"/>
              </a:rPr>
              <a:t>"Небо на земле" - ещё одно название алта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Алтарь являет собой образ Рая, духовного мира, божественную сторону во Вселенной, обозначает небо, жилище Самого Господа. "/>
          <p:cNvPicPr/>
          <p:nvPr/>
        </p:nvPicPr>
        <p:blipFill>
          <a:blip r:embed="rId2"/>
          <a:stretch/>
        </p:blipFill>
        <p:spPr>
          <a:xfrm>
            <a:off x="2340000" y="1700280"/>
            <a:ext cx="4537080" cy="3324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5555"/>
            </a:gs>
            <a:gs pos="50000">
              <a:srgbClr val="808080"/>
            </a:gs>
            <a:gs pos="100000">
              <a:srgbClr val="55555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434520"/>
            <a:ext cx="777708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000" spc="-1" strike="noStrike" u="sng">
                <a:solidFill>
                  <a:srgbClr val="663300"/>
                </a:solidFill>
                <a:uFillTx/>
                <a:latin typeface="Arial Black"/>
                <a:hlinkClick r:id="rId1"/>
              </a:rPr>
              <a:t>Средняя часть храма </a:t>
            </a:r>
            <a:r>
              <a:rPr b="0" lang="en-US" sz="4000" spc="-1" strike="noStrike" u="sng">
                <a:solidFill>
                  <a:srgbClr val="201000"/>
                </a:solidFill>
                <a:uFillTx/>
                <a:latin typeface="Arial Black"/>
              </a:rPr>
              <a:t>, называемая иногда нефом (кораблем), предназначается для молитвы лиц, принявших крещ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000"/>
                </a:solidFill>
                <a:latin typeface="Arial Black"/>
              </a:rPr>
              <a:t>В этой части храма находятся солея, амвон, клиросы и иконостас.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256360" cy="353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5d5d"/>
            </a:gs>
            <a:gs pos="50000">
              <a:srgbClr val="808080"/>
            </a:gs>
            <a:gs pos="100000">
              <a:srgbClr val="5d5d5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8596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3300"/>
                </a:solidFill>
                <a:uFillTx/>
                <a:latin typeface="Arial Black"/>
              </a:rPr>
              <a:t>Притвор</a:t>
            </a:r>
            <a:r>
              <a:rPr b="1" lang="en-US" sz="4400" spc="-1" strike="noStrike">
                <a:solidFill>
                  <a:srgbClr val="201000"/>
                </a:solidFill>
                <a:latin typeface="Arial Black"/>
              </a:rPr>
              <a:t> есть преддверие к храму. В первые века христианства здесь стояли кающиеся и оглашенные, т.е. лица, готовящиеся к Святому Крещению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9640" y="1630440"/>
            <a:ext cx="5184720" cy="344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63640" y="1197000"/>
            <a:ext cx="5616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Каждый собор имеет свое особое лицо и, как человек, легко узна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В храм приходили в радости и в г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Собор имел огромное значение в жизни людей, вид его показывал могущество, славу города и его кня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623736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зни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63640" y="1700280"/>
            <a:ext cx="5616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Итак, мы познакомились с архитектурой древнерусского каменного х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И сегодня вы будете выполнять работу по изображению х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000"/>
                </a:solidFill>
                <a:latin typeface="Monotype Corsiva"/>
              </a:rPr>
              <a:t>Давайте посмотрим этапы выполнения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616572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9 – 2010 уч.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151"/>
            </a:gs>
            <a:gs pos="50000">
              <a:srgbClr val="808080"/>
            </a:gs>
            <a:gs pos="100000">
              <a:srgbClr val="51515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1916280"/>
            <a:ext cx="1150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3599280" y="1449720"/>
            <a:ext cx="1297080" cy="4680000"/>
          </a:xfrm>
          <a:prstGeom prst="flowChartDelay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789360"/>
            <a:ext cx="1800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3789360"/>
            <a:ext cx="151164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789360"/>
            <a:ext cx="143964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925080" y="4365000"/>
            <a:ext cx="719280" cy="28872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670200" y="5483160"/>
            <a:ext cx="1226880" cy="71892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580000" y="4365720"/>
            <a:ext cx="719280" cy="28728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Картинка 27 из 239"/>
          <p:cNvPicPr/>
          <p:nvPr/>
        </p:nvPicPr>
        <p:blipFill>
          <a:blip r:embed="rId1"/>
          <a:stretch/>
        </p:blipFill>
        <p:spPr>
          <a:xfrm>
            <a:off x="108000" y="115920"/>
            <a:ext cx="2340000" cy="292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835280" y="3429000"/>
            <a:ext cx="1584360" cy="144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66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3357720"/>
            <a:ext cx="1728720" cy="1584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66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3429000"/>
            <a:ext cx="1512720" cy="144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66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269080" y="4364640"/>
            <a:ext cx="719280" cy="28908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526560" y="2600640"/>
            <a:ext cx="865080" cy="21600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176720" y="2600280"/>
            <a:ext cx="863280" cy="215640"/>
          </a:xfrm>
          <a:prstGeom prst="flowChartDelay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84720" y="404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3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1628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Куп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119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Г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63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Двери 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2133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.Заком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907920"/>
            <a:ext cx="144360" cy="217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5589720"/>
            <a:ext cx="216000" cy="215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5589720"/>
            <a:ext cx="216000" cy="215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76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С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522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12970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72360" y="1125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47 из 9987"/>
          <p:cNvPicPr/>
          <p:nvPr/>
        </p:nvPicPr>
        <p:blipFill>
          <a:blip r:embed="rId2"/>
          <a:stretch/>
        </p:blipFill>
        <p:spPr>
          <a:xfrm>
            <a:off x="2700360" y="907920"/>
            <a:ext cx="3835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765000"/>
            <a:ext cx="532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О чем мечтали наши пред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О чем мечтаем мы сей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О славе рус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Непобедимого в ве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В честь ратных подвигов воздвиг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Безмерной силы и борь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Великий храм – звезды неб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Великолепн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И наша главная за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Навеки помнить те г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Когда был создан храм могуч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1000"/>
                </a:solidFill>
                <a:latin typeface="Arial"/>
              </a:rPr>
              <a:t>Во имя счастья и 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623736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зни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59 из 239"/>
          <p:cNvPicPr/>
          <p:nvPr/>
        </p:nvPicPr>
        <p:blipFill>
          <a:blip r:embed="rId1"/>
          <a:stretch/>
        </p:blipFill>
        <p:spPr>
          <a:xfrm>
            <a:off x="971640" y="1413000"/>
            <a:ext cx="4537080" cy="4082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" descr="Картинка 126 из 480"/>
          <p:cNvPicPr/>
          <p:nvPr/>
        </p:nvPicPr>
        <p:blipFill>
          <a:blip r:embed="rId2"/>
          <a:stretch/>
        </p:blipFill>
        <p:spPr>
          <a:xfrm>
            <a:off x="2814480" y="404640"/>
            <a:ext cx="309744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51280" y="4653000"/>
            <a:ext cx="52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000"/>
                </a:solidFill>
                <a:latin typeface="Arial Black"/>
              </a:rPr>
              <a:t>Словно уперся богатырь крепкими руками в родную землю – выстоит, не сдвину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6 L 0.35035 -0.15069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-0.25816 0.14699 E">
                                      <p:cBhvr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08720" y="2708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Г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005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1000"/>
                </a:solidFill>
                <a:latin typeface="Arial Black"/>
              </a:rPr>
              <a:t>Заком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000"/>
                </a:solidFill>
                <a:latin typeface="Arial Black"/>
              </a:rPr>
              <a:t>Ку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27 из 239"/>
          <p:cNvPicPr/>
          <p:nvPr/>
        </p:nvPicPr>
        <p:blipFill>
          <a:blip r:embed="rId1"/>
          <a:stretch/>
        </p:blipFill>
        <p:spPr>
          <a:xfrm>
            <a:off x="835200" y="907920"/>
            <a:ext cx="357480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 flipV="1">
            <a:off x="2916360" y="1773000"/>
            <a:ext cx="2303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299736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789360"/>
            <a:ext cx="244800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3573360"/>
            <a:ext cx="21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357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000"/>
                </a:solidFill>
                <a:latin typeface="Arial Black"/>
              </a:rPr>
              <a:t>С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4508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000"/>
                </a:solidFill>
                <a:latin typeface="Arial Black"/>
              </a:rPr>
              <a:t>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1700280"/>
            <a:ext cx="51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1000"/>
                </a:solidFill>
                <a:latin typeface="Monotype Corsiva"/>
              </a:rPr>
              <a:t>Давайте посмотрим на храмы разных гор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165720"/>
            <a:ext cx="31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зни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129440" cy="511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372360" y="1125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12944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724360" y="119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ала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10 из 721"/>
          <p:cNvPicPr/>
          <p:nvPr/>
        </p:nvPicPr>
        <p:blipFill>
          <a:blip r:embed="rId2"/>
          <a:stretch/>
        </p:blipFill>
        <p:spPr>
          <a:xfrm>
            <a:off x="1042920" y="836640"/>
            <a:ext cx="7129440" cy="520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435640" y="1197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33:54Z</dcterms:created>
  <dc:creator>Oksana</dc:creator>
  <dc:description/>
  <dc:language>en-US</dc:language>
  <cp:lastModifiedBy>Oksana</cp:lastModifiedBy>
  <dcterms:modified xsi:type="dcterms:W3CDTF">2010-04-14T15:34:29Z</dcterms:modified>
  <cp:revision>15</cp:revision>
  <dc:subject/>
  <dc:title>Слайд 1</dc:title>
</cp:coreProperties>
</file>