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001-B6EF-4048-9BA8-F9DFEA22C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4EC0-8BD7-483B-BC8C-F9265A3A6CB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500040" y="1628640"/>
            <a:ext cx="82152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6" name="TextBox 3" descr=""/>
          <p:cNvPicPr/>
          <p:nvPr/>
        </p:nvPicPr>
        <p:blipFill>
          <a:blip r:embed="rId1"/>
          <a:stretch/>
        </p:blipFill>
        <p:spPr>
          <a:xfrm>
            <a:off x="328680" y="1785960"/>
            <a:ext cx="8766000" cy="3700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e3b2852fcf1f.jpg"/>
          <p:cNvPicPr/>
          <p:nvPr/>
        </p:nvPicPr>
        <p:blipFill>
          <a:blip r:embed="rId2"/>
          <a:stretch/>
        </p:blipFill>
        <p:spPr>
          <a:xfrm>
            <a:off x="6929280" y="285840"/>
            <a:ext cx="19814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extBox 1" descr=""/>
          <p:cNvPicPr/>
          <p:nvPr/>
        </p:nvPicPr>
        <p:blipFill>
          <a:blip r:embed="rId1"/>
          <a:stretch/>
        </p:blipFill>
        <p:spPr>
          <a:xfrm>
            <a:off x="469800" y="554040"/>
            <a:ext cx="8124840" cy="2360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1191268972_c4107.jpg"/>
          <p:cNvPicPr/>
          <p:nvPr/>
        </p:nvPicPr>
        <p:blipFill>
          <a:blip r:embed="rId2"/>
          <a:stretch/>
        </p:blipFill>
        <p:spPr>
          <a:xfrm>
            <a:off x="5315040" y="3048120"/>
            <a:ext cx="38289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4" descr=""/>
          <p:cNvPicPr/>
          <p:nvPr/>
        </p:nvPicPr>
        <p:blipFill>
          <a:blip r:embed="rId1"/>
          <a:stretch/>
        </p:blipFill>
        <p:spPr>
          <a:xfrm>
            <a:off x="-96840" y="1468440"/>
            <a:ext cx="8985240" cy="4395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7ec04909-3a2c-4d2d-97c6-2ec3a6964887.jpg"/>
          <p:cNvPicPr/>
          <p:nvPr/>
        </p:nvPicPr>
        <p:blipFill>
          <a:blip r:embed="rId2"/>
          <a:stretch/>
        </p:blipFill>
        <p:spPr>
          <a:xfrm>
            <a:off x="6059520" y="0"/>
            <a:ext cx="308448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00040" y="236772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Когда человек не знает, к какой пристани он держит путь, для него ни один ветер не будет попутным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”.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365040" y="804960"/>
            <a:ext cx="806616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28760" y="642960"/>
          <a:ext cx="8501040" cy="5929200"/>
        </p:xfrm>
        <a:graphic>
          <a:graphicData uri="http://schemas.openxmlformats.org/drawingml/2006/table">
            <a:tbl>
              <a:tblPr/>
              <a:tblGrid>
                <a:gridCol w="533160"/>
                <a:gridCol w="534960"/>
                <a:gridCol w="533520"/>
                <a:gridCol w="533520"/>
                <a:gridCol w="534960"/>
                <a:gridCol w="533160"/>
                <a:gridCol w="492120"/>
                <a:gridCol w="533520"/>
                <a:gridCol w="534960"/>
                <a:gridCol w="533520"/>
                <a:gridCol w="533520"/>
                <a:gridCol w="534960"/>
                <a:gridCol w="533160"/>
                <a:gridCol w="533520"/>
                <a:gridCol w="534960"/>
                <a:gridCol w="533520"/>
              </a:tblGrid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18720">
                      <a:solidFill>
                        <a:srgbClr val="4d4d4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 w="18720">
                      <a:solidFill>
                        <a:srgbClr val="4d4d4d"/>
                      </a:solidFill>
                    </a:lnR>
                    <a:lnT w="18720">
                      <a:solidFill>
                        <a:srgbClr val="4d4d4d"/>
                      </a:solidFill>
                    </a:lnT>
                    <a:lnB w="18720">
                      <a:solidFill>
                        <a:srgbClr val="4d4d4d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8720">
                      <a:solidFill>
                        <a:srgbClr val="4d4d4d"/>
                      </a:solidFill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4d4d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TextBox 3" descr=""/>
          <p:cNvPicPr/>
          <p:nvPr/>
        </p:nvPicPr>
        <p:blipFill>
          <a:blip r:embed="rId1"/>
          <a:stretch/>
        </p:blipFill>
        <p:spPr>
          <a:xfrm>
            <a:off x="-311040" y="-182520"/>
            <a:ext cx="4091040" cy="1017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5929200" y="3571920"/>
            <a:ext cx="30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Устройство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мпьютера»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357200" y="785880"/>
            <a:ext cx="5683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лесо истор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5" descr="колесо4"/>
          <p:cNvPicPr/>
          <p:nvPr/>
        </p:nvPicPr>
        <p:blipFill>
          <a:blip r:embed="rId3"/>
          <a:stretch/>
        </p:blipFill>
        <p:spPr>
          <a:xfrm>
            <a:off x="2411280" y="2852640"/>
            <a:ext cx="39610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857160" y="117360"/>
            <a:ext cx="7929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194d"/>
                </a:solidFill>
                <a:uFillTx/>
                <a:latin typeface="Arial"/>
              </a:rPr>
              <a:t>Россия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94d"/>
                </a:solidFill>
                <a:latin typeface="Arial"/>
              </a:rPr>
              <a:t>Компьютер – вычислитель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нглия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puter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– устройство для математических расчетов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Франция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Ordinateur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– «Сортировщик»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Финляндия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Tietokone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– «машина знаний»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Китай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«Дьян-нао» - «электронный мозг»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9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4078440" y="49320"/>
            <a:ext cx="5126040" cy="64800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5" descr=""/>
          <p:cNvPicPr/>
          <p:nvPr/>
        </p:nvPicPr>
        <p:blipFill>
          <a:blip r:embed="rId2"/>
          <a:stretch/>
        </p:blipFill>
        <p:spPr>
          <a:xfrm>
            <a:off x="146160" y="615960"/>
            <a:ext cx="4694040" cy="40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85840" y="2000160"/>
          <a:ext cx="8643960" cy="408312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1892520"/>
                <a:gridCol w="2428920"/>
              </a:tblGrid>
              <a:tr h="1297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Скорость набора (симв/мин)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отлично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удовлетворительно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4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194d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4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pic>
        <p:nvPicPr>
          <p:cNvPr id="101" name="TextBox 2" descr=""/>
          <p:cNvPicPr/>
          <p:nvPr/>
        </p:nvPicPr>
        <p:blipFill>
          <a:blip r:embed="rId1"/>
          <a:stretch/>
        </p:blipFill>
        <p:spPr>
          <a:xfrm>
            <a:off x="274680" y="285840"/>
            <a:ext cx="8448480" cy="114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1714680" y="142920"/>
            <a:ext cx="50241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57160" y="1071720"/>
            <a:ext cx="2232000" cy="158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Arial"/>
              </a:rPr>
              <a:t>: - )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37640" y="142884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Хорошо понял тему 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поработал на урок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857160" y="3000240"/>
            <a:ext cx="223200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Arial"/>
              </a:rPr>
              <a:t>: - ?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643200" y="3071880"/>
            <a:ext cx="48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Недостаточно хорош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Понял тему, поработа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на урок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57160" y="4929120"/>
            <a:ext cx="223200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Arial"/>
              </a:rPr>
              <a:t>: - (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43200" y="528624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Много нужно работат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Над данной темой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TextBox 8" descr=""/>
          <p:cNvPicPr/>
          <p:nvPr/>
        </p:nvPicPr>
        <p:blipFill>
          <a:blip r:embed="rId1"/>
          <a:stretch/>
        </p:blipFill>
        <p:spPr>
          <a:xfrm>
            <a:off x="2494080" y="-66600"/>
            <a:ext cx="615636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6:13:23Z</dcterms:created>
  <dc:creator>Админ</dc:creator>
  <dc:description/>
  <dc:language>en-US</dc:language>
  <cp:lastModifiedBy>dom</cp:lastModifiedBy>
  <dcterms:modified xsi:type="dcterms:W3CDTF">2010-11-15T15:34:09Z</dcterms:modified>
  <cp:revision>59</cp:revision>
  <dc:subject/>
  <dc:title>Слайд 1</dc:title>
</cp:coreProperties>
</file>