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2DF-BD10-4B90-99B3-7185E0B7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824-2F6F-44D3-8DD9-EB0B24A4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BE2-CD39-448C-A28A-FA594CFD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C7B-E3EC-4133-B2FC-97C398A8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39D-3C4C-4602-8D9F-70B9BE97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B3D-ABA8-47F8-935B-957B7DE6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E83-4446-43B2-A23A-EDFF865E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E67-9281-4619-8AD5-FBBC6C4F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BBD-2D32-46ED-A8F0-CD140BA2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5EA-4570-4E36-A0CA-B0F2C42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D57-086E-417B-A466-F33B8CA9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720-9F4A-4AEE-94A1-63BDB04F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F9FC-AFBB-41F8-8A7F-F603C7E40F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328680" y="353880"/>
            <a:ext cx="815652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71840" y="214200"/>
            <a:ext cx="421488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13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на писателя,  Аталанка, - небольшое село на берегу прославленной реки Ангары. Ныне она перенесена на берег Братского моря и превратилась в рабочий посел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чена учеба в Иркутском университете (1959), впереди работа корреспондентом в газетах “Советская молодежь” и “Красноярский комсомолец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й рассказ “Я забыл спросить у Лешки...” был опубликован в 1961 году. В последние годы писатель много времени и сил отдает общественной и публицистической деятельности. В 1995 вышли в свет его рассказ «В ту же землю»; очерки «Вниз по Лене реке»; в 1996 — рассказы «Поминный день»; в 1997 — «Нежданно-негаданно»; «Отчие пределы» («Видение» и «Вечером»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уреат Государственной премии СССР (1977 и 1987 г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779480" y="268200"/>
            <a:ext cx="6913800" cy="115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 rot="20471400">
            <a:off x="474480" y="831600"/>
            <a:ext cx="3524040" cy="3524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 rot="1058400">
            <a:off x="3288960" y="1379160"/>
            <a:ext cx="2052720" cy="3171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 rot="951600">
            <a:off x="6717960" y="431640"/>
            <a:ext cx="1924200" cy="2381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5"/>
          <a:stretch/>
        </p:blipFill>
        <p:spPr>
          <a:xfrm rot="961200">
            <a:off x="6897240" y="382392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6"/>
          <a:stretch/>
        </p:blipFill>
        <p:spPr>
          <a:xfrm rot="20330400">
            <a:off x="4669920" y="4522680"/>
            <a:ext cx="1285920" cy="197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7"/>
          <a:stretch/>
        </p:blipFill>
        <p:spPr>
          <a:xfrm rot="20063400">
            <a:off x="630000" y="4084200"/>
            <a:ext cx="157320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8"/>
          <a:stretch/>
        </p:blipFill>
        <p:spPr>
          <a:xfrm>
            <a:off x="2643120" y="4643280"/>
            <a:ext cx="152424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9"/>
          <a:stretch/>
        </p:blipFill>
        <p:spPr>
          <a:xfrm>
            <a:off x="5357880" y="1984320"/>
            <a:ext cx="18572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425840" y="268200"/>
            <a:ext cx="4754520" cy="266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4154400" cy="45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773600" y="3357720"/>
            <a:ext cx="3909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4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272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3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3209760" cy="330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29040" y="213840"/>
            <a:ext cx="475776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. Грузовой автомобиль грузоподъемностью полторы тонн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. Злак для выпечки хлеб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3. Добавка к картошке жителей деревни весн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. Ценная бумага, по которой ее владелец ежегодно получает прибыл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. Имя шофе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. Крестьянское поселе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7. Центр административного район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. Основной продукт питания семьи главного героя рассказ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9. Прозвище, данное герою в деревн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8:40:06Z</dcterms:created>
  <dc:creator>Home</dc:creator>
  <dc:description/>
  <dc:language>en-US</dc:language>
  <cp:lastModifiedBy>Home</cp:lastModifiedBy>
  <dcterms:modified xsi:type="dcterms:W3CDTF">2012-03-06T19:49:45Z</dcterms:modified>
  <cp:revision>7</cp:revision>
  <dc:subject/>
  <dc:title>Распутин Валентин Григорьевич</dc:title>
</cp:coreProperties>
</file>