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084-521F-4EDB-9B75-164F145B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971-1576-4367-ABC4-4B2B4CF5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D3E-A3C8-42BF-BE3A-AC5E2188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92A-59B3-4CEA-92F3-74206BEE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241F-2652-4EAB-AC5C-901DD0F7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BE91-09A3-440B-89DC-7436A7CB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E5E6-D8F8-463D-8D8C-41959D9F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E5E2-EFA4-4570-8CE9-212B5B5F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7F43-0119-4956-B2EB-1E69D0BB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8DA8-AF88-47D3-B20E-75A0D58B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1E16-5FCB-4C2F-B6E4-D74A169D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630-B81B-4AEE-AE34-DDEF6C72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4B66-01D3-449D-9A35-95331CCF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74C9-5250-49D1-966E-F1D10A7B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0668-827A-412E-AF19-FFED3863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3385-F731-4EC6-B1B9-48469A81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9DC0-C8FE-4920-9ADE-C64174A8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2D95-ACA2-4922-BCF3-606A2578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C20-3D29-4696-A702-D665C1FC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7A1-3748-429C-A477-78096FB1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FFE-7334-41C5-8C83-D42D0431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0F07-4B5F-4DA5-B999-F36B1C08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35B-A21D-4418-A04B-359B138D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08C0-381E-453B-B16D-2706FA48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5134-C784-4C6A-A838-B849B3EE12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877C-148B-4A3C-83E4-8FBB3C1C5D1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Воспитание личности в школе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4876920" y="419112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Жигалова Е. С.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лассный руководитель 7В класс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удрая стратегия формирования лично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состоит в том, чтобы никогда не ставить перед собой и своими учениками цели быть личностью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BD05584_"/>
          <p:cNvPicPr/>
          <p:nvPr/>
        </p:nvPicPr>
        <p:blipFill>
          <a:blip r:embed="rId1"/>
          <a:stretch/>
        </p:blipFill>
        <p:spPr>
          <a:xfrm>
            <a:off x="6172200" y="3200400"/>
            <a:ext cx="2589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ичность – это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За личностью стоят гены. Тогда может помочь только «генный инженер»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5023080" y="3828960"/>
            <a:ext cx="2764440" cy="2430720"/>
            <a:chOff x="5023080" y="3828960"/>
            <a:chExt cx="2764440" cy="2430720"/>
          </a:xfrm>
        </p:grpSpPr>
        <p:sp>
          <p:nvSpPr>
            <p:cNvPr id="119" name="Puzzle3"/>
            <p:cNvSpPr/>
            <p:nvPr/>
          </p:nvSpPr>
          <p:spPr>
            <a:xfrm rot="375000">
              <a:off x="6417720" y="3883680"/>
              <a:ext cx="1078200" cy="12960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" name="Puzzle2"/>
            <p:cNvSpPr/>
            <p:nvPr/>
          </p:nvSpPr>
          <p:spPr>
            <a:xfrm rot="375000">
              <a:off x="6007320" y="4823280"/>
              <a:ext cx="1720800" cy="118008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" name="Puzzle4"/>
            <p:cNvSpPr/>
            <p:nvPr/>
          </p:nvSpPr>
          <p:spPr>
            <a:xfrm rot="375000">
              <a:off x="5330880" y="4698360"/>
              <a:ext cx="1037520" cy="15091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" name="Puzzle1"/>
            <p:cNvSpPr/>
            <p:nvPr/>
          </p:nvSpPr>
          <p:spPr>
            <a:xfrm rot="375000">
              <a:off x="5066640" y="4165560"/>
              <a:ext cx="1742400" cy="89964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23" name="Picture 11" descr="BD06518_"/>
          <p:cNvPicPr/>
          <p:nvPr/>
        </p:nvPicPr>
        <p:blipFill>
          <a:blip r:embed="rId1"/>
          <a:stretch/>
        </p:blipFill>
        <p:spPr>
          <a:xfrm>
            <a:off x="6248520" y="304920"/>
            <a:ext cx="2514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2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60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ичность – это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2. Личность – кожаный мешок с условными рефлексами. Тогда необходим удачный подбор стимул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9" descr="BD06518_"/>
          <p:cNvPicPr/>
          <p:nvPr/>
        </p:nvPicPr>
        <p:blipFill>
          <a:blip r:embed="rId1"/>
          <a:stretch/>
        </p:blipFill>
        <p:spPr>
          <a:xfrm>
            <a:off x="6400800" y="228600"/>
            <a:ext cx="2424240" cy="1874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PE02661_"/>
          <p:cNvPicPr/>
          <p:nvPr/>
        </p:nvPicPr>
        <p:blipFill>
          <a:blip r:embed="rId2"/>
          <a:stretch/>
        </p:blipFill>
        <p:spPr>
          <a:xfrm>
            <a:off x="4952880" y="3352680"/>
            <a:ext cx="289080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45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ичность – это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666880" y="1980720"/>
            <a:ext cx="6096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3.  Личность – пристрастное активное существо, порождаемое жизнью в обществе, стремящееся к достижению целей и отстаивающее своими делами образ жизн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BD06518_"/>
          <p:cNvPicPr/>
          <p:nvPr/>
        </p:nvPicPr>
        <p:blipFill>
          <a:blip r:embed="rId1"/>
          <a:stretch/>
        </p:blipFill>
        <p:spPr>
          <a:xfrm>
            <a:off x="6400800" y="228600"/>
            <a:ext cx="2424240" cy="1874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BD05584_"/>
          <p:cNvPicPr/>
          <p:nvPr/>
        </p:nvPicPr>
        <p:blipFill>
          <a:blip r:embed="rId2"/>
          <a:stretch/>
        </p:blipFill>
        <p:spPr>
          <a:xfrm>
            <a:off x="304920" y="3400560"/>
            <a:ext cx="2589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95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619760" cy="32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дивидом рождаются. Личностью становятся. Индивидуальность отстаивают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6" descr="EN00349_"/>
          <p:cNvPicPr/>
          <p:nvPr/>
        </p:nvPicPr>
        <p:blipFill>
          <a:blip r:embed="rId1"/>
          <a:stretch/>
        </p:blipFill>
        <p:spPr>
          <a:xfrm>
            <a:off x="609480" y="4343400"/>
            <a:ext cx="3276720" cy="1851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PE01000_"/>
          <p:cNvPicPr/>
          <p:nvPr/>
        </p:nvPicPr>
        <p:blipFill>
          <a:blip r:embed="rId2"/>
          <a:stretch/>
        </p:blipFill>
        <p:spPr>
          <a:xfrm>
            <a:off x="7238880" y="228600"/>
            <a:ext cx="1640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981080" y="304560"/>
            <a:ext cx="6858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од поверхностью кожи искать свое «я» бесполезно. Личность проявляется через вклады в других людей, через те изменения в жизни других людей, которые мы производим своими действиями, поступками и деяниям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.В. и В.А.Петровски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BD06675_"/>
          <p:cNvPicPr/>
          <p:nvPr/>
        </p:nvPicPr>
        <p:blipFill>
          <a:blip r:embed="rId1"/>
          <a:stretch/>
        </p:blipFill>
        <p:spPr>
          <a:xfrm>
            <a:off x="228600" y="228600"/>
            <a:ext cx="1601640" cy="1981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PE01023_"/>
          <p:cNvPicPr/>
          <p:nvPr/>
        </p:nvPicPr>
        <p:blipFill>
          <a:blip r:embed="rId2"/>
          <a:stretch/>
        </p:blipFill>
        <p:spPr>
          <a:xfrm>
            <a:off x="276120" y="3657600"/>
            <a:ext cx="18162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25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65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нципы воспит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Включение ученика в значимую для него деятельность. (А.С.Макаренко «Педагогическая поэма»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PE00997_"/>
          <p:cNvPicPr/>
          <p:nvPr/>
        </p:nvPicPr>
        <p:blipFill>
          <a:blip r:embed="rId1"/>
          <a:stretch/>
        </p:blipFill>
        <p:spPr>
          <a:xfrm>
            <a:off x="914400" y="4724280"/>
            <a:ext cx="23623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нципы воспит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2.  Демонстрация поступка личности для референтной группы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нципы воспит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3. Принцип смены социальной позиции ученика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5" descr="BD06990_"/>
          <p:cNvPicPr/>
          <p:nvPr/>
        </p:nvPicPr>
        <p:blipFill>
          <a:blip r:embed="rId1"/>
          <a:stretch/>
        </p:blipFill>
        <p:spPr>
          <a:xfrm>
            <a:off x="4952880" y="3886200"/>
            <a:ext cx="29512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4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3-12T20:03:0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