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3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4.jpeg" ContentType="image/jpeg"/>
  <Override PartName="/ppt/media/image38.jpeg" ContentType="image/jpeg"/>
  <Override PartName="/ppt/media/image49.png" ContentType="image/png"/>
  <Override PartName="/ppt/media/image51.png" ContentType="image/png"/>
  <Override PartName="/ppt/media/image11.gif" ContentType="image/gif"/>
  <Override PartName="/ppt/media/image48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2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8F70-B22D-4443-AC2E-4A5DDBF192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818D-D4F9-49E2-AE64-D5A7E13F7E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94EAC-048B-4607-B1E5-9474D8A8AEB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96B01-1D41-4197-A9BE-A87C66CA515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E50-56F3-48AD-8933-B092B79D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702-E4F9-49CC-9EEB-7012CD71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7D0-C79B-46F4-B459-219D65AD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9B6-D919-42B9-B870-F930F084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12F-8B07-4DE4-A2F4-6CE7D3F9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BA0-B799-4E35-9EA6-0F439896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97A-C5B9-4E8C-B7E7-A8F8DEF1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EC3-8253-4AA8-A4A5-B8027FD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25E-8CC5-46B1-9F6B-937DD080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ECE-97F2-4710-949F-8475D7B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BF0-D89F-4541-BE8E-D34DC63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D97-B887-4ADB-9CC0-8DF13F46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9902-BA4D-4470-B17F-6D28EB8144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C8CD-72DB-4442-99CB-60119E666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5.jpeg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ремя – что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оворят, оно живо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одит, бегает, лет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на месте не сто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340000" y="692280"/>
            <a:ext cx="3960720" cy="309240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9"/>
          <a:stretch/>
        </p:blipFill>
        <p:spPr>
          <a:xfrm>
            <a:off x="1116000" y="134136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H:\Documents and Settings\Aida\Рабочий стол\НОвая ГРАФИКА сборник\КАРТИНКИ СБОРНИК_ школьные\Копия boworms3.gif"/>
          <p:cNvPicPr/>
          <p:nvPr/>
        </p:nvPicPr>
        <p:blipFill>
          <a:blip r:embed="rId10"/>
          <a:stretch/>
        </p:blipFill>
        <p:spPr>
          <a:xfrm flipH="1">
            <a:off x="6588000" y="3645000"/>
            <a:ext cx="1643040" cy="173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6372360" y="285264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76720" y="0"/>
            <a:ext cx="2158920" cy="911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амостоятель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 flipV="1">
            <a:off x="0" y="2060280"/>
            <a:ext cx="2700360" cy="100800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ССМАТРИ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ЛЛЮСТРА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 flipV="1">
            <a:off x="2050920" y="5589000"/>
            <a:ext cx="2484720" cy="100620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г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 flipV="1">
            <a:off x="4859280" y="5589000"/>
            <a:ext cx="2700360" cy="93492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дел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 flipV="1">
            <a:off x="6588000" y="1989000"/>
            <a:ext cx="2556000" cy="115272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сперимен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3060720" cy="230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5867280" y="3500280"/>
            <a:ext cx="2772000" cy="2119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556000" y="907920"/>
            <a:ext cx="398772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56000" y="404280"/>
            <a:ext cx="324000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За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 flipV="1">
            <a:off x="324000" y="548280"/>
            <a:ext cx="194292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ЭМ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 flipV="1">
            <a:off x="6804000" y="475200"/>
            <a:ext cx="194328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звитие ре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 flipV="1">
            <a:off x="324000" y="5157000"/>
            <a:ext cx="194292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оциальный мир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 flipV="1">
            <a:off x="6948360" y="5012640"/>
            <a:ext cx="194328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Художественн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4969080" cy="410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3492360" y="5153040"/>
            <a:ext cx="17272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648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Средства развития представлений о вре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1557360"/>
            <a:ext cx="2448000" cy="10778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Иллюстр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84280"/>
            <a:ext cx="244764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блем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ситу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1557360"/>
            <a:ext cx="2448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Наблю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3213000"/>
            <a:ext cx="2448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ел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213000"/>
            <a:ext cx="2448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идактические иг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и упражн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4941720"/>
            <a:ext cx="2448000" cy="115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Чтение художестве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извед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068640"/>
            <a:ext cx="244764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ели и детск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календар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013360"/>
            <a:ext cx="2448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иборы д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реме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941720"/>
            <a:ext cx="2448000" cy="115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Рассматривание карт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2637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365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220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5724360" y="2133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551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2781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451640" y="4292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3789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AN00790_"/>
          <p:cNvPicPr/>
          <p:nvPr/>
        </p:nvPicPr>
        <p:blipFill>
          <a:blip r:embed="rId2"/>
          <a:stretch/>
        </p:blipFill>
        <p:spPr>
          <a:xfrm>
            <a:off x="7380360" y="0"/>
            <a:ext cx="131760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2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520720" cy="2365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620640"/>
            <a:ext cx="1820880" cy="2852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1258920" y="3357720"/>
            <a:ext cx="1960560" cy="3168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11280" y="692280"/>
            <a:ext cx="1687320" cy="237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148360" y="3645000"/>
            <a:ext cx="1833480" cy="280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2268360" y="692280"/>
            <a:ext cx="44863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дели частей су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1511280" cy="2421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1511280" cy="2420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763640" y="4221000"/>
            <a:ext cx="1368360" cy="2419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443640" y="1052640"/>
            <a:ext cx="1619280" cy="2420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08720" y="4149720"/>
            <a:ext cx="1224000" cy="2421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7093080" y="4076640"/>
            <a:ext cx="1368360" cy="2421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3419640" y="4149720"/>
            <a:ext cx="1368360" cy="244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9"/>
          <a:stretch/>
        </p:blipFill>
        <p:spPr>
          <a:xfrm>
            <a:off x="2843280" y="1197000"/>
            <a:ext cx="3024000" cy="2736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87280" y="188640"/>
            <a:ext cx="3313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050920" y="549360"/>
            <a:ext cx="45244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дели дней нед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2050920" cy="2374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6084720" y="981000"/>
            <a:ext cx="235584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291040" cy="273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264780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2916360" y="2781360"/>
            <a:ext cx="2809800" cy="2405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2050920" y="549360"/>
            <a:ext cx="44672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дели времен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Формы взаимодействия с родител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768680" y="839520"/>
            <a:ext cx="6035760" cy="5250960"/>
            <a:chOff x="1768680" y="839520"/>
            <a:chExt cx="6035760" cy="5250960"/>
          </a:xfrm>
        </p:grpSpPr>
        <p:sp>
          <p:nvSpPr>
            <p:cNvPr id="186" name="_s39941"/>
            <p:cNvSpPr/>
            <p:nvPr/>
          </p:nvSpPr>
          <p:spPr>
            <a:xfrm>
              <a:off x="3689280" y="1586520"/>
              <a:ext cx="2194560" cy="21344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_s39942"/>
            <p:cNvSpPr/>
            <p:nvPr/>
          </p:nvSpPr>
          <p:spPr>
            <a:xfrm>
              <a:off x="4209480" y="839520"/>
              <a:ext cx="1154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</a:rPr>
                <a:t>Родительские собрания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_s39943"/>
            <p:cNvSpPr/>
            <p:nvPr/>
          </p:nvSpPr>
          <p:spPr>
            <a:xfrm>
              <a:off x="4411800" y="1992960"/>
              <a:ext cx="2194560" cy="21344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_s39944"/>
            <p:cNvSpPr/>
            <p:nvPr/>
          </p:nvSpPr>
          <p:spPr>
            <a:xfrm>
              <a:off x="6649920" y="1885320"/>
              <a:ext cx="1154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</a:rPr>
                <a:t>Консультации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_s39945"/>
            <p:cNvSpPr/>
            <p:nvPr/>
          </p:nvSpPr>
          <p:spPr>
            <a:xfrm>
              <a:off x="4411800" y="2802960"/>
              <a:ext cx="2194560" cy="213480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_s39946"/>
            <p:cNvSpPr/>
            <p:nvPr/>
          </p:nvSpPr>
          <p:spPr>
            <a:xfrm>
              <a:off x="6649920" y="4511520"/>
              <a:ext cx="1154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</a:rPr>
                <a:t>Индивидуальные беседы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_s39947"/>
            <p:cNvSpPr/>
            <p:nvPr/>
          </p:nvSpPr>
          <p:spPr>
            <a:xfrm>
              <a:off x="3689280" y="3209400"/>
              <a:ext cx="2194560" cy="2134440"/>
            </a:xfrm>
            <a:prstGeom prst="ellipse">
              <a:avLst/>
            </a:prstGeom>
            <a:solidFill>
              <a:srgbClr val="eeece1">
                <a:alpha val="50000"/>
              </a:srgbClr>
            </a:solidFill>
            <a:ln w="4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_s39948"/>
            <p:cNvSpPr/>
            <p:nvPr/>
          </p:nvSpPr>
          <p:spPr>
            <a:xfrm>
              <a:off x="4209480" y="5556960"/>
              <a:ext cx="1154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</a:rPr>
                <a:t>Круглый стол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_s39949"/>
            <p:cNvSpPr/>
            <p:nvPr/>
          </p:nvSpPr>
          <p:spPr>
            <a:xfrm>
              <a:off x="2966400" y="2802960"/>
              <a:ext cx="2194560" cy="2134800"/>
            </a:xfrm>
            <a:prstGeom prst="ellipse">
              <a:avLst/>
            </a:prstGeom>
            <a:solidFill>
              <a:srgbClr val="4f81bd">
                <a:alpha val="50000"/>
              </a:srgbClr>
            </a:solidFill>
            <a:ln w="4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_s39950"/>
            <p:cNvSpPr/>
            <p:nvPr/>
          </p:nvSpPr>
          <p:spPr>
            <a:xfrm>
              <a:off x="1768680" y="4511520"/>
              <a:ext cx="1154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</a:rPr>
                <a:t>Досуги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_s39951"/>
            <p:cNvSpPr/>
            <p:nvPr/>
          </p:nvSpPr>
          <p:spPr>
            <a:xfrm>
              <a:off x="2966400" y="1990440"/>
              <a:ext cx="2194560" cy="213480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_s39952"/>
            <p:cNvSpPr/>
            <p:nvPr/>
          </p:nvSpPr>
          <p:spPr>
            <a:xfrm>
              <a:off x="1768680" y="1885320"/>
              <a:ext cx="1154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</a:rPr>
                <a:t>Рекомендации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003640" y="1341360"/>
            <a:ext cx="100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2700360" cy="2233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79640" y="271080"/>
            <a:ext cx="39607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Музей ча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9640" y="1079280"/>
            <a:ext cx="75596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205740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US" sz="2000" spc="-1" strike="noStrike">
                <a:solidFill>
                  <a:srgbClr val="804c19"/>
                </a:solidFill>
                <a:latin typeface="Calibri"/>
              </a:rPr>
              <a:t>Цель: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познакомить детей с разнообразием часов и с  историей их появ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2428920" cy="1895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2428560" cy="1752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2160360" cy="1800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3419640" y="2879640"/>
            <a:ext cx="540828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4360" indent="-682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804c19"/>
                </a:solidFill>
                <a:latin typeface="Times New Roman"/>
                <a:ea typeface="Lucida Sans Unicode"/>
              </a:rPr>
              <a:t>Используется к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4360" indent="-682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глядный материал для изучения видов и истории часов как на занятии, так и в повседневной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84360" indent="-682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озможность посещения музея воспитанниками других групп ДО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55640" y="274680"/>
            <a:ext cx="46083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2448000" cy="237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2663640" cy="3527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248520" y="3213000"/>
            <a:ext cx="2573280" cy="3384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132000" y="2060640"/>
            <a:ext cx="2737080" cy="3960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6084720" y="692280"/>
            <a:ext cx="2411640" cy="24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68E2-C5FB-4FD7-AE95-31DDE2803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2"/>
          <a:stretch/>
        </p:blipFill>
        <p:spPr>
          <a:xfrm>
            <a:off x="6156360" y="404640"/>
            <a:ext cx="2212920" cy="331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4360" y="2781360"/>
            <a:ext cx="2428560" cy="3382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19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, где же твои ножки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ежишь ты по дорожке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тебя увидеть? Как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ответит гном Тик-Та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76640" y="404640"/>
            <a:ext cx="1555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9280" y="178920"/>
            <a:ext cx="468000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Затрудн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48960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еобразие времени как формы проявления реа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сформированность у ребенка механизмов познания време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обенности детского мышления и познавательной деятельности в дошкольном возрас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большой опыт проживания ребенком жизни во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6156360" y="620640"/>
            <a:ext cx="1800360" cy="1741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6516720" y="3068640"/>
            <a:ext cx="180036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1332000" y="4724280"/>
            <a:ext cx="1727280" cy="170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4427640" y="4724280"/>
            <a:ext cx="1655640" cy="16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274160" cy="129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eece1"/>
                </a:solidFill>
                <a:latin typeface="Calibri"/>
              </a:rPr>
              <a:t>Тема: Формирование представлений о времени  у детей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43280" y="2205000"/>
            <a:ext cx="5976720" cy="446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23763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037280" cy="20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Развитие  «чувства времени» у детей дошкольного возраста с использованием разнообразных средств, методов и прием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2681280"/>
            <a:ext cx="2952720" cy="417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27640" y="2637000"/>
            <a:ext cx="2916360" cy="422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4"/>
          <a:stretch/>
        </p:blipFill>
        <p:spPr>
          <a:xfrm>
            <a:off x="2916360" y="3716280"/>
            <a:ext cx="33130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620640"/>
            <a:ext cx="1800360" cy="1019160"/>
          </a:xfrm>
          <a:prstGeom prst="foldedCorner">
            <a:avLst>
              <a:gd name="adj" fmla="val 12500"/>
            </a:avLst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Части су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360360" y="3121200"/>
            <a:ext cx="1800360" cy="1019160"/>
          </a:xfrm>
          <a:prstGeom prst="foldedCorner">
            <a:avLst>
              <a:gd name="adj" fmla="val 12500"/>
            </a:avLst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Ча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4869000"/>
            <a:ext cx="1800360" cy="1019160"/>
          </a:xfrm>
          <a:prstGeom prst="foldedCorner">
            <a:avLst>
              <a:gd name="adj" fmla="val 12500"/>
            </a:avLst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ремена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6227640" y="549360"/>
            <a:ext cx="1800360" cy="1019160"/>
          </a:xfrm>
          <a:prstGeom prst="foldedCorner">
            <a:avLst>
              <a:gd name="adj" fmla="val 12500"/>
            </a:avLst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ни нед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3121200"/>
            <a:ext cx="1800000" cy="1019160"/>
          </a:xfrm>
          <a:prstGeom prst="foldedCorner">
            <a:avLst>
              <a:gd name="adj" fmla="val 12500"/>
            </a:avLst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еся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5013360"/>
            <a:ext cx="1800360" cy="1019160"/>
          </a:xfrm>
          <a:prstGeom prst="foldedCorner">
            <a:avLst>
              <a:gd name="adj" fmla="val 12500"/>
            </a:avLst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ленда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3816360" cy="302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843280" y="692280"/>
            <a:ext cx="280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ремя-эт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04640"/>
            <a:ext cx="7942320" cy="129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Факторы, влияющие на восприятие времени детьми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V="1" rot="10792800">
            <a:off x="394920" y="4651920"/>
            <a:ext cx="2158920" cy="1440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ид 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3284640"/>
            <a:ext cx="223056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Эмоциональ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1844640"/>
            <a:ext cx="2087640" cy="1081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844640"/>
            <a:ext cx="215892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Возра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1433520" cy="143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236000" y="5229360"/>
            <a:ext cx="1528560" cy="139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916360" y="184464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AN00790_"/>
          <p:cNvPicPr/>
          <p:nvPr/>
        </p:nvPicPr>
        <p:blipFill>
          <a:blip r:embed="rId2"/>
          <a:stretch/>
        </p:blipFill>
        <p:spPr>
          <a:xfrm>
            <a:off x="0" y="189000"/>
            <a:ext cx="1317600" cy="1374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2627280" y="333360"/>
            <a:ext cx="352908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мест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5"/>
          <p:cNvSpPr/>
          <p:nvPr/>
        </p:nvSpPr>
        <p:spPr>
          <a:xfrm flipV="1">
            <a:off x="250920" y="1699560"/>
            <a:ext cx="162216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огул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 flipV="1">
            <a:off x="7270920" y="1699560"/>
            <a:ext cx="169380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ссматри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 flipV="1">
            <a:off x="324000" y="3283920"/>
            <a:ext cx="154908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ес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 flipV="1">
            <a:off x="7270920" y="3141000"/>
            <a:ext cx="162216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Чт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 flipV="1">
            <a:off x="250920" y="4652280"/>
            <a:ext cx="162216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г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 flipV="1">
            <a:off x="5003640" y="5733360"/>
            <a:ext cx="187344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звл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 flipV="1">
            <a:off x="7270920" y="4796640"/>
            <a:ext cx="154908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Заучи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 flipV="1">
            <a:off x="2843280" y="5733360"/>
            <a:ext cx="1873080" cy="863640"/>
          </a:xfrm>
          <a:prstGeom prst="rect">
            <a:avLst/>
          </a:prstGeom>
          <a:solidFill>
            <a:srgbClr val="fe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иту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35280" y="1341360"/>
            <a:ext cx="532764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20"/>
          <p:cNvGrpSpPr/>
          <p:nvPr/>
        </p:nvGrpSpPr>
        <p:grpSpPr>
          <a:xfrm>
            <a:off x="250920" y="620640"/>
            <a:ext cx="8713080" cy="1296720"/>
            <a:chOff x="250920" y="620640"/>
            <a:chExt cx="8713080" cy="1296720"/>
          </a:xfrm>
        </p:grpSpPr>
        <p:cxnSp>
          <p:nvCxnSpPr>
            <p:cNvPr id="106" name="_s2970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02280" y="-256320"/>
              <a:ext cx="259920" cy="3050280"/>
            </a:xfrm>
            <a:prstGeom prst="bentConnector3">
              <a:avLst>
                <a:gd name="adj1" fmla="val 127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29701"/>
            <p:cNvCxnSpPr>
              <a:stCxn id="110" idx="0"/>
              <a:endCxn id="108" idx="2"/>
            </p:cNvCxnSpPr>
            <p:nvPr/>
          </p:nvCxnSpPr>
          <p:spPr>
            <a:xfrm flipV="1">
              <a:off x="4607280" y="1139040"/>
              <a:ext cx="3960" cy="25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29702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952360" y="-256320"/>
              <a:ext cx="259920" cy="3050280"/>
            </a:xfrm>
            <a:prstGeom prst="bentConnector3">
              <a:avLst>
                <a:gd name="adj1" fmla="val 127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29703"/>
            <p:cNvSpPr/>
            <p:nvPr/>
          </p:nvSpPr>
          <p:spPr>
            <a:xfrm>
              <a:off x="3300480" y="620640"/>
              <a:ext cx="2613960" cy="518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ff99ff"/>
                  </a:solidFill>
                  <a:latin typeface="Times New Roman"/>
                </a:rPr>
                <a:t>Задачи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_s29704"/>
            <p:cNvSpPr/>
            <p:nvPr/>
          </p:nvSpPr>
          <p:spPr>
            <a:xfrm>
              <a:off x="250920" y="1398600"/>
              <a:ext cx="2613960" cy="518760"/>
            </a:xfrm>
            <a:prstGeom prst="roundRect">
              <a:avLst>
                <a:gd name="adj" fmla="val 16667"/>
              </a:avLst>
            </a:prstGeom>
            <a:solidFill>
              <a:srgbClr val="e1b1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Times New Roman"/>
                </a:rPr>
                <a:t>Обучающ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29705"/>
            <p:cNvSpPr/>
            <p:nvPr/>
          </p:nvSpPr>
          <p:spPr>
            <a:xfrm>
              <a:off x="3300480" y="1398600"/>
              <a:ext cx="2613960" cy="518760"/>
            </a:xfrm>
            <a:prstGeom prst="roundRect">
              <a:avLst>
                <a:gd name="adj" fmla="val 16667"/>
              </a:avLst>
            </a:prstGeom>
            <a:solidFill>
              <a:srgbClr val="e1b1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Times New Roman"/>
                </a:rPr>
                <a:t>Развивающ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_s29706"/>
            <p:cNvSpPr/>
            <p:nvPr/>
          </p:nvSpPr>
          <p:spPr>
            <a:xfrm>
              <a:off x="6350040" y="1398600"/>
              <a:ext cx="2613960" cy="518760"/>
            </a:xfrm>
            <a:prstGeom prst="roundRect">
              <a:avLst>
                <a:gd name="adj" fmla="val 16667"/>
              </a:avLst>
            </a:prstGeom>
            <a:solidFill>
              <a:srgbClr val="e1b1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Times New Roman"/>
                </a:rPr>
                <a:t>Воспитательны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Rectangle 51"/>
          <p:cNvSpPr/>
          <p:nvPr/>
        </p:nvSpPr>
        <p:spPr>
          <a:xfrm>
            <a:off x="324000" y="2421000"/>
            <a:ext cx="2808000" cy="37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52"/>
          <p:cNvSpPr/>
          <p:nvPr/>
        </p:nvSpPr>
        <p:spPr>
          <a:xfrm>
            <a:off x="2085840" y="198900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3"/>
          <p:cNvSpPr/>
          <p:nvPr/>
        </p:nvSpPr>
        <p:spPr>
          <a:xfrm>
            <a:off x="3276720" y="2421000"/>
            <a:ext cx="2736720" cy="37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54"/>
          <p:cNvSpPr/>
          <p:nvPr/>
        </p:nvSpPr>
        <p:spPr>
          <a:xfrm>
            <a:off x="4822920" y="198900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56"/>
          <p:cNvSpPr/>
          <p:nvPr/>
        </p:nvSpPr>
        <p:spPr>
          <a:xfrm>
            <a:off x="6156360" y="2421000"/>
            <a:ext cx="2663640" cy="37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57"/>
          <p:cNvSpPr/>
          <p:nvPr/>
        </p:nvSpPr>
        <p:spPr>
          <a:xfrm>
            <a:off x="7775640" y="1989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637000"/>
            <a:ext cx="2303280" cy="328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. Дать понятие о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реме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2. Учить изменять ритм и темп своих дей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3. Понимать назначение календаря, знать название и последовательность времен года, месяцев, дней нед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2565360"/>
            <a:ext cx="2592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.Развивать логическое мышление, памя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2. Развивать лексическую грамотность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богащать словарный запа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3. Развивать реч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4. Развивать чувство времени, активность, целеустремлен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2565360"/>
            <a:ext cx="2663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. Уметь беречь врем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2. Воспитывать чувство удовлетворение от выполнения заданий на врем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3. Воспитывать дисциплинированность, целеустремлен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AN00790_"/>
          <p:cNvPicPr/>
          <p:nvPr/>
        </p:nvPicPr>
        <p:blipFill>
          <a:blip r:embed="rId2"/>
          <a:stretch/>
        </p:blipFill>
        <p:spPr>
          <a:xfrm>
            <a:off x="395280" y="189000"/>
            <a:ext cx="1317600" cy="137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7:51:08Z</dcterms:created>
  <dc:creator>Owner</dc:creator>
  <dc:description>http://aida.ucoz.ru</dc:description>
  <dc:language>en-US</dc:language>
  <cp:lastModifiedBy>Owner</cp:lastModifiedBy>
  <dcterms:modified xsi:type="dcterms:W3CDTF">2012-02-04T09:30:41Z</dcterms:modified>
  <cp:revision>3</cp:revision>
  <dc:subject/>
  <dc:title>Слайд 1</dc:title>
</cp:coreProperties>
</file>