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B73-193C-4120-9879-32A0BDE3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DF3-BB4B-4271-9382-D049F923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FAA-52DA-46D6-A373-E80BB28D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5A3-90DB-46A4-B660-13B0DBE1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D6D9-99C5-4449-8AEB-8A0047C1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E892-C392-4ED7-A003-9F111842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AF52-B514-4AF0-ACE7-66AA8FB9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D0F7-B500-4DDA-9EFE-771FFE02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DF68-F3BF-4FD1-9CEE-F7849685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F397-B1E7-43C9-B4DD-1D96CE9C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3E88-179D-477F-86F3-90378DC3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2F4-0DF1-4C87-B0D4-0A229825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83D3-4F39-4279-BAA5-90BC4ED3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80FF-6AAA-41EB-AEAD-C4106D7A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81ED-AE88-4F38-A362-EC111B08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9069-03A4-473E-B5BC-DF7B0B42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8A8B-1BC8-43DF-B21F-44E67D61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FBB-2FCE-4E43-9575-A6C71C21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9E8-29B1-459C-AAB3-F4BBF490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292-86D5-44C7-A462-81FF3759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B456-437C-42A0-80D8-70904452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8761-CE52-4A43-990E-C0B330E6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E1A-B3FA-40CC-81CC-73816472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95E-207C-4034-BFFA-C77D610B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BCE5-0661-49E9-81EA-A1EA15A3A0A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234E-0E1B-41C8-A391-2B5228BC64F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-79200"/>
            <a:ext cx="7619760" cy="69372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8120" y="563400"/>
            <a:ext cx="713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Ах, школа, школа, где же ты?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Где наши детские мечты?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2341440"/>
            <a:ext cx="7619760" cy="40640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673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Дорогая НАЙЛЯ ХАЛЯФОВНА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Вы были мамой ласковой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С добром, теплом и светом.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Нам было в классе радостно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Как позабыть про это?!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14400" y="2743200"/>
            <a:ext cx="6248520" cy="40719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 rot="21260400">
            <a:off x="380880" y="1066680"/>
            <a:ext cx="8382240" cy="43452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7560" y="304560"/>
            <a:ext cx="647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Мы едем, едем, едем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На праздник в детский са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400800" cy="45007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21042000">
            <a:off x="228600" y="685440"/>
            <a:ext cx="5410080" cy="3608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465600">
            <a:off x="3429000" y="3047760"/>
            <a:ext cx="5334120" cy="34272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00880" y="5103360"/>
            <a:ext cx="5845320" cy="1557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Спасибо Вам за то, что нас люби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Хотя и строги были к нам подча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За то, что вы нас мыслить науч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За все, за все, что сделали для нас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095880" cy="433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1320" y="3048120"/>
            <a:ext cx="2819160" cy="2093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3505320" cy="2512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14400" y="0"/>
            <a:ext cx="159228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334120" y="-380880"/>
            <a:ext cx="2981160" cy="19206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060800" y="51840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слете одаренных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267080" cy="2481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5753160" cy="43146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85720" y="227880"/>
            <a:ext cx="70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все были пионерами когда-т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238880" cy="5121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3400" y="60840"/>
            <a:ext cx="228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Ю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асател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4287" t="59784" r="9524" b="0"/>
          <a:stretch/>
        </p:blipFill>
        <p:spPr>
          <a:xfrm>
            <a:off x="2590920" y="-6480"/>
            <a:ext cx="6095880" cy="4102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0" t="0" r="0" b="41100"/>
          <a:stretch/>
        </p:blipFill>
        <p:spPr>
          <a:xfrm>
            <a:off x="228600" y="3254400"/>
            <a:ext cx="4800600" cy="36036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45756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У правил дорожного движ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НЕТ КАНИКУЛ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Соблюдай ПДД!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bright="-24000"/>
          </a:blip>
          <a:srcRect l="5520" t="27404" r="59319" b="4440"/>
          <a:stretch/>
        </p:blipFill>
        <p:spPr>
          <a:xfrm>
            <a:off x="380880" y="3048120"/>
            <a:ext cx="5105520" cy="3547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>
            <a:lum bright="-12000"/>
          </a:blip>
          <a:srcRect l="77801" t="25889" r="0" b="36152"/>
          <a:stretch/>
        </p:blipFill>
        <p:spPr>
          <a:xfrm>
            <a:off x="5029200" y="4267080"/>
            <a:ext cx="3733920" cy="22910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991240" y="303840"/>
            <a:ext cx="262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природ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373040"/>
            <a:ext cx="9144000" cy="5484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45906" r="0" b="0"/>
          <a:stretch/>
        </p:blipFill>
        <p:spPr>
          <a:xfrm>
            <a:off x="0" y="0"/>
            <a:ext cx="4648320" cy="18860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343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0" t="0" r="0" b="54102"/>
          <a:stretch/>
        </p:blipFill>
        <p:spPr>
          <a:xfrm>
            <a:off x="0" y="0"/>
            <a:ext cx="4648320" cy="1600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267080" y="0"/>
            <a:ext cx="41720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первый раз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первый класс,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было 9 лет тому назад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2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06:28:40Z</dcterms:created>
  <dc:creator>Миля</dc:creator>
  <dc:description/>
  <dc:language>en-US</dc:language>
  <cp:lastModifiedBy>user</cp:lastModifiedBy>
  <dcterms:modified xsi:type="dcterms:W3CDTF">2011-11-02T17:35:1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