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coin.wav" ContentType="audio/x-wav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BBA3-2C4C-40E4-B329-B97BE39A8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BF11-C1F7-4F0B-84DF-B56F86E1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D96B-2067-4CDC-A706-17305F57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7A80-2B2F-4BBE-BB42-0D8C79AED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3864-6BF8-4D7B-ACC5-EDF950B7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DB25-A887-4A9E-A2EE-A08FAD65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9D10-7D2E-45C9-B007-321AC281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5C46-70C9-4643-8E42-F0A223FD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2550-ACA1-4FA3-B4F3-4B54FEC0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DFDC-992D-4347-8173-4D2C1E24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9AD4-BB5B-4C0E-ACD1-3D1A2482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15D3-EBEE-4420-984E-915BDAD9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1BC7-867D-4ECE-A3D8-6898A51D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5988-44A1-4C63-ABE3-1B338484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0948-EC86-4C21-A4DE-EA500ABD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BAD8-CD39-425A-9BAB-64EAFEBD5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2543-A305-4FBE-84AE-557AFB9DA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A69D-C339-4B6D-8B3C-0B1AF80E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F30C-5261-4EF9-9501-FCDE8564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9173-A938-42F1-8D68-B8D24D5C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94CE-D83A-4D31-AC3F-C39A464D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05E9-7F6E-40C9-871E-883E9447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2D2F-8293-49EE-947A-E8293A61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D618-244C-4509-BFD5-A2BEEB84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9966ff"/>
              </a:gs>
              <a:gs pos="100000">
                <a:srgbClr val="865a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8256d8"/>
                  </a:gs>
                  <a:gs pos="100000">
                    <a:srgbClr val="9966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256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7d54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9f6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d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6EDA-3F19-4CEE-9A14-87E0554497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8256d8"/>
                  </a:gs>
                  <a:gs pos="100000">
                    <a:srgbClr val="9966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256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7d54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9f6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d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B58D-A2BE-480E-81E0-C8C6A3525CD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43040" y="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d9d9ff"/>
                </a:solidFill>
                <a:latin typeface="Arial"/>
              </a:rPr>
              <a:t>Певчие Жаворонки</a:t>
            </a:r>
            <a:endParaRPr b="0" lang="en-US" sz="54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1332000" y="2781360"/>
            <a:ext cx="6481800" cy="33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ccff"/>
                </a:solidFill>
                <a:latin typeface="Arial"/>
              </a:rPr>
              <a:t>Жаворонок белокрылый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928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Жаворонок белокрылый - редкий вид. Крупнее полевого жаворонка. Окраска оперения отдаленно похожа на «жавороночью», но бледнее.  По заднему краю крыла — довольно широкая белая полоса, зрительно сужающая крыло в полете. Самки мельче и бледнее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2843280" y="907920"/>
            <a:ext cx="3240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2556000" y="0"/>
            <a:ext cx="4032000" cy="256536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ccff"/>
                </a:solidFill>
                <a:latin typeface="Arial"/>
              </a:rPr>
              <a:t>Серый жаворонок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Серый жаворонок распространен в степных зонах от Украины до Забайкалья. Кормятся птицы семенами различных степных трав. Гнезда устраивают на земле под сухой травой. В конце мая появляется кладка из 4-5 серовато-белых яиц. Когда птенцы начинают летать, они объединяются в стайки и широко кочуют по степи. Кормятся  семенами  и различными насекомыми. Период осенней миграции растянут на весь сентябрь. Зимуют в основном недалеко за пределами нашей стра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ccff"/>
                </a:solidFill>
                <a:latin typeface="Arial"/>
              </a:rPr>
              <a:t>Солончаковый жаворонок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летный гнездящийся вид. Гнездится по берегам соленых озер. Самцы активно поют. Гнезда жаворонки строят из сухих злаков и солянок, выстилая ими ямку, выкопанную в грунте. В кладке 4-5 белых яиц с мелкими коричневыми точками. Кладку насиживают самка и самец 12 дней. Птенцы покидают гнездо через 9 дней после вылупления. Первые летные птицы встречаются в конце июня - начале августа. Жаворонок питается насекомыми, семенами злаков, сорных растений, солянок. В августе птицы образуют стаи. Отлет начинается в сентябре, отдельные группы птиц задерживаются до ноября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5932440" y="1413000"/>
            <a:ext cx="3211560" cy="30258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ccff"/>
                </a:solidFill>
                <a:latin typeface="Arial"/>
              </a:rPr>
              <a:t>Степной жаворонок</a:t>
            </a: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6337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упный (со скворца) короткохвостый жаворонок с длинным массивным клювом и широкими крыльями. Отличается сильным сутуловатым туловищем, необыкновенно большим и толстым клювом, длинными сильными ногами с относительно длинными пальцами, вооруженными сзади очень большим когтем. Длина тела достигает 21 см, размах крыльев 44, длина крыла 13, а хвоста 7 см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Характерным отличием степных от прочих жаворонков является их походка. Во время ходьбы они держатся чрезвычайно прямо. Степные жаворонки замечательны также своим превосходным пением. Их песня отличается прежде всего разнообразием звуков, а также большой полнотой и силой исполнени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СПАСИБО ЗА ВНИМАНИЕ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Презентацию приготовил  Зинатов Рахим.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7:13:36Z</dcterms:created>
  <dc:creator>Admin</dc:creator>
  <dc:description/>
  <dc:language>en-US</dc:language>
  <cp:lastModifiedBy>Учитель</cp:lastModifiedBy>
  <dcterms:modified xsi:type="dcterms:W3CDTF">2010-03-24T05:46:24Z</dcterms:modified>
  <cp:revision>5</cp:revision>
  <dc:subject/>
  <dc:title>Жаворонок</dc:title>
</cp:coreProperties>
</file>