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7B9E-3F5B-4A08-8E09-C345741B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2995-FBDA-459A-96D6-E5FFC941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0E36-C1B3-4E0D-9993-F2DEEDCC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1934-0162-449F-B38C-0A0D114C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6E85-2F9B-40B2-8A94-3470283C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327F-DCB6-4DCC-9C79-1F83F3E2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E711-EE13-441B-B6B2-42919613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7AAA-737D-4390-9E67-1EA5B2FD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67FA-EABA-4EC3-924A-A1BB385B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CD50-A589-4508-9F3B-25115696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6A8F-FF1E-44FA-A4A1-13CD2B16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996A-5DC6-470B-9A0B-7C8CD0B0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7DC1-12CB-4B9A-870D-7B33E0F2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1410-7594-4A96-AEBD-52D522B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9DAA-383F-49B4-8FF9-1FAE3DAF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981C-AD7B-4913-A5BD-F5293789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349A-3892-44B6-8B0B-609EA417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29D4-02DD-4C00-ACB7-AE43DB59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537E-AB9E-4045-8F21-6A9C2091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45E5-B61A-4B62-A507-7D1E065F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B269-4188-449C-9265-88B21840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FFB9-18B4-49CD-92E8-FCEF3DD5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9CC9-FAA5-4F44-81EA-BC68AD89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544EA-623F-4D7B-912E-2DD3CEE6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3BDC-792A-4DFF-89C7-2FEDA31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46E7-1388-4839-A562-18C2478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E538-1081-4A12-862A-1E015448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5D08-D46E-4093-AC61-D745C57E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DB73-EBAC-4CBF-9D36-9062ED29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CF73-8749-4E08-9AFB-F8E9A1BD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3EC7-CFB7-42B1-9CA0-8AECD572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2D23-790E-413E-A45D-966D2C38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DD55-15A2-467B-BD1F-A84661B0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17BB-8DF3-4438-B457-6F55E50D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93C4-22F2-4CF3-A395-C778D31C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5543-53C7-45CE-BDBE-0EF00DDA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96EE-2EAC-47BA-B4B4-6C070544EB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92E0-E855-4342-B22D-9AA344B8D1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0B97-1E74-40A2-A490-04CBE5462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288360" cy="6958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99"/>
                </a:solidFill>
                <a:latin typeface="Garamond"/>
              </a:rPr>
              <a:t>Зима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Garamond"/>
              </a:rPr>
              <a:t>Декабр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Garamond"/>
              </a:rPr>
              <a:t>Январ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Garamond"/>
              </a:rPr>
              <a:t>Февраль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857320" cy="39722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доровье зим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 не простудитьс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 узнать, что заболе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 делать , если заболе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авила охраны здоровь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 ходи с мокрыми ног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девайся по пого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Если простудился, постарайся не заразить друз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ржись как можно дальше от того, кто кашляет или чиха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изнаки болез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сокая темпе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смор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ше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лабость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оловная бо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оль в горл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к быстро вылечитьс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4365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Принимай лекарства, назначенные врач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Пей больше в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Ешь фрук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Лежи в постели, пока не снизится темпе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06000" cy="6980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66"/>
                </a:solidFill>
                <a:latin typeface="Garamond"/>
              </a:rPr>
              <a:t>Снежные загад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Какой формы могут быть снежинк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Почему зимой идет снег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Какая погода зимо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Как меняется день и ноч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6430680" cy="6431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</a:t>
            </a: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Труд людей зим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81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Животные зимой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19640" y="400536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3051360" cy="1906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547640" y="4221000"/>
            <a:ext cx="2303640" cy="1536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900000" y="1773360"/>
            <a:ext cx="28576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3333600" cy="35146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гадочные сле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227640" y="3745080"/>
            <a:ext cx="2440080" cy="3112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1917720" cy="255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916360" y="4292640"/>
            <a:ext cx="2849400" cy="2136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68360" y="1413000"/>
            <a:ext cx="35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тицы зимой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27640" y="1989000"/>
            <a:ext cx="2508480" cy="3508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1709640" cy="2533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394000" cy="266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3203640" y="4365720"/>
            <a:ext cx="28605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203640" cy="2401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ревья зимой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323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ревья  зим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356000" y="2421000"/>
            <a:ext cx="4308480" cy="323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0160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торожно на льду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1284120"/>
            <a:ext cx="686268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8:10:59Z</dcterms:created>
  <dc:creator>WiZaRd</dc:creator>
  <dc:description/>
  <dc:language>en-US</dc:language>
  <cp:lastModifiedBy>WiZaRd</cp:lastModifiedBy>
  <dcterms:modified xsi:type="dcterms:W3CDTF">2012-01-09T15:11:41Z</dcterms:modified>
  <cp:revision>4</cp:revision>
  <dc:subject/>
  <dc:title>Зима </dc:title>
</cp:coreProperties>
</file>