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EC5-87EF-4FDE-8C93-9A0B7EF8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D0F-8DE8-471C-BF34-5D3FF6B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D5B-F3E0-41CA-BB56-3CB0A8E3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1A7-631B-4158-BB55-2694FC54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48F-D65D-47B2-AED0-3F1AB539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EE0-EB4F-4E79-8A0C-3F94DDCC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776-05B8-40C4-8ECE-09E7AF5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CC7-5398-4468-8AE0-379FDEF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881-61B3-4787-A3EB-9B8EAB1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4E0-B202-4555-BB4F-49634CE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8CB-B178-438F-808F-3ED8007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070-2AA9-4556-8EDD-31574B8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72D7-55A3-4786-97CF-A6E50E6C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gradFill rotWithShape="0">
            <a:gsLst>
              <a:gs pos="0">
                <a:srgbClr val="6a7676"/>
              </a:gs>
              <a:gs pos="50000">
                <a:srgbClr val="e5feff"/>
              </a:gs>
              <a:gs pos="100000">
                <a:srgbClr val="6a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1"/>
          <a:srcRect l="10472" t="44172" r="47966" b="10731"/>
          <a:stretch/>
        </p:blipFill>
        <p:spPr>
          <a:xfrm>
            <a:off x="324000" y="333360"/>
            <a:ext cx="3889080" cy="3059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95280" y="3213000"/>
            <a:ext cx="504036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333399"/>
                </a:solidFill>
                <a:latin typeface="Arial"/>
              </a:rPr>
              <a:t>Звичайні дро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4838760" y="515772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Іллінської ЗОШ І-ІІІ ступен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Цой І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Рисунок1"/>
          <p:cNvPicPr/>
          <p:nvPr/>
        </p:nvPicPr>
        <p:blipFill>
          <a:blip r:embed="rId2"/>
          <a:stretch/>
        </p:blipFill>
        <p:spPr>
          <a:xfrm>
            <a:off x="4716360" y="404640"/>
            <a:ext cx="3816360" cy="264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Рисунок2"/>
          <p:cNvPicPr/>
          <p:nvPr/>
        </p:nvPicPr>
        <p:blipFill>
          <a:blip r:embed="rId3"/>
          <a:stretch/>
        </p:blipFill>
        <p:spPr>
          <a:xfrm>
            <a:off x="395280" y="3716280"/>
            <a:ext cx="3889440" cy="257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372"/>
          <p:cNvPicPr/>
          <p:nvPr/>
        </p:nvPicPr>
        <p:blipFill>
          <a:blip r:embed="rId1"/>
          <a:srcRect l="718" t="0" r="0" b="0"/>
          <a:stretch/>
        </p:blipFill>
        <p:spPr>
          <a:xfrm>
            <a:off x="0" y="404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24360" y="549360"/>
            <a:ext cx="345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omic Sans MS"/>
              </a:rPr>
              <a:t>Накреслити відрізок довжиною 6 см. Поділити його на три рівних частини. Виділіть одну з цих частин іншим коль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omic Sans MS"/>
              </a:rPr>
              <a:t>Накресліть прямокутник, довжина якого 12 см і ширина 3 см. Поділіть його на чотири рівних  частини. Зафарбуйте три з цих квадра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omic Sans MS"/>
              </a:rPr>
              <a:t>Накресліть квадрат зі стороною 8 см. Поділіть його на 4 рівних частини. Зафарбуйте дві з цих частин. Чи правильно, що зафарбовано половину квадр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3265200" cy="326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981000"/>
            <a:ext cx="3454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nastasiaScript"/>
              </a:rPr>
              <a:t>Колективне розв'язування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6195960"/>
            <a:ext cx="2808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7" descr="Рисунок5"/>
          <p:cNvPicPr/>
          <p:nvPr/>
        </p:nvPicPr>
        <p:blipFill>
          <a:blip r:embed="rId1"/>
          <a:stretch/>
        </p:blipFill>
        <p:spPr>
          <a:xfrm>
            <a:off x="3059280" y="3573360"/>
            <a:ext cx="1736640" cy="252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вятковий пиріг розрізали на 10 рівних част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427640" y="170028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 : 10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6227640" y="2997360"/>
                <a:ext cx="1449360" cy="28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6" name="Picture 24" descr="Рисунок3"/>
          <p:cNvPicPr/>
          <p:nvPr/>
        </p:nvPicPr>
        <p:blipFill>
          <a:blip r:embed="rId2"/>
          <a:stretch/>
        </p:blipFill>
        <p:spPr>
          <a:xfrm>
            <a:off x="1116000" y="907920"/>
            <a:ext cx="2809800" cy="254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Рисунок4"/>
          <p:cNvPicPr/>
          <p:nvPr/>
        </p:nvPicPr>
        <p:blipFill>
          <a:blip r:embed="rId3"/>
          <a:stretch/>
        </p:blipFill>
        <p:spPr>
          <a:xfrm>
            <a:off x="179280" y="3429000"/>
            <a:ext cx="2766960" cy="3067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d175"/>
          </a:solidFill>
          <a:ln w="9360">
            <a:solidFill>
              <a:srgbClr val="ffd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308640"/>
            <a:ext cx="28083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ocument"/>
          <p:cNvSpPr/>
          <p:nvPr/>
        </p:nvSpPr>
        <p:spPr>
          <a:xfrm>
            <a:off x="468360" y="3789360"/>
            <a:ext cx="8424720" cy="2560680"/>
          </a:xfrm>
          <a:prstGeom prst="pi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221000"/>
            <a:ext cx="8291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66"/>
                </a:solidFill>
                <a:latin typeface="Arial"/>
              </a:rPr>
              <a:t>Знаменни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робу показує на скільки рівних частин поділили щось ціле, а </a:t>
            </a:r>
            <a:r>
              <a:rPr b="0" i="1" lang="uk-UA" sz="3200" spc="-1" strike="noStrike">
                <a:solidFill>
                  <a:srgbClr val="ff0066"/>
                </a:solidFill>
                <a:latin typeface="Arial"/>
              </a:rPr>
              <a:t>чисель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скільки таких частин вз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7451640" y="333360"/>
                <a:ext cx="8715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264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5429160" y="333360"/>
                <a:ext cx="8715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3"/>
          <p:cNvSpPr/>
          <p:nvPr/>
        </p:nvSpPr>
        <p:spPr>
          <a:xfrm>
            <a:off x="6712920" y="679320"/>
            <a:ext cx="3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039840" y="2192400"/>
            <a:ext cx="30106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ff0066"/>
                </a:solidFill>
                <a:uFillTx/>
                <a:latin typeface="Arial"/>
              </a:rPr>
              <a:t>Чис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Знаме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6294600"/>
            <a:ext cx="28083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6"/>
          <p:cNvSpPr/>
          <p:nvPr/>
        </p:nvSpPr>
        <p:spPr>
          <a:xfrm>
            <a:off x="250920" y="1413000"/>
            <a:ext cx="8497800" cy="482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Приклади звичайних дроб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39640" y="836640"/>
                <a:ext cx="1197000" cy="30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5724360" y="1125360"/>
                <a:ext cx="908280" cy="255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059280" y="3933720"/>
                <a:ext cx="99216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6516720" y="4653000"/>
                <a:ext cx="93168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4500720" y="3573360"/>
                <a:ext cx="11350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7667640" y="1916280"/>
                <a:ext cx="1219320" cy="31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684360" y="4365720"/>
                <a:ext cx="10681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3059280" y="1341360"/>
                <a:ext cx="114300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732720" y="6294600"/>
            <a:ext cx="280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372"/>
          <p:cNvPicPr/>
          <p:nvPr/>
        </p:nvPicPr>
        <p:blipFill>
          <a:blip r:embed="rId1"/>
          <a:srcRect l="718" t="0" r="0" b="0"/>
          <a:stretch/>
        </p:blipFill>
        <p:spPr>
          <a:xfrm>
            <a:off x="0" y="404640"/>
            <a:ext cx="9325080" cy="578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7640" y="118980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Н. хто? що?  п’ять шос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Р. кого? чого? п’яти шос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Д. кому? чому? п’яти шос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З. кого? що?  п’ять шос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О. ким? чим? п’ятьма шост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. (на, в) кому? чому?    на п’яти шос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341360"/>
            <a:ext cx="345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nastasiaScript"/>
              </a:rPr>
              <a:t>Відмінюємо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3503520" cy="350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76360" y="5157720"/>
                <a:ext cx="366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580000" y="6093000"/>
            <a:ext cx="28083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372"/>
          <p:cNvPicPr/>
          <p:nvPr/>
        </p:nvPicPr>
        <p:blipFill>
          <a:blip r:embed="rId1"/>
          <a:srcRect l="33984" t="0" r="0" b="0"/>
          <a:stretch/>
        </p:blipFill>
        <p:spPr>
          <a:xfrm>
            <a:off x="0" y="0"/>
            <a:ext cx="5651640" cy="407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-14-1133299678"/>
          <p:cNvPicPr/>
          <p:nvPr/>
        </p:nvPicPr>
        <p:blipFill>
          <a:blip r:embed="rId2"/>
          <a:srcRect l="16913" t="7465" r="13787" b="4339"/>
          <a:stretch/>
        </p:blipFill>
        <p:spPr>
          <a:xfrm rot="21028200">
            <a:off x="5868720" y="3758760"/>
            <a:ext cx="327024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ost-14-1133299678"/>
          <p:cNvPicPr/>
          <p:nvPr/>
        </p:nvPicPr>
        <p:blipFill>
          <a:blip r:embed="rId3"/>
          <a:srcRect l="16913" t="7465" r="13787" b="4339"/>
          <a:stretch/>
        </p:blipFill>
        <p:spPr>
          <a:xfrm rot="424200">
            <a:off x="5843520" y="1263600"/>
            <a:ext cx="2886120" cy="230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ost-14-1133299678"/>
          <p:cNvPicPr/>
          <p:nvPr/>
        </p:nvPicPr>
        <p:blipFill>
          <a:blip r:embed="rId4"/>
          <a:srcRect l="16913" t="7465" r="13787" b="4339"/>
          <a:stretch/>
        </p:blipFill>
        <p:spPr>
          <a:xfrm rot="21186600">
            <a:off x="177840" y="3699000"/>
            <a:ext cx="2592360" cy="309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post-14-1133299678"/>
          <p:cNvPicPr/>
          <p:nvPr/>
        </p:nvPicPr>
        <p:blipFill>
          <a:blip r:embed="rId5"/>
          <a:srcRect l="16913" t="7465" r="13787" b="4339"/>
          <a:stretch/>
        </p:blipFill>
        <p:spPr>
          <a:xfrm rot="232200">
            <a:off x="2916000" y="3963600"/>
            <a:ext cx="3238200" cy="183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4"/>
          <p:cNvSpPr/>
          <p:nvPr/>
        </p:nvSpPr>
        <p:spPr>
          <a:xfrm>
            <a:off x="4572000" y="458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02840" y="619560"/>
            <a:ext cx="262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1. Що 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називає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дробом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361800">
            <a:off x="5853240" y="1242000"/>
            <a:ext cx="280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2.  З чого складається дріб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1024000">
            <a:off x="152640" y="4141440"/>
            <a:ext cx="270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3. 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означ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чисельник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">
            <a:off x="2926080" y="4292640"/>
            <a:ext cx="326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4. Що означа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знаменник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220200">
            <a:off x="6007320" y="4292640"/>
            <a:ext cx="316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5.Що означа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дроб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356000" y="692280"/>
            <a:ext cx="1130400" cy="1130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6294600"/>
            <a:ext cx="28083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чи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тель мате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ллінської ЗОШ І-ІІІ ступе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Цой І.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9 -0.09276 C 0.36007 -0.09276 0.46164 0.01202 0.46164 0.14318 C 0.48629 0.24705 0.09514 0.22623 0.05591 0.3294 C 0.0165 0.43257 0.32257 0.69512 0.22657 0.76197 C 0.10174 0.76197 -0.52048 0.86028 -0.52048 0.73074 C -0.62517 0.69003 -0.55763 0.36086 -0.49704 0.29493 C -0.45954 0.14897 -0.38072 -0.09091 -0.29479 -0.1455 C -0.20868 -0.2001 -0.06875 -0.04141 0.01928 -0.03262 C 0.10764 -0.02383 0.19011 -0.08027 0.2349 -0.09276 Z">
                                      <p:cBhvr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34:09Z</dcterms:created>
  <dc:creator>Admin</dc:creator>
  <dc:description/>
  <dc:language>en-US</dc:language>
  <cp:lastModifiedBy>User</cp:lastModifiedBy>
  <dcterms:modified xsi:type="dcterms:W3CDTF">2012-03-12T19:42:01Z</dcterms:modified>
  <cp:revision>25</cp:revision>
  <dc:subject/>
  <dc:title>Звичайні дроби</dc:title>
</cp:coreProperties>
</file>