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2BE-4072-48EE-A3B0-56DFA6D6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4A1-49DD-4882-ACD3-836B9F48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E82-5AAF-47CF-8891-F7480845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638-0B31-4C85-A28F-6B71A642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3905-5BCC-43DA-8989-C041A7E7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BD6D-3302-4951-981A-8049928B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8AA8-ED04-495C-A47C-C4D877F7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E6DF-1D19-46F5-8C99-3426BE41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F46F-F136-4AEC-986C-DC6E76E8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4A90-8173-4DEE-BC67-FAAFC457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30E9-5621-4662-9BBB-1365735F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A90-3621-4BB0-A0CA-72737F43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9AC7-37FE-4F49-9B4A-3F3E059B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AD32-C3ED-4C9E-8541-3522443B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ABDA-4E44-4FA6-AF77-66E2F236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1F6B-4E75-4413-B73D-CCC3D2E9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4CF3-783C-45FD-A2AD-6AF8CD6B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E7E66-CBA6-4DF7-AE42-BFDEAC53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8904F-CB29-4214-992B-4F8ACA47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66D44-16AF-459E-8B67-47871A98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50766-9310-403E-A7FB-DB6538E6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12D43-5F11-4B98-9171-109D17BB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D67-959D-45CA-A28F-26BC22A6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6E28B-AE18-4F9B-9264-55B198F1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269DC-FAFE-4658-A7D5-0ECE6536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B283F-61BD-451C-82E8-1021BD83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55045-CB3F-4784-B544-7B2EF125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40EAB-6876-4076-BC4F-FF0FFDBA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74A23-A681-4D09-B1C6-E7FA7A4A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5B9E-EE8D-41FF-8088-B37D7A27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79616-45D0-46D5-82B8-373DE534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00BA7-E005-4B8E-8512-156BF5DD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12368-72CE-4F21-ADE0-449CAEEC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B11-886A-42A8-BCD9-14E4CD46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9F59F-50A4-4EC7-9DFE-FDB80647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AA071-170D-4DA8-9F48-18814F51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0AA70-609B-40B9-BC40-9C5F0C5B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DC764-CA96-490F-B919-883F8A86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CF8B2-EB2B-4A5F-BD05-7D8150DC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7838F-22E7-45BE-AE15-C41CE305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1EEB4-DE45-4A5D-A2D5-40100F08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1648-3FA6-4119-AC29-70E90AC4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37169-6A91-44E7-AD33-24C5741B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93822-5FB0-4179-838E-91EA991A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CA3-958A-4908-BD7C-6FC74203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BC7FA-CD1F-4B3A-A1F4-5CB58BF3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AC32D-82BE-4824-8962-8CE42095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BD43A-D953-4B47-8B7A-4D12953D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04CEF-007C-4165-B5EB-DC0F41F8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81F1C-A300-431E-B071-4D69BE1C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74B20-E70E-4732-A5EB-78F74A5F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B2E7C-2DB1-4C04-BA0A-BA14724C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541F6-88CD-42A3-BBDA-1E984103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EB998-26DE-42FC-9F19-163E2EBB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B8FF5-1A42-4685-85DF-0CD6FEE0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DE7-0617-4DAE-B267-915F4E2D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8EED0-35FC-4C84-AC89-A7C58F71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374-CE65-4468-A311-4ABD230A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DE0-8816-4FEF-BEC2-5AEE4794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98F-E71A-4B98-815A-7D496FF0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D1F8-262A-4124-88B3-5DE05350397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6737-6C26-4E82-AA3F-276CE3CC02F5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DB4C-2209-434A-8D73-972218A4DA3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5848-C166-4A20-B198-479578B04489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1CC6-80E3-4CD8-9B43-812E857D852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963720" y="1401840"/>
            <a:ext cx="8223120" cy="1450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i?id=11499307-11-24"/>
          <p:cNvPicPr/>
          <p:nvPr/>
        </p:nvPicPr>
        <p:blipFill>
          <a:blip r:embed="rId2"/>
          <a:stretch/>
        </p:blipFill>
        <p:spPr>
          <a:xfrm>
            <a:off x="611280" y="3213000"/>
            <a:ext cx="2950920" cy="223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i?id=152130818-17-24"/>
          <p:cNvPicPr/>
          <p:nvPr/>
        </p:nvPicPr>
        <p:blipFill>
          <a:blip r:embed="rId3"/>
          <a:stretch/>
        </p:blipFill>
        <p:spPr>
          <a:xfrm>
            <a:off x="5580000" y="3284640"/>
            <a:ext cx="3276720" cy="2228760"/>
          </a:xfrm>
          <a:prstGeom prst="rect">
            <a:avLst/>
          </a:prstGeom>
          <a:ln w="0">
            <a:noFill/>
          </a:ln>
        </p:spPr>
      </p:pic>
      <p:sp>
        <p:nvSpPr>
          <p:cNvPr id="223" name="WordArt 10"/>
          <p:cNvSpPr txBox="1"/>
          <p:nvPr/>
        </p:nvSpPr>
        <p:spPr>
          <a:xfrm>
            <a:off x="3635280" y="3141720"/>
            <a:ext cx="1727280" cy="32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7255080" cy="1243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755640" y="220500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желание 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148360" y="2205000"/>
            <a:ext cx="36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абый контроль со стороны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i?id=27788136-22-24"/>
          <p:cNvPicPr/>
          <p:nvPr/>
        </p:nvPicPr>
        <p:blipFill>
          <a:blip r:embed="rId2"/>
          <a:stretch/>
        </p:blipFill>
        <p:spPr>
          <a:xfrm>
            <a:off x="6084720" y="3645000"/>
            <a:ext cx="2087640" cy="1890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i?id=134013385-01-24"/>
          <p:cNvPicPr/>
          <p:nvPr/>
        </p:nvPicPr>
        <p:blipFill>
          <a:blip r:embed="rId3"/>
          <a:stretch/>
        </p:blipFill>
        <p:spPr>
          <a:xfrm>
            <a:off x="250920" y="3357720"/>
            <a:ext cx="2950920" cy="2205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i?id=185178327-11-24"/>
          <p:cNvPicPr/>
          <p:nvPr/>
        </p:nvPicPr>
        <p:blipFill>
          <a:blip r:embed="rId4"/>
          <a:stretch/>
        </p:blipFill>
        <p:spPr>
          <a:xfrm>
            <a:off x="2916360" y="4767120"/>
            <a:ext cx="2447640" cy="2090880"/>
          </a:xfrm>
          <a:prstGeom prst="rect">
            <a:avLst/>
          </a:prstGeom>
          <a:ln w="0">
            <a:noFill/>
          </a:ln>
        </p:spPr>
      </p:pic>
      <p:sp>
        <p:nvSpPr>
          <p:cNvPr id="230" name="Line 13"/>
          <p:cNvSpPr/>
          <p:nvPr/>
        </p:nvSpPr>
        <p:spPr>
          <a:xfrm flipH="1">
            <a:off x="2842920" y="1700280"/>
            <a:ext cx="115236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5292720" y="1700280"/>
            <a:ext cx="158436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633240" y="219240"/>
            <a:ext cx="7255080" cy="17856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Многие считают, что для хорошей учёбы достаточно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rebuchet MS"/>
              </a:rPr>
              <a:t>внимательности, усидчивости, прилежания, и настойчивости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5" descr="i?id=37112968-06-24"/>
          <p:cNvPicPr/>
          <p:nvPr/>
        </p:nvPicPr>
        <p:blipFill>
          <a:blip r:embed="rId2"/>
          <a:stretch/>
        </p:blipFill>
        <p:spPr>
          <a:xfrm>
            <a:off x="3708360" y="4941720"/>
            <a:ext cx="1728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Одной из самых распространённых причин школьной неуспеваемост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rebuchet MS"/>
              </a:rPr>
              <a:t>является отсутствие интереса к учебной информаци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5" descr="i?id=100941472-11-24"/>
          <p:cNvPicPr/>
          <p:nvPr/>
        </p:nvPicPr>
        <p:blipFill>
          <a:blip r:embed="rId1"/>
          <a:stretch/>
        </p:blipFill>
        <p:spPr>
          <a:xfrm>
            <a:off x="2268360" y="4005360"/>
            <a:ext cx="1535400" cy="23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i?id=114588826-05-24"/>
          <p:cNvPicPr/>
          <p:nvPr/>
        </p:nvPicPr>
        <p:blipFill>
          <a:blip r:embed="rId2"/>
          <a:stretch/>
        </p:blipFill>
        <p:spPr>
          <a:xfrm>
            <a:off x="5219640" y="4149720"/>
            <a:ext cx="20541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7255080" cy="12366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. Правильный режим дня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. Правильная организация рабочего места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омощь родителей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«Если не знаешь, куда плыть, никакой ветер не будет попутным» Луций Сенека. Прежде всего родител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должен желать помогать своему ребенку: мы учимся вместе – таков должен быть настрой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Со стороны родителей необходим постоянный интерес к учебе ребенка, семья должна принимать в ней активное участие, а не просто ожидать результата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. Окружение ребенка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Внутренние условия успешного обучени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знавательный интерес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авильная организация ответа на урок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пособности ребенка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5" descr="i?id=219570956-16-24"/>
          <p:cNvPicPr/>
          <p:nvPr/>
        </p:nvPicPr>
        <p:blipFill>
          <a:blip r:embed="rId1"/>
          <a:stretch/>
        </p:blipFill>
        <p:spPr>
          <a:xfrm>
            <a:off x="5867280" y="4437000"/>
            <a:ext cx="26449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7:51:30Z</dcterms:created>
  <dc:creator>Учитель</dc:creator>
  <dc:description/>
  <dc:language>en-US</dc:language>
  <cp:lastModifiedBy>Учитель</cp:lastModifiedBy>
  <dcterms:modified xsi:type="dcterms:W3CDTF">2012-03-14T12:17:05Z</dcterms:modified>
  <cp:revision>6</cp:revision>
  <dc:subject/>
  <dc:title>РОДИТЕЛЬСКОЕ СОБРАНИЕ ПО ПРОГРАММЕ «Путь к успеху»</dc:title>
</cp:coreProperties>
</file>