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1F73-EFB0-4476-B02E-FD754F34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EFE-1200-4C80-AD95-78B36AC2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7A74-E728-4837-8EEC-6A7565FF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AF44-53ED-40F6-81F9-1715E414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2289-AC27-4635-BC86-01C35153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64B7-A177-4D3A-8374-1C78D478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ACAC-C968-42F9-92BB-0967C00E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DE74-D73A-436A-A55C-3CD6F464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6408-77E4-4733-8D42-D31A13C2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0890-D919-4CA4-8971-C19CD549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F35F-DE74-488C-BBDF-C93B2FB8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F7D9-1016-4873-B77A-1088280A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75AE-0EFB-4D0F-86FB-D46306C6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CDB6-696A-46CF-A95D-01F3A2CA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A85B-7586-4BEC-8057-FF4E11B8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A7FA-A557-42CD-82BB-D325C065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9BEE-8177-4ED0-B1F4-48A09D07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8B9-5EE7-4D39-800C-8B1CC0A8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65B-78CD-40A4-90B0-40F28BC6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11B-C892-400C-BBD2-32D00889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C2B3-B888-4FB3-9118-E9546337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568-E98C-4455-8BA9-3FF2E842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6B0-D449-4E37-968E-EDBD00B0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23F-B3E3-4B38-A442-E8E9D8FA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375B-7D78-45EF-A298-3A009BE944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1361-FB5A-491F-9B57-07FA7CD780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www.report.kg/uploads/posts/2010-06/1277821346_roza_otunbaeva2906_3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hyperlink" Target="http://www.president.gov.ua/images/30x40_original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5ffff"/>
                </a:solidFill>
                <a:latin typeface="Tahoma"/>
              </a:rPr>
              <a:t>ЕДИНЫЙ УРОК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СНГ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Содружество независимых государств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Кыргызская Республ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5867280" cy="5040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Facebook Президента Кыргызстана. Фото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1413000"/>
            <a:ext cx="2449440" cy="3960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443640" y="566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за Отунбаев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Туркмениста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6408720" cy="5037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987640" y="3500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ердымухамед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урбангулы Мяликгулыевич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Республика Узбекиста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6696000" cy="5329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812000" y="1268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4360" y="155736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римов Ислам Абдуганиеви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Республика Армени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4762440" cy="1628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105520" y="1700280"/>
            <a:ext cx="3746520" cy="4537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400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аргсян Cерж Азатович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Республика Беларусь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6626160" cy="5143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236000" y="1700280"/>
            <a:ext cx="16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укашенко Александр Григорьевич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Республика Молдова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4752720" cy="3313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292720" y="1700280"/>
            <a:ext cx="3419640" cy="496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Гимпу опозорился в Румынии — перепутал биде с унитазом"/>
          <p:cNvPicPr/>
          <p:nvPr/>
        </p:nvPicPr>
        <p:blipFill>
          <a:blip r:embed="rId4"/>
          <a:stretch/>
        </p:blipFill>
        <p:spPr>
          <a:xfrm>
            <a:off x="324000" y="105264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48000" y="1341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ихаил Гимп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Республика Таджикиста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6696000" cy="5027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236000" y="2205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ЭМОМОЛИ РАХМО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Украи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627280" y="1413000"/>
            <a:ext cx="6264360" cy="4876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620640"/>
            <a:ext cx="2384640" cy="3240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79280" y="4221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иктор Янук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з истории СНГ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 декабря 1991 го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в Беловежской пуще (Белоруссия) руководители России – Президент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.Ельци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Госсекретарь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.Бурбули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Украины — Президент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.Кравчу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Премьер-министр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.Фоки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Белоруссии – Председатель Верховного совета БССР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.Шушкевич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Председатель Совмин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.Кебич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объявили о прекращении деятельности СССР “как субъекта международного права и геополитической реальности”. Было заявлено об образовании Содружества Независимых Государств, открытого для присоединения бывших членов Союза и иных государств, а также подписано соглашение о создании Содружества Независимых Государств.В Соглашении сформулированы основные направления и принципы сотрудничества, определена сфера совместной деятельности, реализуемая на равноправной основе через координирующие структуры Содружества. Договаривающиеся стороны обязались гарантировать все нормы, вытекающие для них из договоров и соглашений бывшего ССС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1 декабря 1991 го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иргизия и Армения заявили о присоединении к СНГ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3 декабря 1991 го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по инициативе президента Казахстан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.Назарбаев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оизошла встреча глав Казахстана и 4 республик Средней Азии в Ашхабаде. Они также выразили согласие войти в СНГ, но при условии абсолютного равенства со сторонами, подписавшими Беловежские соглаш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1 декабря 1991 го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Алма-Ате главы 9 республик: Армении, Белоруссии, Казахстана, Киргизии, России, Таджикистана, Туркмении, Узбекистана и Украины подписали Декларацию об образовании Содружества Суверенных Государств. Позднее к ним присоединились Азербайджан, Грузия и Молдавия — всего в СНГ вошло 12 республик из 15, входивших в ССС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85690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7058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оссийская Федерация (РФ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26920" y="1611360"/>
            <a:ext cx="7490160" cy="4854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716360" y="170028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едведев Д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ерритория Российской Федерации составляет 17075,4 тыс.кв.км., население на 01.08.2004 составляет 143 млн. 700 тыс. человек. Столица России – город Моск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соответствии с Конституцией, принятой 12 декабря 1993 года, Российская Федерация – Россия – демократическое федеративное правовое государство с республиканской формой правл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ссийская Федерация состоит из республик, краев, областей, городов федерального подчинения, автономной области, автономных округов – равноправных субъектов Российской Федерац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осударственную власть в Российской Федерации осуществляют Президент Российской Федерации, Федеральное Собрание, Правительство Российской Федерации. Государственную власть в субъектах Российской Федерации осуществляют образуемые ими органы государственной вла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зидент Российской Федерации является главой государства, избирается на четыре год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едеральное Собрание – парламент России, является представительным и законодательным органом, состоит из двух палат – Совета Федерации и Государственной Дум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Совет Федерации входят по два представителя от каждого субъекта Российской Федерации, по одному от представительного и исполнительного органов государственной вла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осударственная Дума состоит из 450 депутатов, избираемых на четыре года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еспублика Казахста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71640" y="1052640"/>
            <a:ext cx="7273800" cy="529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00720" y="28526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зарбаев Нурсултан Абишевич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Азербайджанская Республика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8424720" cy="439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788000" y="6308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лиев Ильхам Гейдарович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9T11:43:53Z</dcterms:created>
  <dc:creator>1</dc:creator>
  <dc:description/>
  <dc:language>en-US</dc:language>
  <cp:lastModifiedBy>1</cp:lastModifiedBy>
  <dcterms:modified xsi:type="dcterms:W3CDTF">2011-01-29T12:11:02Z</dcterms:modified>
  <cp:revision>2</cp:revision>
  <dc:subject/>
  <dc:title>ЕДИНЫЙ УРОК</dc:title>
</cp:coreProperties>
</file>