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1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9.png" ContentType="image/png"/>
  <Override PartName="/ppt/media/image17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gif" ContentType="image/gif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70F-E8CC-4030-BE74-E4FABC57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6A8-755A-4D9B-B30E-E7E4CBC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111-1D85-4004-9DA4-22B02E39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A14-0A7C-4FB5-A36E-8A47082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436-EC0B-4B83-93DA-334943E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53A-5734-4D87-82E4-9C3E11F0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3AD-1E2E-40F8-ABED-09F3895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557-00FD-4D26-80EE-ECCB79A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843-514B-4E68-96A2-C25724E4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C72-0171-41CF-92BB-06890C7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1B0-CD95-4F3C-ACD9-45E6FB9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010-BDB7-420E-88B4-963739E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AEE-BCA9-405F-9041-2B010F027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image" Target="../media/image20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image" Target="../media/image20.gif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Мои рисунки\Леопольд 1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7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4005360"/>
            <a:ext cx="5578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добрый 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43280" y="43657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треть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Администратор\Мои документы\Мои рисунки\дерево5.gif"/>
          <p:cNvPicPr/>
          <p:nvPr/>
        </p:nvPicPr>
        <p:blipFill>
          <a:blip r:embed="rId2"/>
          <a:stretch/>
        </p:blipFill>
        <p:spPr>
          <a:xfrm>
            <a:off x="2195640" y="549360"/>
            <a:ext cx="3348000" cy="465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241800" cy="34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Администратор\Мои документы\Мои рисунки\дерево3.gif"/>
          <p:cNvPicPr/>
          <p:nvPr/>
        </p:nvPicPr>
        <p:blipFill>
          <a:blip r:embed="rId4"/>
          <a:stretch/>
        </p:blipFill>
        <p:spPr>
          <a:xfrm>
            <a:off x="4211640" y="1197000"/>
            <a:ext cx="3097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Добрые поступк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Картинка 17 из 5938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Что значит доброта, добрый челов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редал пса, что был ко мне привяз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добрый человек и друг больш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одарил его, как дарят ва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, что он с понятьем и душ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й судьбе он покорился мол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глянул мне в глаза с такой тос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у чужих всю ночь он выл по-волч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ая вызов совести люд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звал меня. И я его услышал,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тоже был с разлукою знаком,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4360" y="476280"/>
          <a:ext cx="8280360" cy="6265440"/>
        </p:xfrm>
        <a:graphic>
          <a:graphicData uri="http://schemas.openxmlformats.org/drawingml/2006/table">
            <a:tbl>
              <a:tblPr/>
              <a:tblGrid>
                <a:gridCol w="4222440"/>
                <a:gridCol w="4057920"/>
              </a:tblGrid>
              <a:tr h="62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от он у меня под боком дыш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руку лижет вязким язы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 что тут скажешь? – Рабская натур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но ли от обиды голоси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, хоть бы раз в отместку или сду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я по-зверски яро укусил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Картинка 795 из 5939"/>
          <p:cNvPicPr/>
          <p:nvPr/>
        </p:nvPicPr>
        <p:blipFill>
          <a:blip r:embed="rId1"/>
          <a:stretch/>
        </p:blipFill>
        <p:spPr>
          <a:xfrm>
            <a:off x="179280" y="981000"/>
            <a:ext cx="4032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59280" y="458136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четвёрт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Documents and Settings\Администратор\Мои документы\Мои рисунки\дерево5.gif"/>
          <p:cNvPicPr/>
          <p:nvPr/>
        </p:nvPicPr>
        <p:blipFill>
          <a:blip r:embed="rId2"/>
          <a:stretch/>
        </p:blipFill>
        <p:spPr>
          <a:xfrm>
            <a:off x="2340000" y="692280"/>
            <a:ext cx="3348000" cy="465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241800" cy="345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Администратор\Мои документы\Мои рисунки\дерево3.gif"/>
          <p:cNvPicPr/>
          <p:nvPr/>
        </p:nvPicPr>
        <p:blipFill>
          <a:blip r:embed="rId4"/>
          <a:stretch/>
        </p:blipFill>
        <p:spPr>
          <a:xfrm>
            <a:off x="4643280" y="1484280"/>
            <a:ext cx="3097440" cy="37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Администратор\Мои документы\Мои рисунки\дерево 2.gif"/>
          <p:cNvPicPr/>
          <p:nvPr/>
        </p:nvPicPr>
        <p:blipFill>
          <a:blip r:embed="rId5"/>
          <a:stretch/>
        </p:blipFill>
        <p:spPr>
          <a:xfrm>
            <a:off x="7308720" y="1484280"/>
            <a:ext cx="171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Дерево пятое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Дерево дружб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Администратор\Мои документы\Мои рисунки\дети4.jpg"/>
          <p:cNvPicPr/>
          <p:nvPr/>
        </p:nvPicPr>
        <p:blipFill>
          <a:blip r:embed="rId1"/>
          <a:stretch/>
        </p:blipFill>
        <p:spPr>
          <a:xfrm>
            <a:off x="3500280" y="2286000"/>
            <a:ext cx="2198880" cy="219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Администратор\Мои документы\Мои рисунки\дети6.jpg"/>
          <p:cNvPicPr/>
          <p:nvPr/>
        </p:nvPicPr>
        <p:blipFill>
          <a:blip r:embed="rId2"/>
          <a:stretch/>
        </p:blipFill>
        <p:spPr>
          <a:xfrm>
            <a:off x="357120" y="2071800"/>
            <a:ext cx="2540160" cy="189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Администратор\Мои документы\Мои рисунки\дети8.jpg"/>
          <p:cNvPicPr/>
          <p:nvPr/>
        </p:nvPicPr>
        <p:blipFill>
          <a:blip r:embed="rId3"/>
          <a:stretch/>
        </p:blipFill>
        <p:spPr>
          <a:xfrm>
            <a:off x="6357960" y="2071800"/>
            <a:ext cx="2539800" cy="185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ocuments and Settings\Администратор\Мои документы\Мои рисунки\дети2.jpg"/>
          <p:cNvPicPr/>
          <p:nvPr/>
        </p:nvPicPr>
        <p:blipFill>
          <a:blip r:embed="rId4"/>
          <a:stretch/>
        </p:blipFill>
        <p:spPr>
          <a:xfrm>
            <a:off x="468360" y="4149720"/>
            <a:ext cx="2539800" cy="168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Администратор\Мои документы\Мои рисунки\дети7.jpg"/>
          <p:cNvPicPr/>
          <p:nvPr/>
        </p:nvPicPr>
        <p:blipFill>
          <a:blip r:embed="rId5"/>
          <a:stretch/>
        </p:blipFill>
        <p:spPr>
          <a:xfrm>
            <a:off x="3276720" y="486900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2952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4360" y="465300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пят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Администратор\Мои документы\Мои рисунки\дерево5.gif"/>
          <p:cNvPicPr/>
          <p:nvPr/>
        </p:nvPicPr>
        <p:blipFill>
          <a:blip r:embed="rId2"/>
          <a:stretch/>
        </p:blipFill>
        <p:spPr>
          <a:xfrm>
            <a:off x="2050920" y="907920"/>
            <a:ext cx="334800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241800" cy="34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Администратор\Мои документы\Мои рисунки\дерево3.gif"/>
          <p:cNvPicPr/>
          <p:nvPr/>
        </p:nvPicPr>
        <p:blipFill>
          <a:blip r:embed="rId4"/>
          <a:stretch/>
        </p:blipFill>
        <p:spPr>
          <a:xfrm>
            <a:off x="4572000" y="836640"/>
            <a:ext cx="3097080" cy="37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Администратор\Мои документы\Мои рисунки\дерево 2.gif"/>
          <p:cNvPicPr/>
          <p:nvPr/>
        </p:nvPicPr>
        <p:blipFill>
          <a:blip r:embed="rId5"/>
          <a:stretch/>
        </p:blipFill>
        <p:spPr>
          <a:xfrm>
            <a:off x="7093080" y="907920"/>
            <a:ext cx="1719000" cy="345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Администратор\Мои документы\Мои рисунки\дерево4.gif"/>
          <p:cNvPicPr/>
          <p:nvPr/>
        </p:nvPicPr>
        <p:blipFill>
          <a:blip r:embed="rId6"/>
          <a:stretch/>
        </p:blipFill>
        <p:spPr>
          <a:xfrm>
            <a:off x="3419640" y="3975120"/>
            <a:ext cx="2592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Дерево шестое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Добрые слов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лыбающееся лицо 3"/>
          <p:cNvSpPr/>
          <p:nvPr/>
        </p:nvSpPr>
        <p:spPr>
          <a:xfrm>
            <a:off x="3571920" y="3643200"/>
            <a:ext cx="1343160" cy="10717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Трапеция 4"/>
          <p:cNvSpPr/>
          <p:nvPr/>
        </p:nvSpPr>
        <p:spPr>
          <a:xfrm rot="12463200">
            <a:off x="4587120" y="1993680"/>
            <a:ext cx="1057320" cy="1892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Трапеция 6"/>
          <p:cNvSpPr/>
          <p:nvPr/>
        </p:nvSpPr>
        <p:spPr>
          <a:xfrm rot="19593600">
            <a:off x="4619160" y="4491000"/>
            <a:ext cx="1074960" cy="1874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Трапеция 7"/>
          <p:cNvSpPr/>
          <p:nvPr/>
        </p:nvSpPr>
        <p:spPr>
          <a:xfrm rot="1230000">
            <a:off x="3119040" y="4636800"/>
            <a:ext cx="1069920" cy="19080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Трапеция 8"/>
          <p:cNvSpPr/>
          <p:nvPr/>
        </p:nvSpPr>
        <p:spPr>
          <a:xfrm rot="4252800">
            <a:off x="2036520" y="3592080"/>
            <a:ext cx="979560" cy="2291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Трапеция 10"/>
          <p:cNvSpPr/>
          <p:nvPr/>
        </p:nvSpPr>
        <p:spPr>
          <a:xfrm rot="6976800">
            <a:off x="2093400" y="2284200"/>
            <a:ext cx="1046160" cy="2217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рапеция 11"/>
          <p:cNvSpPr/>
          <p:nvPr/>
        </p:nvSpPr>
        <p:spPr>
          <a:xfrm rot="10204800">
            <a:off x="3417480" y="1868400"/>
            <a:ext cx="1025640" cy="17892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 rot="17866800">
            <a:off x="4381560" y="25808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гру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Трапеция 21"/>
          <p:cNvSpPr/>
          <p:nvPr/>
        </p:nvSpPr>
        <p:spPr>
          <a:xfrm rot="16003200">
            <a:off x="5650560" y="2993040"/>
            <a:ext cx="914400" cy="2357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2"/>
          <p:cNvSpPr/>
          <p:nvPr/>
        </p:nvSpPr>
        <p:spPr>
          <a:xfrm rot="15493800">
            <a:off x="3119040" y="23414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з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3"/>
          <p:cNvSpPr/>
          <p:nvPr/>
        </p:nvSpPr>
        <p:spPr>
          <a:xfrm rot="1549800">
            <a:off x="1564560" y="3112920"/>
            <a:ext cx="18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жа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5214960" y="3983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гру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5"/>
          <p:cNvSpPr/>
          <p:nvPr/>
        </p:nvSpPr>
        <p:spPr>
          <a:xfrm rot="3001200">
            <a:off x="4658040" y="5040360"/>
            <a:ext cx="11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г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 rot="17349600">
            <a:off x="2899440" y="541044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вра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 rot="20587800">
            <a:off x="1809000" y="439884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Дерево шестое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Добры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лыбающееся лицо 3"/>
          <p:cNvSpPr/>
          <p:nvPr/>
        </p:nvSpPr>
        <p:spPr>
          <a:xfrm>
            <a:off x="3571920" y="3643200"/>
            <a:ext cx="134316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Трапеция 4"/>
          <p:cNvSpPr/>
          <p:nvPr/>
        </p:nvSpPr>
        <p:spPr>
          <a:xfrm rot="12712800">
            <a:off x="4587480" y="1993680"/>
            <a:ext cx="1057320" cy="1892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Трапеция 5"/>
          <p:cNvSpPr/>
          <p:nvPr/>
        </p:nvSpPr>
        <p:spPr>
          <a:xfrm rot="19593600">
            <a:off x="4619160" y="4491000"/>
            <a:ext cx="1074960" cy="1874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Трапеция 6"/>
          <p:cNvSpPr/>
          <p:nvPr/>
        </p:nvSpPr>
        <p:spPr>
          <a:xfrm rot="1230000">
            <a:off x="3119040" y="4636800"/>
            <a:ext cx="1069920" cy="19080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Трапеция 7"/>
          <p:cNvSpPr/>
          <p:nvPr/>
        </p:nvSpPr>
        <p:spPr>
          <a:xfrm rot="4252800">
            <a:off x="2036520" y="3592080"/>
            <a:ext cx="979560" cy="2291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Трапеция 8"/>
          <p:cNvSpPr/>
          <p:nvPr/>
        </p:nvSpPr>
        <p:spPr>
          <a:xfrm rot="6976800">
            <a:off x="2093400" y="2284200"/>
            <a:ext cx="1046160" cy="2217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Трапеция 9"/>
          <p:cNvSpPr/>
          <p:nvPr/>
        </p:nvSpPr>
        <p:spPr>
          <a:xfrm rot="10204800">
            <a:off x="3417480" y="1868400"/>
            <a:ext cx="1025640" cy="17892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0"/>
          <p:cNvSpPr/>
          <p:nvPr/>
        </p:nvSpPr>
        <p:spPr>
          <a:xfrm rot="17866800">
            <a:off x="4119840" y="245988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еж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Трапеция 11"/>
          <p:cNvSpPr/>
          <p:nvPr/>
        </p:nvSpPr>
        <p:spPr>
          <a:xfrm rot="16003200">
            <a:off x="5650560" y="2993040"/>
            <a:ext cx="914400" cy="2357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 rot="15493800">
            <a:off x="2931840" y="2188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доб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3"/>
          <p:cNvSpPr/>
          <p:nvPr/>
        </p:nvSpPr>
        <p:spPr>
          <a:xfrm rot="1549800">
            <a:off x="1564560" y="3112920"/>
            <a:ext cx="18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щед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5214960" y="39290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есё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5"/>
          <p:cNvSpPr/>
          <p:nvPr/>
        </p:nvSpPr>
        <p:spPr>
          <a:xfrm rot="3187200">
            <a:off x="4596120" y="516276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сч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 rot="17349600">
            <a:off x="2845800" y="5392800"/>
            <a:ext cx="14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7"/>
          <p:cNvSpPr/>
          <p:nvPr/>
        </p:nvSpPr>
        <p:spPr>
          <a:xfrm rot="20587800">
            <a:off x="1809000" y="439884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ав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ервое дере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844640"/>
            <a:ext cx="86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Где спряталось добро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790720"/>
            <a:ext cx="5184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465300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шест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C:\Documents and Settings\Администратор\Мои документы\Мои рисунки\дерево5.gif"/>
          <p:cNvPicPr/>
          <p:nvPr/>
        </p:nvPicPr>
        <p:blipFill>
          <a:blip r:embed="rId2"/>
          <a:stretch/>
        </p:blipFill>
        <p:spPr>
          <a:xfrm>
            <a:off x="2484360" y="765000"/>
            <a:ext cx="3348000" cy="465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241800" cy="3457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Администратор\Мои документы\Мои рисунки\дерево3.gif"/>
          <p:cNvPicPr/>
          <p:nvPr/>
        </p:nvPicPr>
        <p:blipFill>
          <a:blip r:embed="rId4"/>
          <a:stretch/>
        </p:blipFill>
        <p:spPr>
          <a:xfrm>
            <a:off x="5003640" y="620640"/>
            <a:ext cx="3097440" cy="374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Администратор\Мои документы\Мои рисунки\дерево 2.gif"/>
          <p:cNvPicPr/>
          <p:nvPr/>
        </p:nvPicPr>
        <p:blipFill>
          <a:blip r:embed="rId5"/>
          <a:stretch/>
        </p:blipFill>
        <p:spPr>
          <a:xfrm>
            <a:off x="7424640" y="1413000"/>
            <a:ext cx="1719360" cy="345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Администратор\Мои документы\Мои рисунки\дерево4.gif"/>
          <p:cNvPicPr/>
          <p:nvPr/>
        </p:nvPicPr>
        <p:blipFill>
          <a:blip r:embed="rId6"/>
          <a:stretch/>
        </p:blipFill>
        <p:spPr>
          <a:xfrm>
            <a:off x="3924360" y="3975120"/>
            <a:ext cx="2592360" cy="2882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Администратор\Мои документы\Мои рисунки\дерево.gif"/>
          <p:cNvPicPr/>
          <p:nvPr/>
        </p:nvPicPr>
        <p:blipFill>
          <a:blip r:embed="rId7"/>
          <a:stretch/>
        </p:blipFill>
        <p:spPr>
          <a:xfrm>
            <a:off x="6300720" y="3618000"/>
            <a:ext cx="2028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52360" y="214200"/>
            <a:ext cx="91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«Где спряталось добро»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090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душ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серде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жела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сове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Добро</a:t>
            </a:r>
            <a:r>
              <a:rPr b="1" lang="en-US" sz="4800" spc="-1" strike="noStrike" u="sng">
                <a:solidFill>
                  <a:srgbClr val="990099"/>
                </a:solidFill>
                <a:uFillTx/>
                <a:latin typeface="Arial"/>
              </a:rPr>
              <a:t>сосед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3241800" cy="34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8120" y="2276640"/>
            <a:ext cx="442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пер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ерево второе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ословицы о добр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.На добрый привет              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.Про доброе дело                 добр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.Жизнь дана на                        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.Учись доброму                     говори смело. 5.Спасибо – великое          дурное на ум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>
            <a:off x="3857400" y="2214360"/>
            <a:ext cx="1215000" cy="572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9"/>
          <p:cNvCxnSpPr/>
          <p:nvPr/>
        </p:nvCxnSpPr>
        <p:spPr>
          <a:xfrm>
            <a:off x="3714840" y="2785680"/>
            <a:ext cx="135792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1"/>
          <p:cNvCxnSpPr/>
          <p:nvPr/>
        </p:nvCxnSpPr>
        <p:spPr>
          <a:xfrm flipV="1">
            <a:off x="3214800" y="2214000"/>
            <a:ext cx="192960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3"/>
          <p:cNvCxnSpPr/>
          <p:nvPr/>
        </p:nvCxnSpPr>
        <p:spPr>
          <a:xfrm>
            <a:off x="3995640" y="4005000"/>
            <a:ext cx="121536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15"/>
          <p:cNvCxnSpPr/>
          <p:nvPr/>
        </p:nvCxnSpPr>
        <p:spPr>
          <a:xfrm flipV="1">
            <a:off x="3928680" y="3357000"/>
            <a:ext cx="150084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51280" y="407664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рево втор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Администратор\Мои документы\Мои рисунки\дерево5.gif"/>
          <p:cNvPicPr/>
          <p:nvPr/>
        </p:nvPicPr>
        <p:blipFill>
          <a:blip r:embed="rId2"/>
          <a:stretch/>
        </p:blipFill>
        <p:spPr>
          <a:xfrm>
            <a:off x="2124000" y="476280"/>
            <a:ext cx="3348000" cy="465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241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77 из 5938"/>
          <p:cNvPicPr/>
          <p:nvPr/>
        </p:nvPicPr>
        <p:blipFill>
          <a:blip r:embed="rId1"/>
          <a:stretch/>
        </p:blipFill>
        <p:spPr>
          <a:xfrm>
            <a:off x="250920" y="189000"/>
            <a:ext cx="626436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99 из 5938"/>
          <p:cNvPicPr/>
          <p:nvPr/>
        </p:nvPicPr>
        <p:blipFill>
          <a:blip r:embed="rId2"/>
          <a:stretch/>
        </p:blipFill>
        <p:spPr>
          <a:xfrm>
            <a:off x="2843280" y="2852640"/>
            <a:ext cx="5111640" cy="3706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http://t3.gstatic.com/images?q=tbn:ANd9GcRIb9ib3NsAE5n9lXDunoxD0YNp1GcUCkDMHU3n0lCJyN3cbbzts8AgoGU"/>
          <p:cNvPicPr/>
          <p:nvPr/>
        </p:nvPicPr>
        <p:blipFill>
          <a:blip r:embed="rId3"/>
          <a:stretch/>
        </p:blipFill>
        <p:spPr>
          <a:xfrm>
            <a:off x="0" y="2852640"/>
            <a:ext cx="2079720" cy="3672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http://t3.gstatic.com/images?q=tbn:ANd9GcSW71Lq10NPgt2QQTXPT1K4kaj3hzwnNt-WKOY4OOCRP4XavUopxQ"/>
          <p:cNvPicPr/>
          <p:nvPr/>
        </p:nvPicPr>
        <p:blipFill>
          <a:blip r:embed="rId4"/>
          <a:stretch/>
        </p:blipFill>
        <p:spPr>
          <a:xfrm>
            <a:off x="1908000" y="2852640"/>
            <a:ext cx="2213280" cy="3667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knigorub.com/images/1289455280334_Lyubimye_skazki_SHarlya_Perro_(audiokniga).jpg"/>
          <p:cNvPicPr/>
          <p:nvPr/>
        </p:nvPicPr>
        <p:blipFill>
          <a:blip r:embed="rId5"/>
          <a:stretch/>
        </p:blipFill>
        <p:spPr>
          <a:xfrm>
            <a:off x="6732720" y="836640"/>
            <a:ext cx="219528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http://t1.gstatic.com/images?q=tbn:ANd9GcQ7kumeQcal3PmCLxY2YEIfgp12JHRb4gWGKDrhBDBET9NdfANVevPiAhJyFA"/>
          <p:cNvPicPr/>
          <p:nvPr/>
        </p:nvPicPr>
        <p:blipFill>
          <a:blip r:embed="rId6"/>
          <a:stretch/>
        </p:blipFill>
        <p:spPr>
          <a:xfrm>
            <a:off x="6767640" y="3068640"/>
            <a:ext cx="237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Дерево треть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«Добрые сказк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D:\разное\сказочные герои\img667.jpg"/>
          <p:cNvPicPr/>
          <p:nvPr/>
        </p:nvPicPr>
        <p:blipFill>
          <a:blip r:embed="rId1"/>
          <a:stretch/>
        </p:blipFill>
        <p:spPr>
          <a:xfrm>
            <a:off x="428760" y="1857240"/>
            <a:ext cx="3063600" cy="459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разное\сказочные герои\img668.jpg"/>
          <p:cNvPicPr/>
          <p:nvPr/>
        </p:nvPicPr>
        <p:blipFill>
          <a:blip r:embed="rId2"/>
          <a:stretch/>
        </p:blipFill>
        <p:spPr>
          <a:xfrm>
            <a:off x="4643280" y="198900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:\разное\сказочные герои\img669.jpg"/>
          <p:cNvPicPr/>
          <p:nvPr/>
        </p:nvPicPr>
        <p:blipFill>
          <a:blip r:embed="rId1"/>
          <a:stretch/>
        </p:blipFill>
        <p:spPr>
          <a:xfrm>
            <a:off x="4716360" y="836640"/>
            <a:ext cx="3961080" cy="453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3600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1:55:03Z</dcterms:created>
  <dc:creator>Наталья</dc:creator>
  <dc:description/>
  <dc:language>en-US</dc:language>
  <cp:lastModifiedBy>Наталья</cp:lastModifiedBy>
  <dcterms:modified xsi:type="dcterms:W3CDTF">2012-03-13T21:28:52Z</dcterms:modified>
  <cp:revision>16</cp:revision>
  <dc:subject/>
  <dc:title>Слайд 1</dc:title>
</cp:coreProperties>
</file>