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D73-A352-42B7-87E7-81BB8D23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BB4-0FF4-4F7C-8DAB-E26759C4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40B-B967-4BCF-A6F3-6D94D6F6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AB5-E7CD-4990-B692-DBC9BC7C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85070-C67C-4BDC-9F89-DE35341E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B9099-E803-49EE-A3F6-682F7FEA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A0455-803C-407A-9942-849678C8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79887-441E-45CC-8588-64112CC5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B7821-D82D-441A-B248-2B90CBA4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33FCD-DC4E-4E1E-AD01-D93387AD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D3ABA-333F-4347-AD9C-98520534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550-1EB9-49F6-A560-533C33CE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3AB12-48F4-4472-B62D-2D7DB38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991F0-0418-4F38-9783-463167AD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5466D-81B0-49C9-972F-10EDE0D0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45730-B484-49AE-B8CC-28B8A7B9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03CC9-5F2D-4C66-B087-0615CBEA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C5C-8A85-42B8-9A2C-4EDD0ECF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5D3-F4E9-47F3-8F9D-5C34DFD8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0AB-2E6D-4117-A4C7-92133CD5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EE5-C8FA-4FDD-877D-12C1C90F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8B9-C4BE-4E04-964E-089F9D0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8AD-07A1-47F0-9183-4C786A4C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AB4-198C-4CB8-9F64-76B52EB1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3505-3B47-466D-8656-9F0546A2F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463F-87BE-42E0-A5FE-FD38180078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atar-map.ru/map722399_0_0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e-travel.ru/russia/&#1058;&#1072;&#1090;&#1072;&#1088;&#1089;&#1090;&#1072;&#1085;/otzyv-3528.html" TargetMode="External"/><Relationship Id="rId3" Type="http://schemas.openxmlformats.org/officeDocument/2006/relationships/image" Target="../media/image6.jpe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hyperlink" Target="http://www.tattravel.ru/images/stories/dostopim/kazan/kazan_kreml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tar-map.ru/map722399_0_0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ографическое положени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92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СПУБЛИКИ  ТАТАРСТ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7" descr="722399_SMALL_0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357720"/>
            <a:ext cx="412596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68360" y="2513160"/>
          <a:ext cx="8064360" cy="2379600"/>
        </p:xfrm>
        <a:graphic>
          <a:graphicData uri="http://schemas.openxmlformats.org/drawingml/2006/table">
            <a:tbl>
              <a:tblPr/>
              <a:tblGrid>
                <a:gridCol w="2830320"/>
                <a:gridCol w="5234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роны горизон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западе и северо-запад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увашская республика   Республика Марий-Э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севе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овская область, Республика Удмур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востоке и юго-восто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енбургская область и Республика Башкортоста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юг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арская и Ульяновская об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31"/>
          <p:cNvSpPr/>
          <p:nvPr/>
        </p:nvSpPr>
        <p:spPr>
          <a:xfrm>
            <a:off x="900000" y="47628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тарстан граничит с восемью субъектами Российской Федерации: (записать в тетрадь, и перенести таблицу в тетради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img2"/>
          <p:cNvPicPr/>
          <p:nvPr/>
        </p:nvPicPr>
        <p:blipFill>
          <a:blip r:embed="rId1"/>
          <a:stretch/>
        </p:blipFill>
        <p:spPr>
          <a:xfrm>
            <a:off x="0" y="0"/>
            <a:ext cx="4824360" cy="352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Набережные Челн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321300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kreml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88000" y="0"/>
            <a:ext cx="4356000" cy="319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kazan_krem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3249720"/>
            <a:ext cx="4859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Набережные Чел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995640" y="189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бережные Чел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003_160x120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kazan%20bashnya%20suumbike%200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kazan_kremlin_0"/>
          <p:cNvPicPr/>
          <p:nvPr/>
        </p:nvPicPr>
        <p:blipFill>
          <a:blip r:embed="rId3"/>
          <a:stretch/>
        </p:blipFill>
        <p:spPr>
          <a:xfrm>
            <a:off x="0" y="3284640"/>
            <a:ext cx="4572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Географическое поло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549360"/>
            <a:ext cx="8424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и и задач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бразовательные: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комить с новым курсом географии «Региональная география Татарстана»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ть главные черты географического положения Татарстана и их влияния на природу и хозяйственную деятельность населени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действовать формированию у учащихся представления об особенностях ГП Татарстан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ть знания о границах Татарстана и пограничных государствах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Развивающие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ствовать формированию умений самостоятельно применять ранее усвоенные знани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олжить развивать умение выделять главное при работе с учебником и с географической карто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ения показывать на карте границы республики, показывать республики и области, граничащие с Р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Воспитательные: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ть условия для повышенного интереса к изучению родного кра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итывать патриотические чувства, гордость за свой кра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А что по-вашему означает «родной край», какой образ рисуется в вашем понятии когда мы говорим: наша республика? Попробуйте опис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722399_SMALL_0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ощадь Татарстана -это территория острова Шри-Ланка, или Бельгии и Нидерландов, вместе взят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ница имеют вид сильно извилистой и ломанной линии и не связаны с какими-либо природными рубежами. Исключение составляет лишь граница с Башкортостаном, которая на большом протяжении проходит по реке И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Географическое положение"/>
          <p:cNvPicPr/>
          <p:nvPr/>
        </p:nvPicPr>
        <p:blipFill>
          <a:blip r:embed="rId1"/>
          <a:stretch/>
        </p:blipFill>
        <p:spPr>
          <a:xfrm>
            <a:off x="179280" y="836640"/>
            <a:ext cx="3961080" cy="3110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356000" y="272880"/>
            <a:ext cx="453708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щая площадь республики составляет 67 836,2 кв. км. Протяженность территории – 290 км с севера на юг и 460 км с запада на восток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спублика Татарстан входит в состав Приволжского федерального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круга и граничит с восемью регионами Российской Федерации: Республикой Башкортостан, Удмуртской Республикой, Республикой Марий Эл, Чувашской Республикой, Кировской, Оренбургской, Ульяновской и Самарской областями.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олинами рек Волги и Камы территория республики разделена на три части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авобережье Волги (Предволжье), в пределы которого заходит Приволжская возвышенность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евобережье Волги и правобережье Камы (Предкамье)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евобережье Камы (Закамье) с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еверными склонами Бугульминско Белебеевской возвышенности (высотой до 364 м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сновные реки – Волга, Кама, Белая, Вят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971640" y="1413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зовите и покажите на карте (рис. 1), с какими субъектами РФ граничит Республика Татарстан - на севере?, на юге?, на востоке, и на запад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7:07:03Z</dcterms:created>
  <dc:creator>1</dc:creator>
  <dc:description/>
  <dc:language>en-US</dc:language>
  <cp:lastModifiedBy>Учитель</cp:lastModifiedBy>
  <dcterms:modified xsi:type="dcterms:W3CDTF">2011-06-08T06:51:05Z</dcterms:modified>
  <cp:revision>3</cp:revision>
  <dc:subject/>
  <dc:title>Географическое положение </dc:title>
</cp:coreProperties>
</file>