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8EA4-B1FF-4CE2-97C4-657238C20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E13EF5DD-6B16-4D54-AF74-32E92604BF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E554B939-59DE-4FF5-B55E-48CD82D827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58D6254D-F390-470A-9722-D89BD7B19B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937-A39B-4B02-941C-A62806EE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70B-92E6-44B8-9746-02C4FA1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540-742A-4F4D-9591-D9DF69C0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552-0446-4368-883B-530B8F31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D0D-DC6C-4F43-92EA-8D25A44B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10DC-C652-4D12-8634-5C30AA6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E2B-EC31-4B6B-9FCD-01F90FD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75D0-50A7-4C33-9E8B-FCE6E8A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D5D2-097E-45D1-9CF7-F044008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8F92-4EA2-430F-B5DF-829C1340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BEDD-EB2C-4EE8-B858-AB22ADF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AF4-56CA-4E67-AA0C-8E9F714E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06F7-453F-43D8-B98F-00FB964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4C0-C8F8-4CDD-B396-09F7458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2FE-71AE-493C-93CB-479E8CA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F1AE-671D-4298-8EF4-56254465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722-A650-4BB7-90C6-462B07AC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540B-8E5B-45AA-9AF3-FADCAEB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DC29-78A7-41A3-95F6-DD152EC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2C09-8A55-45B6-901E-9D6184F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3A1A-CBB4-494E-BE87-43A789BC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0C56-3D63-4322-9E37-C3C838B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D83-9BCD-4504-8758-3B6C54C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2E79-BB7D-4DB7-A1EA-552E246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72BA-AC09-46F3-9227-7BFFFBE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EDF4-C9E5-49B8-ADA4-5996A44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4099-15EB-4747-A216-79F6942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F90D-F764-42D8-8F4E-07FF50EA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A72A-3470-4073-ACCA-E68EDF29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A8C7-A629-4C96-8242-9FCA08E0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D3EDD-087A-4B72-B2C6-E8E08A49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513B-FD06-4082-9D2C-7D7ADFB9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1D7E-46FE-4523-B348-5171DE1A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9FB-65FA-4526-B0F2-4EA740EC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832D-3277-4D0D-BAE3-5CCC1412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4DCE-7F2F-41FA-838B-31FB3494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38C2-161C-4EB4-9468-00E0CEE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9026-B19E-40BF-8C2E-64A2FD9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3FCC-342C-45F3-9AF1-7D52F3E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3206-40F9-4F52-8918-62BBEA2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E603-5FE6-4774-B02D-97C4093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481F-2E81-4165-8E1A-12B813EC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B709-C50D-4343-B054-0576B06E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0DD-DFB7-419C-ADCD-F9026C3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569-6020-4DEB-B120-CD466F09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956-C03B-4817-8F4B-B262598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B52-DE7E-4C73-96CE-735E491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F27-A190-4B1B-8A49-ECB64D0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BD89-A214-4911-9518-AC6D139B2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23E29E3B-8F31-4BC3-8EB2-0DC9B48DAC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938302B4-47AF-4D81-A615-BCE44A9DCAD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F89E690D-8C9F-4E7A-B5ED-DC9695EFE69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8920" y="220500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и деление десятичных дроб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0840" y="4220280"/>
            <a:ext cx="824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Знания имей отли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по теме  «Дроби десятичны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42920" y="2997360"/>
            <a:ext cx="1314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03640" y="3141720"/>
            <a:ext cx="51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стюм - 2,85м -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627280" y="2924280"/>
            <a:ext cx="730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132000" y="4149720"/>
            <a:ext cx="5327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альто -   2,3 м -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387000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.Сколько метров сукна надо для пошива 8 костюмов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85м х 8 = 22,80м = 22,8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.Сколько метров сукна надо для пошива 3 паль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м х 5 = 11,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.Сколько метров сукна надо приобрести атель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,8м + 11,5м = 34,3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34м30см сукна надо приобрести ател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720" y="435600"/>
            <a:ext cx="886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Сколько метров сукна надо для пошива 3 костюмов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85м х 3 = 8,55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. Сколько метров сукна надо приобрести ател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55м + 2,3 м = 10,8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10м85см сукна надо приобрести ател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00000" y="549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0,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03640" y="1484280"/>
            <a:ext cx="27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96,25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443640" y="549360"/>
            <a:ext cx="21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19,8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00000" y="256536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745,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16720" y="2421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97,3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5157720"/>
            <a:ext cx="2459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5,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508720" y="5084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49,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635280" y="3645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0,81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276720" y="4206600"/>
            <a:ext cx="540864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2174760" y="25416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3794040" y="25416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415120" y="25416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2174760" y="148428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3728880" y="148428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7"/>
          <p:cNvSpPr/>
          <p:nvPr/>
        </p:nvSpPr>
        <p:spPr>
          <a:xfrm>
            <a:off x="2498760" y="2909880"/>
            <a:ext cx="447048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8"/>
          <p:cNvSpPr/>
          <p:nvPr/>
        </p:nvSpPr>
        <p:spPr>
          <a:xfrm>
            <a:off x="1073160" y="1419120"/>
            <a:ext cx="110160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2174760" y="3235320"/>
            <a:ext cx="1619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3794040" y="3235320"/>
            <a:ext cx="16210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5415120" y="3235320"/>
            <a:ext cx="16189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3794040" y="1484280"/>
            <a:ext cx="162108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2174760" y="3105000"/>
            <a:ext cx="161928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4"/>
          <p:cNvSpPr/>
          <p:nvPr/>
        </p:nvSpPr>
        <p:spPr>
          <a:xfrm rot="16200000">
            <a:off x="1040400" y="1388160"/>
            <a:ext cx="1101600" cy="1285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415120" y="154944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5349960" y="189000"/>
            <a:ext cx="161928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8" descr="F:\ШКОЛА\КАРТИНКИ\КЛИПАРТЫ КЛАССНЫЕ !!!!!!!!!!!!!!!!!!!!!!!\sun103.png"/>
          <p:cNvPicPr/>
          <p:nvPr/>
        </p:nvPicPr>
        <p:blipFill>
          <a:blip r:embed="rId2"/>
          <a:stretch/>
        </p:blipFill>
        <p:spPr>
          <a:xfrm>
            <a:off x="6969240" y="18900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5148360" y="1341360"/>
            <a:ext cx="1429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64000" y="270828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435640" y="4221000"/>
            <a:ext cx="1429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2174760" y="25416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794040" y="25416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5415120" y="25416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2174760" y="148428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3728880" y="148428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5415120" y="148428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7"/>
          <p:cNvSpPr/>
          <p:nvPr/>
        </p:nvSpPr>
        <p:spPr>
          <a:xfrm>
            <a:off x="2563920" y="2909880"/>
            <a:ext cx="447012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1073160" y="1419120"/>
            <a:ext cx="110160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2174760" y="3235320"/>
            <a:ext cx="1619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794040" y="3235320"/>
            <a:ext cx="16210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5415120" y="3235320"/>
            <a:ext cx="16189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859200" y="3105000"/>
            <a:ext cx="161928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2303640" y="317520"/>
            <a:ext cx="162072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5478480" y="1419120"/>
            <a:ext cx="162072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8" descr="F:\ШКОЛА\КАРТИНКИ\КЛИПАРТЫ КЛАССНЫЕ !!!!!!!!!!!!!!!!!!!!!!!\sun103.png"/>
          <p:cNvPicPr/>
          <p:nvPr/>
        </p:nvPicPr>
        <p:blipFill>
          <a:blip r:embed="rId2"/>
          <a:stretch/>
        </p:blipFill>
        <p:spPr>
          <a:xfrm>
            <a:off x="6969240" y="18900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924360" y="141300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51280" y="263700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35280" y="414972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2174760" y="25416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3794040" y="25416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5415120" y="25416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2174760" y="1484280"/>
            <a:ext cx="161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3728880" y="1484280"/>
            <a:ext cx="162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5415120" y="1484280"/>
            <a:ext cx="1618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2563920" y="2909880"/>
            <a:ext cx="447012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1073160" y="1419120"/>
            <a:ext cx="1101600" cy="130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2174760" y="3235320"/>
            <a:ext cx="1619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3794040" y="3235320"/>
            <a:ext cx="16210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415120" y="3235320"/>
            <a:ext cx="16189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3859200" y="3105000"/>
            <a:ext cx="161928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303640" y="317520"/>
            <a:ext cx="162072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5478480" y="1419120"/>
            <a:ext cx="1620720" cy="13366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uk-UA" sz="8000" spc="-1" strike="noStrike">
                <a:solidFill>
                  <a:srgbClr val="00664d"/>
                </a:solidFill>
                <a:latin typeface="Arial"/>
                <a:ea typeface="MS Goth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8" descr="F:\ШКОЛА\КАРТИНКИ\КЛИПАРТЫ КЛАССНЫЕ !!!!!!!!!!!!!!!!!!!!!!!\sun103.png"/>
          <p:cNvPicPr/>
          <p:nvPr/>
        </p:nvPicPr>
        <p:blipFill>
          <a:blip r:embed="rId2"/>
          <a:stretch/>
        </p:blipFill>
        <p:spPr>
          <a:xfrm>
            <a:off x="6969240" y="18900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5148360" y="1341360"/>
            <a:ext cx="1429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364000" y="429264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076720" y="2708280"/>
            <a:ext cx="142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9360">
            <a:solidFill>
              <a:srgbClr val="00cc99"/>
            </a:solidFill>
            <a:round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,2     1, 8    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,6     8,9      8,2     7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,9     1,8     3,6      7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,2     0,7     2,2    1,4     3,2    2,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03640" y="1773360"/>
            <a:ext cx="223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3,0     3,6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372360" y="2421000"/>
            <a:ext cx="187164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6,8   6,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300720" y="3213000"/>
            <a:ext cx="22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14,4   28,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372360" y="5373720"/>
            <a:ext cx="180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,2    2,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03280" y="2852640"/>
            <a:ext cx="49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.190 № 553(3), 556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68360" y="242100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 rot="5400000">
            <a:off x="107640" y="112392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-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5400000">
            <a:off x="4464000" y="116028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8-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26920" y="3789360"/>
            <a:ext cx="503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1331640" y="4221000"/>
            <a:ext cx="136692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-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1484280"/>
            <a:ext cx="16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,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88000" y="1557360"/>
            <a:ext cx="181620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,0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92360" y="436572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,87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 rot="5400000">
            <a:off x="6948360" y="4005000"/>
            <a:ext cx="1368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7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55640" y="260280"/>
            <a:ext cx="6838920" cy="1008000"/>
            <a:chOff x="755640" y="260280"/>
            <a:chExt cx="6838920" cy="1008000"/>
          </a:xfrm>
        </p:grpSpPr>
        <p:sp>
          <p:nvSpPr>
            <p:cNvPr id="184" name=""/>
            <p:cNvSpPr txBox="1"/>
            <p:nvPr/>
          </p:nvSpPr>
          <p:spPr>
            <a:xfrm>
              <a:off x="755640" y="260280"/>
              <a:ext cx="1295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,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698560" y="404640"/>
              <a:ext cx="432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564000" y="260280"/>
              <a:ext cx="16556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,3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651280" y="620640"/>
              <a:ext cx="7812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091280" y="260280"/>
              <a:ext cx="50328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3132000" y="3429000"/>
            <a:ext cx="4334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04000" y="3429000"/>
            <a:ext cx="50328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5640" y="1413000"/>
            <a:ext cx="6695640" cy="1152360"/>
            <a:chOff x="755640" y="1413000"/>
            <a:chExt cx="6695640" cy="1152360"/>
          </a:xfrm>
        </p:grpSpPr>
        <p:sp>
          <p:nvSpPr>
            <p:cNvPr id="192" name=""/>
            <p:cNvSpPr txBox="1"/>
            <p:nvPr/>
          </p:nvSpPr>
          <p:spPr>
            <a:xfrm>
              <a:off x="755640" y="1557360"/>
              <a:ext cx="1295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,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5400000">
              <a:off x="2851200" y="1621800"/>
              <a:ext cx="144360" cy="73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708000" y="1557360"/>
              <a:ext cx="16556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,3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795640" y="1844640"/>
              <a:ext cx="7808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948360" y="1413000"/>
              <a:ext cx="5029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900000" y="3429000"/>
            <a:ext cx="2808000" cy="3284640"/>
            <a:chOff x="900000" y="3429000"/>
            <a:chExt cx="2808000" cy="3284640"/>
          </a:xfrm>
        </p:grpSpPr>
        <p:sp>
          <p:nvSpPr>
            <p:cNvPr id="198" name=""/>
            <p:cNvSpPr txBox="1"/>
            <p:nvPr/>
          </p:nvSpPr>
          <p:spPr>
            <a:xfrm>
              <a:off x="1692360" y="3429000"/>
              <a:ext cx="1295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,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00000" y="4221000"/>
              <a:ext cx="432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1692360" y="4437000"/>
              <a:ext cx="1727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,3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5400000">
              <a:off x="2447280" y="4329000"/>
              <a:ext cx="144720" cy="23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1619280" y="5661000"/>
              <a:ext cx="187308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 0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3429000"/>
            <a:ext cx="2881440" cy="3284640"/>
            <a:chOff x="4572000" y="3429000"/>
            <a:chExt cx="2881440" cy="3284640"/>
          </a:xfrm>
        </p:grpSpPr>
        <p:sp>
          <p:nvSpPr>
            <p:cNvPr id="204" name=""/>
            <p:cNvSpPr txBox="1"/>
            <p:nvPr/>
          </p:nvSpPr>
          <p:spPr>
            <a:xfrm rot="5400000">
              <a:off x="4867920" y="4069440"/>
              <a:ext cx="144360" cy="73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076720" y="3429000"/>
              <a:ext cx="2376720" cy="3284640"/>
              <a:chOff x="5076720" y="3429000"/>
              <a:chExt cx="2376720" cy="3284640"/>
            </a:xfrm>
          </p:grpSpPr>
          <p:sp>
            <p:nvSpPr>
              <p:cNvPr id="206" name=""/>
              <p:cNvSpPr txBox="1"/>
              <p:nvPr/>
            </p:nvSpPr>
            <p:spPr>
              <a:xfrm>
                <a:off x="5364000" y="3429000"/>
                <a:ext cx="129564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5,7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5435640" y="4437000"/>
                <a:ext cx="172872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2,3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 rot="5400000">
                <a:off x="6192720" y="4329000"/>
                <a:ext cx="144720" cy="2376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5292720" y="5661000"/>
                <a:ext cx="1873080" cy="10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3 3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10" name=""/>
          <p:cNvSpPr txBox="1"/>
          <p:nvPr/>
        </p:nvSpPr>
        <p:spPr>
          <a:xfrm>
            <a:off x="2195640" y="64771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96000" y="647712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2700360" y="2492280"/>
            <a:ext cx="3166920" cy="2673360"/>
            <a:chOff x="2700360" y="2492280"/>
            <a:chExt cx="3166920" cy="2673360"/>
          </a:xfrm>
        </p:grpSpPr>
        <p:sp>
          <p:nvSpPr>
            <p:cNvPr id="213" name=""/>
            <p:cNvSpPr txBox="1"/>
            <p:nvPr/>
          </p:nvSpPr>
          <p:spPr>
            <a:xfrm>
              <a:off x="3492360" y="2492280"/>
              <a:ext cx="2305080" cy="76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,04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700360" y="3213000"/>
              <a:ext cx="43164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364000" y="3284640"/>
              <a:ext cx="50328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5400000">
              <a:off x="4505760" y="3062880"/>
              <a:ext cx="71280" cy="25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276720" y="4508640"/>
              <a:ext cx="25905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180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03280" y="907920"/>
            <a:ext cx="6480360" cy="841680"/>
            <a:chOff x="1403280" y="907920"/>
            <a:chExt cx="6480360" cy="841680"/>
          </a:xfrm>
        </p:grpSpPr>
        <p:sp>
          <p:nvSpPr>
            <p:cNvPr id="219" name=""/>
            <p:cNvSpPr txBox="1"/>
            <p:nvPr/>
          </p:nvSpPr>
          <p:spPr>
            <a:xfrm>
              <a:off x="1403280" y="981000"/>
              <a:ext cx="2305080" cy="76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,04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140360" y="1052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076720" y="907920"/>
              <a:ext cx="50328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156360" y="1125360"/>
              <a:ext cx="6476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7380360" y="907920"/>
              <a:ext cx="503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360" y="5445000"/>
            <a:ext cx="2530440" cy="1150920"/>
            <a:chOff x="3276360" y="5445000"/>
            <a:chExt cx="2530440" cy="1150920"/>
          </a:xfrm>
        </p:grpSpPr>
        <p:sp>
          <p:nvSpPr>
            <p:cNvPr id="225" name=""/>
            <p:cNvSpPr txBox="1"/>
            <p:nvPr/>
          </p:nvSpPr>
          <p:spPr>
            <a:xfrm rot="5400000">
              <a:off x="4505760" y="4215600"/>
              <a:ext cx="71640" cy="25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276720" y="5734080"/>
              <a:ext cx="208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18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356000" y="6237360"/>
              <a:ext cx="14292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4284720" y="5013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340000" y="1052640"/>
            <a:ext cx="4608360" cy="1871640"/>
            <a:chOff x="2340000" y="1052640"/>
            <a:chExt cx="4608360" cy="1871640"/>
          </a:xfrm>
        </p:grpSpPr>
        <p:sp>
          <p:nvSpPr>
            <p:cNvPr id="230" name=""/>
            <p:cNvSpPr txBox="1"/>
            <p:nvPr/>
          </p:nvSpPr>
          <p:spPr>
            <a:xfrm>
              <a:off x="2340000" y="1052640"/>
              <a:ext cx="2087640" cy="93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,1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4789440" y="1052640"/>
              <a:ext cx="71640" cy="18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5400000">
              <a:off x="5869080" y="979560"/>
              <a:ext cx="71280" cy="20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581800" y="1124280"/>
              <a:ext cx="57600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95640" y="836640"/>
            <a:ext cx="115236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47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867280" y="2924280"/>
            <a:ext cx="123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340000" y="184464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48360" y="2205000"/>
            <a:ext cx="401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 rot="5400000">
            <a:off x="3418920" y="1773000"/>
            <a:ext cx="71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 rot="5400000">
            <a:off x="3852360" y="4002840"/>
            <a:ext cx="71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 rot="5400000">
            <a:off x="1908000" y="1627920"/>
            <a:ext cx="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87640" y="292428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59280" y="3789360"/>
            <a:ext cx="71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56360" y="220500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2592000" y="3463200"/>
            <a:ext cx="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564000" y="486900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64000" y="573408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 rot="5400000">
            <a:off x="3238920" y="5480280"/>
            <a:ext cx="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5400000">
            <a:off x="3994560" y="6238080"/>
            <a:ext cx="7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32720" y="2205000"/>
            <a:ext cx="385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62920" y="639000"/>
            <a:ext cx="562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2 +1,8 = 5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+1,0 8 = 4 0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 7 – 4 = 1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 3 – 2 7 = 60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771640" y="1341360"/>
            <a:ext cx="1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659640" y="2637000"/>
            <a:ext cx="14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16360" y="4076640"/>
            <a:ext cx="14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11640" y="5950080"/>
            <a:ext cx="14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62880" y="1413720"/>
            <a:ext cx="696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,27 х 35 = 44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2,7 х 35 = 44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,127 х 35 = 44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77080" y="2205000"/>
            <a:ext cx="2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08720" y="3141720"/>
            <a:ext cx="2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732720" y="4221000"/>
            <a:ext cx="21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0920" y="5994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4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8094E-006 L -0.07066 2.58094E-006 E">
                                      <p:cBhvr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4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503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4572000" cy="2278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572000" y="2421000"/>
            <a:ext cx="4572000" cy="2355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0" y="4508640"/>
            <a:ext cx="4427640" cy="234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4500720" y="4437000"/>
            <a:ext cx="464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0" y="3857760"/>
            <a:ext cx="4214880" cy="3000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787280" y="4292640"/>
            <a:ext cx="345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Самарканд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уч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9840" y="1700280"/>
            <a:ext cx="835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-Каши Джемшид ибн Масуд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 и астро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ркандской обсерватории Улугб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420-1430 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71720" y="2357280"/>
            <a:ext cx="2833560" cy="2864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98920" y="5589720"/>
            <a:ext cx="30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он Сте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64720" y="2054160"/>
            <a:ext cx="344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Фламанд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инженер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учё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2:51:47Z</dcterms:created>
  <dc:creator>User</dc:creator>
  <dc:description/>
  <dc:language>en-US</dc:language>
  <cp:lastModifiedBy>User</cp:lastModifiedBy>
  <dcterms:modified xsi:type="dcterms:W3CDTF">2012-02-20T18:35:37Z</dcterms:modified>
  <cp:revision>11</cp:revision>
  <dc:subject/>
  <dc:title>Слайд 1</dc:title>
</cp:coreProperties>
</file>