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AD7-44E3-4CB8-B17F-A079875E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5AC-A092-4426-B6AF-2F6A4773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4A3-D70E-47AA-A106-26C7B8B0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6F1-65A4-4325-802C-E5EB1ED8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36BB-9C41-4295-85E7-281CCF94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BCB-B139-4A2A-B4F6-A52798C3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314B-EE2D-42CD-BC72-6DADD89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ABD7-646C-4DB5-837C-CAD09598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8C31-D110-4E66-B487-586FD6B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9EB-1F90-487D-886E-9D0FD2E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871D-202C-4E76-88A4-E21BD56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FE7-BA2B-42E2-97F3-7E3AC62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A22C-F446-4369-959D-54DEC75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FCF4-3FFD-4811-86FF-9364956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26A5-4ED4-48A8-842F-868A3C0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FF60-0533-4D43-B6CF-3EBBBE34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26FC-6523-4BF7-829F-D412BA42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9A3A-9B3D-46F6-A407-0097568A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294A-2E9A-4E4E-B83F-86A86F1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42A4-B52A-48E6-A54A-CB98FC81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C8B3-4823-4EC6-8CD9-B9CF3D7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F2B2-3523-496D-A92E-FE660EB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5EE-0A5C-464E-9EFC-092722A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92706-6DBE-4681-9BFE-36433C3E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FB91-23A3-4527-A010-5D747D55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2BF4-ED57-40F0-A900-2212029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8C1F-7391-480E-AE4B-1ECC7FB8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1EEA-EA20-4686-80A4-39E58CAD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7171-09D3-4C2E-BD26-0FB511A9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2D9C-F4C3-4C36-B112-021A2644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190E-A6D2-49D0-A731-16AB7B29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9E815-7434-4E9F-9318-3D869D33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028A-ACAB-4487-A531-29933986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B93-3924-401A-9C18-50A7141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32EE-3E72-460D-BFE8-BE65160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BC8AD-5DA3-40F9-9EBE-E680A72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1B17-206B-4EB1-A407-9FAB8F3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2D57-8C18-4B3F-9F28-2183D02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F017-B9C7-4935-8310-D442D43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A0B2-AC52-496B-8025-A3725EF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964B-1473-4028-8333-D1CA6DEF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D112-49BA-4174-899C-FE8C786E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4216A-7B9A-4956-8B81-9F43D420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3BA-B983-4373-BF91-E4A7647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47F-4750-437A-AC5A-71BD867D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968-D71A-44AE-AF5B-5C66803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CD7-7F23-4568-8F93-97621E6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E23-221B-45EC-B13A-A1373E0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8C1-ECD3-4418-A021-896BF90216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1959-53BF-4EC4-92B1-0CFE0AB7C9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58B6-5223-4E65-8743-2041799F905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8572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8572b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8572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8572b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BE8C-5262-4213-B415-F9E5684BEEC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9152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a0003"/>
                </a:solidFill>
                <a:latin typeface="Arial Black"/>
              </a:rPr>
              <a:t>Клавиатура. Клавиши управления курсором.</a:t>
            </a:r>
            <a:br>
              <a:rPr sz="4000"/>
            </a:b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49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Клавиши управления курсором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щают курсор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1916640"/>
            <a:ext cx="85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  <a:ea typeface="Arial"/>
              </a:rPr>
              <a:t>                    </a:t>
            </a: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на 1 позицию (строку);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в начало строки;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в конец строки;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на страницу вверх;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58572b"/>
                </a:solidFill>
                <a:latin typeface="Arial"/>
                <a:ea typeface="Arial"/>
              </a:rPr>
              <a:t>на страницу вниз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844640"/>
            <a:ext cx="71928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50920" y="1844640"/>
            <a:ext cx="3023640" cy="649080"/>
            <a:chOff x="250920" y="1844640"/>
            <a:chExt cx="3023640" cy="649080"/>
          </a:xfrm>
        </p:grpSpPr>
        <p:sp>
          <p:nvSpPr>
            <p:cNvPr id="418" name=""/>
            <p:cNvSpPr/>
            <p:nvPr/>
          </p:nvSpPr>
          <p:spPr>
            <a:xfrm flipV="1">
              <a:off x="250920" y="205992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5640" y="1844640"/>
              <a:ext cx="718920" cy="649080"/>
            </a:xfrm>
            <a:prstGeom prst="bevel">
              <a:avLst>
                <a:gd name="adj" fmla="val 12500"/>
              </a:avLst>
            </a:prstGeom>
            <a:solidFill>
              <a:srgbClr val="a6a2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90560" y="1844640"/>
              <a:ext cx="718560" cy="649080"/>
            </a:xfrm>
            <a:prstGeom prst="bevel">
              <a:avLst>
                <a:gd name="adj" fmla="val 12500"/>
              </a:avLst>
            </a:prstGeom>
            <a:solidFill>
              <a:srgbClr val="a6a2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6920" y="1844640"/>
              <a:ext cx="718560" cy="649080"/>
            </a:xfrm>
            <a:prstGeom prst="bevel">
              <a:avLst>
                <a:gd name="adj" fmla="val 12500"/>
              </a:avLst>
            </a:prstGeom>
            <a:solidFill>
              <a:srgbClr val="a6a2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042560" y="220500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0920" y="206028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98560" y="2131920"/>
              <a:ext cx="3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8572b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826920" y="2708280"/>
            <a:ext cx="71928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Hom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26920" y="3716280"/>
            <a:ext cx="71928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5877000"/>
            <a:ext cx="71928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Pag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Down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4724280"/>
            <a:ext cx="71928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Pag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Up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7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0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1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589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7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0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4036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8000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1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5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007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4292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84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04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3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4328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8436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2400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364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8472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472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2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6400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0364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7236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1200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04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7236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12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172360" y="3716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3716280"/>
            <a:ext cx="649440" cy="2890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17236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1200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5164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532720" y="2565360"/>
            <a:ext cx="287280" cy="64764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532720" y="3284640"/>
            <a:ext cx="28728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43640" y="3357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4364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8472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0400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692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8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8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2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0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4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6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2764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6728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0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2436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6400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364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4328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4292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0328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364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48436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2400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8472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280" y="3213000"/>
            <a:ext cx="72072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28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0000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58920" y="3645000"/>
            <a:ext cx="2376360" cy="288720"/>
          </a:xfrm>
          <a:prstGeom prst="beve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4036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0836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3640" y="3645000"/>
            <a:ext cx="43200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43280" y="3213000"/>
            <a:ext cx="79236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865440" cy="7714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684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03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5600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87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2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48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1636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51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472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1964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847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0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2472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8508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17080" y="1773360"/>
            <a:ext cx="21564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979640" y="47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КЛАВИАТУРА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4508640"/>
            <a:ext cx="216000" cy="21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00000" y="4869000"/>
            <a:ext cx="216000" cy="215640"/>
          </a:xfrm>
          <a:prstGeom prst="rect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00000" y="6021360"/>
            <a:ext cx="216000" cy="216000"/>
          </a:xfrm>
          <a:prstGeom prst="rect">
            <a:avLst/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00000" y="5661000"/>
            <a:ext cx="216000" cy="216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5300640"/>
            <a:ext cx="216000" cy="216000"/>
          </a:xfrm>
          <a:prstGeom prst="rect">
            <a:avLst/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4365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Функциональные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332000" y="472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Символьные (алфавитно-цифровые)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32000" y="5157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Специальные 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551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Клавиши управления курсором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32000" y="5877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Дополнительные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2852640"/>
            <a:ext cx="57636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9280" y="2492280"/>
            <a:ext cx="43344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79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532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72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12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51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1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1"/>
          <p:cNvSpPr/>
          <p:nvPr/>
        </p:nvSpPr>
        <p:spPr>
          <a:xfrm flipV="1" rot="10800000">
            <a:off x="784080" y="109080"/>
            <a:ext cx="736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Arial"/>
                <a:ea typeface="Times New Roman"/>
              </a:rPr>
              <a:t>Назови клавиши, которые необходимо нажать, чтобы из исходных слов получились новые (местоположение курсора указано): </a:t>
            </a:r>
            <a:endParaRPr b="0" lang="en-US" sz="3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49" name="Прямоугольник 2"/>
          <p:cNvSpPr/>
          <p:nvPr/>
        </p:nvSpPr>
        <p:spPr>
          <a:xfrm>
            <a:off x="539640" y="2997360"/>
            <a:ext cx="82090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8572b"/>
                </a:solidFill>
                <a:latin typeface="Arial"/>
                <a:ea typeface="Times New Roman"/>
              </a:rPr>
              <a:t>ЗАД|АЧА - ЗАДАЧКА </a:t>
            </a:r>
            <a:endParaRPr b="0" lang="en-US" sz="4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8572b"/>
                </a:solidFill>
                <a:latin typeface="Arial"/>
                <a:ea typeface="Times New Roman"/>
              </a:rPr>
              <a:t>СТОЛ| - СТУЛ </a:t>
            </a:r>
            <a:endParaRPr b="0" lang="en-US" sz="4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8572b"/>
                </a:solidFill>
                <a:latin typeface="Arial"/>
                <a:ea typeface="Times New Roman"/>
              </a:rPr>
              <a:t>|ФОНАРЬ - ЗВОНАРЬ </a:t>
            </a:r>
            <a:endParaRPr b="0" lang="en-US" sz="4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8572b"/>
                </a:solidFill>
                <a:latin typeface="Arial"/>
                <a:ea typeface="Times New Roman"/>
              </a:rPr>
              <a:t>КО|РОНА - ВОРОН</a:t>
            </a:r>
            <a:r>
              <a:rPr b="1" lang="ru-RU" sz="4000" spc="-1" strike="noStrike">
                <a:solidFill>
                  <a:srgbClr val="58572b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550" name="Picture 2" descr="C:\Program Files\Microsoft Office\MEDIA\OFFICE12\Lines\BD14710_.gif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142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C:\Program Files\Microsoft Office\MEDIA\OFFICE12\Lines\BD14710_.gif"/>
          <p:cNvPicPr/>
          <p:nvPr/>
        </p:nvPicPr>
        <p:blipFill>
          <a:blip r:embed="rId2"/>
          <a:stretch/>
        </p:blipFill>
        <p:spPr>
          <a:xfrm>
            <a:off x="8715240" y="357120"/>
            <a:ext cx="103320" cy="6143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C:\Program Files\Microsoft Office\MEDIA\OFFICE12\Lines\BD14710_.gif"/>
          <p:cNvPicPr/>
          <p:nvPr/>
        </p:nvPicPr>
        <p:blipFill>
          <a:blip r:embed="rId3"/>
          <a:stretch/>
        </p:blipFill>
        <p:spPr>
          <a:xfrm>
            <a:off x="428760" y="357120"/>
            <a:ext cx="101520" cy="6143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C:\Program Files\Microsoft Office\MEDIA\OFFICE12\Lines\BD14710_.gif"/>
          <p:cNvPicPr/>
          <p:nvPr/>
        </p:nvPicPr>
        <p:blipFill>
          <a:blip r:embed="rId4"/>
          <a:stretch/>
        </p:blipFill>
        <p:spPr>
          <a:xfrm>
            <a:off x="357120" y="6357960"/>
            <a:ext cx="857268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и в тетрад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47640" y="3170160"/>
            <a:ext cx="612000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я узн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9797"/>
                </a:solidFill>
                <a:latin typeface="Arial Black"/>
              </a:rPr>
              <a:t>План урока.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Arial"/>
              </a:rPr>
              <a:t>Организационный момент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Arial"/>
              </a:rPr>
              <a:t>Проверка домашнего задания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Arial"/>
              </a:rPr>
              <a:t>Теоретическая часть урока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Arial"/>
              </a:rPr>
              <a:t>Практическая часть урока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Arial"/>
              </a:rPr>
              <a:t>Итоги урока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30592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a0003"/>
                </a:solidFill>
                <a:latin typeface="Tahoma"/>
              </a:rPr>
              <a:t>Машины должны работать. Люди должны думать.</a:t>
            </a:r>
            <a:r>
              <a:rPr b="0" lang="ru-RU" sz="4000" spc="-1" strike="noStrike">
                <a:solidFill>
                  <a:srgbClr val="58572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1773360"/>
            <a:ext cx="7704000" cy="208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572b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Клавиатура</a:t>
            </a:r>
            <a:r>
              <a:rPr b="0" lang="ru-RU" sz="4000" spc="-1" strike="noStrike">
                <a:solidFill>
                  <a:srgbClr val="58572b"/>
                </a:solidFill>
                <a:latin typeface="Tahoma"/>
              </a:rPr>
              <a:t> – это устройство для ввода информации и управления компьютером.</a:t>
            </a:r>
            <a:endParaRPr b="0" lang="en-US" sz="4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7236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1200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1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7236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12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371628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51640" y="3716280"/>
            <a:ext cx="649440" cy="2890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7236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1200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2720" y="2565360"/>
            <a:ext cx="287280" cy="64764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32720" y="3284640"/>
            <a:ext cx="28728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3357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0400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2764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400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472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213000"/>
            <a:ext cx="72072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3645000"/>
            <a:ext cx="2376360" cy="288720"/>
          </a:xfrm>
          <a:prstGeom prst="beve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036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3645000"/>
            <a:ext cx="43200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3213000"/>
            <a:ext cx="79236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865080" cy="771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4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3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1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8472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1964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2472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508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17080" y="1773360"/>
            <a:ext cx="21564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979640" y="47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КЛАВИАТУРА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4508640"/>
            <a:ext cx="216000" cy="21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4869000"/>
            <a:ext cx="216000" cy="215640"/>
          </a:xfrm>
          <a:prstGeom prst="rect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6021360"/>
            <a:ext cx="216000" cy="216000"/>
          </a:xfrm>
          <a:prstGeom prst="rect">
            <a:avLst/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5661000"/>
            <a:ext cx="216000" cy="216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5300640"/>
            <a:ext cx="216000" cy="216000"/>
          </a:xfrm>
          <a:prstGeom prst="rect">
            <a:avLst/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4365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Функциональные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472428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Символьные (алфавитно-цифровые)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5157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Специальные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551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Клавиши управления курсором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5877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imes New Roman"/>
              </a:rPr>
              <a:t>Дополнительные клавиши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2852640"/>
            <a:ext cx="57636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2492280"/>
            <a:ext cx="43344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172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3216240"/>
            <a:ext cx="614520" cy="423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1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2600" y="3216240"/>
            <a:ext cx="615960" cy="4255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2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76320" y="3219480"/>
            <a:ext cx="590760" cy="4204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23960" y="3222720"/>
            <a:ext cx="623880" cy="41904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4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11560" y="3222720"/>
            <a:ext cx="625320" cy="4204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5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92520" y="3216240"/>
            <a:ext cx="628920" cy="41904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83360" y="3216240"/>
            <a:ext cx="672840" cy="4222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8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0200" y="3216240"/>
            <a:ext cx="685800" cy="4269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9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43880" y="3216240"/>
            <a:ext cx="672840" cy="4222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59560" y="3216240"/>
            <a:ext cx="685800" cy="41904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 11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94680" y="3216240"/>
            <a:ext cx="650880" cy="4158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12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3213000"/>
            <a:ext cx="630000" cy="4255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6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58920" y="54936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Функциональные клавиши</a:t>
            </a:r>
            <a:endParaRPr b="1" i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68360" y="4365000"/>
            <a:ext cx="2880000" cy="647640"/>
          </a:xfrm>
          <a:prstGeom prst="wedgeEllipseCallout">
            <a:avLst>
              <a:gd name="adj1" fmla="val -97245"/>
              <a:gd name="adj2" fmla="val 14166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зов справки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2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8900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Символьные (алфавитно-цифровые)</a:t>
            </a:r>
            <a:endParaRPr b="1" i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клавиши</a:t>
            </a:r>
            <a:endParaRPr b="1" i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23" name=""/>
          <p:cNvSpPr/>
          <p:nvPr/>
        </p:nvSpPr>
        <p:spPr>
          <a:xfrm>
            <a:off x="709308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?</a:t>
            </a: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.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Ю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4836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Ь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364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‘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Э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8800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3564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K 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8472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3272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;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Ж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4036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328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9564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Ф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Ъ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836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572b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Ш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Щ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4364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З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[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Й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800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364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2400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#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№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@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«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4600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484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`</a:t>
            </a: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Ё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6400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&amp; 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1964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^</a:t>
            </a: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164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0872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5964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_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1200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8572b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672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Arial"/>
              </a:rPr>
              <a:t>\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187280" y="476280"/>
            <a:ext cx="741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ae88"/>
                  </a:solidFill>
                  <a:miter/>
                </a:ln>
                <a:solidFill>
                  <a:srgbClr val="9a4d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Специальные клавиши</a:t>
            </a:r>
            <a:endParaRPr b="1" i="1" lang="en-US" sz="2400" spc="1" strike="noStrike">
              <a:ln w="9360">
                <a:solidFill>
                  <a:srgbClr val="ffae88"/>
                </a:solidFill>
                <a:miter/>
              </a:ln>
              <a:solidFill>
                <a:srgbClr val="9a4d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1871640" cy="16682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124000" y="378936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Arial"/>
              </a:rPr>
              <a:t>Esc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386064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6000" y="515772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Arial"/>
              </a:rPr>
              <a:t>Alt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24360" y="249228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5229360"/>
            <a:ext cx="143964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Arial"/>
              </a:rPr>
              <a:t>Caps Lock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484360" y="2924280"/>
            <a:ext cx="71928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Insert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292428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Hom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292428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Pag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Up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378936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Pag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Down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78936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84360" y="3789360"/>
            <a:ext cx="71928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Delet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65300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84720" y="544500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19640" y="544500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6000" y="544500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116000" y="404640"/>
            <a:ext cx="734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Клавиши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управления курсором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780000" y="4869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700360" y="5734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8000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57340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39640" y="476280"/>
            <a:ext cx="83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70cc7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Дополнительные клавиши</a:t>
            </a:r>
            <a:endParaRPr b="1" i="1" lang="en-US" sz="2400" spc="1" strike="noStrike">
              <a:ln w="9360">
                <a:solidFill>
                  <a:srgbClr val="70cc7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92" name=""/>
          <p:cNvSpPr/>
          <p:nvPr/>
        </p:nvSpPr>
        <p:spPr>
          <a:xfrm>
            <a:off x="2411280" y="1844640"/>
            <a:ext cx="79236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Tahoma"/>
              </a:rPr>
              <a:t>Num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8572b"/>
                </a:solidFill>
                <a:latin typeface="Tahoma"/>
              </a:rPr>
              <a:t>Lock</a:t>
            </a:r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184464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27640" y="184464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19640" y="357336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19640" y="270828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357336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7640" y="270828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PgUp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3573360"/>
            <a:ext cx="79236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11280" y="2708280"/>
            <a:ext cx="79236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Home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19640" y="443700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11280" y="4437000"/>
            <a:ext cx="79236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43700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72b"/>
                </a:solidFill>
                <a:latin typeface="Tahoma"/>
              </a:rPr>
              <a:t>PgDn</a:t>
            </a:r>
            <a:endParaRPr b="0" lang="en-US" sz="1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5300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72b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72b"/>
                </a:solidFill>
                <a:latin typeface="Tahoma"/>
              </a:rPr>
              <a:t>In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427640" y="5300640"/>
            <a:ext cx="79200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72b"/>
                </a:solidFill>
                <a:latin typeface="Tahoma"/>
              </a:rPr>
              <a:t>Del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64000" y="1844640"/>
            <a:ext cx="792360" cy="72072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572b"/>
                </a:solidFill>
                <a:latin typeface="Tahoma"/>
              </a:rPr>
              <a:t>_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64000" y="2708280"/>
            <a:ext cx="792360" cy="158436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72b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64000" y="4437000"/>
            <a:ext cx="792360" cy="1584360"/>
          </a:xfrm>
          <a:prstGeom prst="bevel">
            <a:avLst>
              <a:gd name="adj" fmla="val 12500"/>
            </a:avLst>
          </a:prstGeom>
          <a:solidFill>
            <a:srgbClr val="eed41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72b"/>
                </a:solidFill>
                <a:latin typeface="Tahoma"/>
              </a:rPr>
              <a:t>Enter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85128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700360" y="400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400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52:34Z</dcterms:created>
  <dc:creator>User</dc:creator>
  <dc:description/>
  <cp:keywords/>
  <dc:language>en-US</dc:language>
  <cp:lastModifiedBy>User</cp:lastModifiedBy>
  <dcterms:modified xsi:type="dcterms:W3CDTF">2011-02-01T16:12:21Z</dcterms:modified>
  <cp:revision>11</cp:revision>
  <dc:subject/>
  <dc:title>Клавиатура. Клавиши управления курсором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