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0CC-D185-4152-88DF-5BDB7FFD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1A7-5A97-45B2-9C4F-2B5707B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FD4-87FD-460B-B495-5B022743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05A-29F4-4F4F-9559-D7BC32E1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F745-C5FA-4A9E-9A8C-9381A94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B2F-96E7-45B0-BD55-2FA457E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603-73E9-4D2E-8F34-F20EC88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B973-6649-4CC4-A11D-9A804EA6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D68-DE34-47B3-A296-4716D615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E1A7-20DE-426F-9521-065F48E8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5BE-9C47-4569-90F9-32DEA5B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2FC-D0E6-41F3-B052-70612C0A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D256-791C-411D-A3C3-AAD5828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C8A2-5F98-49E5-9C18-95707A02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C245-09AB-4926-9A8B-DA16804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837B-47DB-48CF-9E99-050B8EE4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21CE-B9DE-475B-AFCB-EF316A97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183-21F5-4139-97F7-0CF3FE1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007-7963-41B2-BB62-91CFFD2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E93-EE33-499E-8E04-DC8761A7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7B5-B496-4BD2-9D03-B75BFE8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909-69B8-4B41-8538-61ED61A9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C3E-917C-44F2-ADF0-D70D507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429-8887-4B98-A782-0693662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1A7-1452-45D1-A362-358171C9D65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C889-3534-415D-B1B8-8C4E3CF6C02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ПОЛЕОН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НАП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472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7960" y="2060280"/>
            <a:ext cx="38098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полеон Бонапарт, история и факт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зентацию подготовил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улаков Дани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 «в»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МКОУ ГИМНАЗ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92200" y="865080"/>
            <a:ext cx="60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то такой Наполеон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66229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Его имя, безусловно, знакомо каждому из нас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полеон Бонапарт появился на свет 15.08.1769 на Корсике в дворянской семье. Он был вторым сыном адвоката Карло Буонапарте и Летиции Рамолино. В 1779 году Наполеон поступил в военную академию в Бриенне. Сначала его привлекала морская служба, но затем он отдал предпочтение артиллерии. В 1784 году Наполеона перевели в парижскую Военную школу. Бонапарте проявил себя средним учеником и закончил школу по отметкам сорок вторым из 130 обучавшихся. Получив звание младшего лейтенанта артиллерии, Наполеон был направлен в Валанс на юг Франц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одители Наполео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800" y="1557360"/>
            <a:ext cx="3809880" cy="4538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098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чало карьер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кончив военную школу, он стал быстро делать карьеру и в 1796 году, уже был командующим французской армией в Италии. В 1794 году Наполеон попал под подозрение и даже был арестован. Но  потом его восстановили в звании и отправили с экспедицией на Корсику. В результате военного переворота в ноябре 1799, первым консулом стал именно Наполеон - биография его значительно улучшилась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алее в его пути наблюдаются в основном победы - австрийцев при Маренго, британцев, австрийцев, всем этим руководил непосредственно Наполеон (биография этого человека продолжала улучшаться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ичная жиз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7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9 марта 1796 в Париже Наполеон женился на Жозефина де Богарне  императрице французов. Детей не имели. В 1810 году завершил свой бездетный брак с Жозефиной и женился на дочери австрийского императора в надежде иметь наследника. Через год у него родился сын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иход к власт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1804 году Наполеон провозгласил себя императором французов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1800 г Был учреждён государственный Французский банк, созданный Наполеоном,  для хранения золотого запаса и эмиссии бумажных денег . 28 марта 1803 года были ликвидированы бумажные деньги: денежной единицей становится франк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мерть Наполео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819 года он болел всё чаще. Наполеон часто жаловался на боль в правом боку, у него опухали ноги. Его лечащий врач ставил диагноз «гепатит» Наполеон подозревал, что это рак — болезнь, от которой умер его отец. В марте 1821 года состояние Наполеона ухудшилось настолько, что он уже не сомневался в близкой смерти. 13 апреля 1821 года Наполеон продиктовал своё завещание. Он уже не мог двигаться без посторонней помощи, боли стали резкими и мучительными. Наполеон Бонапарт умер в субботу, 5 мая 1821 года, в 17 часов 49 минут. Он был похоронен недалеко от Лонгвуда в местности, носящей название «Долина герани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робница Наполеона в Доме инвалид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полеон в филател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4648320" y="4114800"/>
          <a:ext cx="38098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11480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ичности Наполеона Бонапарта и его эпохе посвящены сотни почтовых марок десятков стран всех континентов: Европы, Америки, Африки (прежде всего франкофонной), Азии, Океании и даже Антарктид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первые образ Наполеона появился на почтовой миниатюре Франции 1951 год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643280" y="1981080"/>
            <a:ext cx="3816360" cy="3824280"/>
            <a:chOff x="4643280" y="1981080"/>
            <a:chExt cx="3816360" cy="3824280"/>
          </a:xfrm>
        </p:grpSpPr>
        <p:pic>
          <p:nvPicPr>
            <p:cNvPr id="375" name="" descr=""/>
            <p:cNvPicPr/>
            <p:nvPr/>
          </p:nvPicPr>
          <p:blipFill>
            <a:blip r:embed="rId4"/>
            <a:stretch/>
          </p:blipFill>
          <p:spPr>
            <a:xfrm>
              <a:off x="4643280" y="1981080"/>
              <a:ext cx="3816360" cy="38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 txBox="1"/>
            <p:nvPr/>
          </p:nvSpPr>
          <p:spPr>
            <a:xfrm>
              <a:off x="4643280" y="1981080"/>
              <a:ext cx="3816360" cy="38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3399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42:05Z</dcterms:created>
  <dc:creator>Admin</dc:creator>
  <dc:description/>
  <dc:language>en-US</dc:language>
  <cp:lastModifiedBy>Admin</cp:lastModifiedBy>
  <dcterms:modified xsi:type="dcterms:W3CDTF">2005-12-31T23:00:06Z</dcterms:modified>
  <cp:revision>2</cp:revision>
  <dc:subject/>
  <dc:title>НАПОЛЕОН БОНАПРТ</dc:title>
</cp:coreProperties>
</file>