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8C1-C8E7-488E-A692-2E9A57E2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E54-6E0D-490F-B372-CF29069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867-4E8F-405A-9DD5-51918251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9A2-7F01-48F0-8FC0-5A9546B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BED-CAEE-4E88-B3A6-E10E8D7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4BBA-E890-4A8C-A3B7-A2517672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0B9-43DE-4F08-A31F-DCC2912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E933-A6A6-4252-9116-97982F0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63A3-96A1-4FB7-ACF7-18BD9DA0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DC3-B641-41BF-AC18-623CA455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4BE-5725-48EF-AF6F-99D0A34F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258-63D8-4F79-8630-E7C2500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9061-99EF-4381-8396-8875DC9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9F6-B393-469E-911B-1D668B5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52A7-ED74-47F2-9450-EECA6D8C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A463-A5D8-4552-B25F-CE5A611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435C-9593-487C-9FA4-E84D3CB8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641-2209-4990-B859-30D2771A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2D2-FD50-47A0-A919-CD17548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1BF-B2DD-4346-8D31-70AD08FC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B66-22EF-4733-B33F-2805A24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5AE-80C4-42A8-9304-198C77F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4B5-F596-4F96-A151-45EEBA9F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A81-7FAD-4CF9-A71D-E782424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CEB9-219F-4C49-A7CB-6136129A12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407-C915-4C2E-BF03-5F1EAD12F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овтори орфографию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ый материал для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 классов (экстерн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00000">
            <a:off x="324000" y="92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«МОУ ВСОШ» Шишаева Н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Правописание чередующихся гласных зависит от </a:t>
            </a:r>
            <a:r>
              <a:rPr b="0" lang="en-US" sz="3400" spc="-1" strike="noStrike">
                <a:solidFill>
                  <a:srgbClr val="990033"/>
                </a:solidFill>
                <a:latin typeface="Times New Roman"/>
              </a:rPr>
              <a:t>ударения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ударения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100" spc="-1" strike="noStrike">
                <a:solidFill>
                  <a:srgbClr val="b2b2b2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b2b2b2"/>
                </a:solidFill>
                <a:latin typeface="Arial"/>
              </a:rPr>
              <a:t>Гор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еть, за</a:t>
            </a:r>
            <a:r>
              <a:rPr b="1" lang="ru-RU" sz="2100" spc="-1" strike="noStrike">
                <a:solidFill>
                  <a:srgbClr val="b2b2b2"/>
                </a:solidFill>
                <a:latin typeface="Arial"/>
              </a:rPr>
              <a:t>гор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кл.: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гар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уда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ru-RU" sz="1800" spc="-1" strike="noStrike">
                <a:solidFill>
                  <a:srgbClr val="d4cc2c"/>
                </a:solidFill>
                <a:latin typeface="Arial"/>
              </a:rPr>
              <a:t>кло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ься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100" spc="-1" strike="noStrike">
                <a:solidFill>
                  <a:srgbClr val="d4cc2c"/>
                </a:solidFill>
                <a:latin typeface="Arial"/>
              </a:rPr>
              <a:t>клон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ть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33cc"/>
                </a:solidFill>
                <a:latin typeface="Arial"/>
              </a:rPr>
              <a:t>                                      </a:t>
            </a:r>
            <a:r>
              <a:rPr b="1" lang="ru-RU" sz="2100" spc="-1" strike="noStrike">
                <a:solidFill>
                  <a:srgbClr val="ff33cc"/>
                </a:solidFill>
                <a:latin typeface="Arial"/>
              </a:rPr>
              <a:t>Зар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я, о</a:t>
            </a:r>
            <a:r>
              <a:rPr b="1" lang="ru-RU" sz="2100" spc="-1" strike="noStrike">
                <a:solidFill>
                  <a:srgbClr val="ff33cc"/>
                </a:solidFill>
                <a:latin typeface="Arial"/>
              </a:rPr>
              <a:t>зар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я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33cc"/>
                </a:solidFill>
                <a:latin typeface="Arial"/>
              </a:rPr>
              <a:t>                                                    </a:t>
            </a:r>
            <a:r>
              <a:rPr b="1" lang="ru-RU" sz="2100" spc="-1" strike="noStrike">
                <a:solidFill>
                  <a:srgbClr val="ff33cc"/>
                </a:solidFill>
                <a:latin typeface="Arial"/>
              </a:rPr>
              <a:t>зар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и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59280" y="1916280"/>
            <a:ext cx="165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32000" y="3500280"/>
            <a:ext cx="165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72360" y="450864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56000" y="1989000"/>
            <a:ext cx="5256000" cy="4319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236000" y="3141720"/>
            <a:ext cx="46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527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</a:rPr>
              <a:t>Орфография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43700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ОРФОГРАММА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 (греч. «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орфо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» - правильный, «грамма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буква, знак) – такое написание в слове, которое соответствует определённому орфографическому прав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6200" y="17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(«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орфо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» - правильный, «графо» - пишу) – раздел науки о языке, в котором излагается система правил написания слов. Ценность русской орфографии – в строгом соблюдении орфографических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557360"/>
          <a:ext cx="8640720" cy="5040360"/>
        </p:xfrm>
        <a:graphic>
          <a:graphicData uri="http://schemas.openxmlformats.org/drawingml/2006/table">
            <a:tbl>
              <a:tblPr/>
              <a:tblGrid>
                <a:gridCol w="4991040"/>
                <a:gridCol w="364968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онетически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ение, безудар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пящие и 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ие соглас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вончение и оглушение соглас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(в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), суч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, ш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ё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лудь,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га, дро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, спря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, кон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лист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ба, ло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ловообразовательны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коренное сл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ить, овраж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ду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,  в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- в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орфологическ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частей речи: склонение и пад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яжение и лиц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,  сущ.                      наре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ерху (дома)   и    в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пушк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., п. 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</a:t>
                      </a:r>
                      <a:r>
                        <a:rPr b="1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 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.,  3-е  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интаксическ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енн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  ле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мысловы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части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ть (бельё), пол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ть (ребёнка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ый (очень хорош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л (приближ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932360" y="5300640"/>
            <a:ext cx="151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076720" y="5300640"/>
            <a:ext cx="7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06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то инструкция, в которой указываются условия выбора правильных написаний (орфограмм) в словах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Условия выбора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то фонетические, словообразовательные, морфологические, синтаксические и смысловые особенности слов, которые определяют, что следует писать в том или и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2602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рфографическое правил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рфограмма в корне сло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311560"/>
          <a:ext cx="936720" cy="360360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360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124000" y="2205000"/>
          <a:ext cx="6543720" cy="4652640"/>
        </p:xfrm>
        <a:graphic>
          <a:graphicData uri="http://schemas.openxmlformats.org/drawingml/2006/table">
            <a:tbl>
              <a:tblPr/>
              <a:tblGrid>
                <a:gridCol w="1943280"/>
                <a:gridCol w="2592360"/>
                <a:gridCol w="2008080"/>
              </a:tblGrid>
              <a:tr h="52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емые правил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еряемые правил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роверяемые удар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чередующие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С</a:t>
                      </a:r>
                      <a:r>
                        <a:rPr b="0" lang="ru-RU" sz="16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лаг</a:t>
                      </a:r>
                      <a:r>
                        <a:rPr b="0" lang="ru-RU" sz="16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ть - с</a:t>
                      </a:r>
                      <a:r>
                        <a:rPr b="0" lang="ru-RU" sz="16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лож</a:t>
                      </a:r>
                      <a:r>
                        <a:rPr b="0" lang="ru-RU" sz="16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Рас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е –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ро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.                     Иск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ра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 –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рос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Кас</a:t>
                      </a:r>
                      <a:r>
                        <a:rPr b="0" lang="ru-RU" sz="16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ся -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ко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H="1">
            <a:off x="2916000" y="3645000"/>
            <a:ext cx="14436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71640" y="4365720"/>
            <a:ext cx="14472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120800">
            <a:off x="2242080" y="4444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120800">
            <a:off x="2097720" y="516528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120800">
            <a:off x="2097720" y="595764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508464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00000" y="580536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1259200">
            <a:off x="6808320" y="3656880"/>
            <a:ext cx="57924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35640" y="3645000"/>
            <a:ext cx="144360" cy="2887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259200">
            <a:off x="6809040" y="4363200"/>
            <a:ext cx="944280" cy="35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2799361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27993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96000" y="4365720"/>
            <a:ext cx="14436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0760" y="5157720"/>
            <a:ext cx="726840" cy="24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380000" y="508464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16360" y="3645000"/>
            <a:ext cx="14472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5640" y="357336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16360" y="4221000"/>
            <a:ext cx="14472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0000" y="429264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84360" y="5229360"/>
            <a:ext cx="14436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795640" y="515772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571640" y="580536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795640" y="587700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47640" y="407664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76360" y="479736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7640" y="551664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19280" y="623736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341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Слышатся безударные гласные в корне? Алгорит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Слышатся безударные гласные в корне ?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ь удар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мени форму слова (п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а – п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бери родственное слово (сп</a:t>
            </a:r>
            <a:r>
              <a:rPr b="0" lang="en-US" sz="21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ить – сп</a:t>
            </a:r>
            <a:r>
              <a:rPr b="0" lang="en-US" sz="21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бери сложносокращённое слово (к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ль – линк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оверя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омни происхождение слова, найди дальнего родственника (сост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ться – т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ба; бр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юра – бр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дующиеся.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льзя проверить уда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писание зависи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квы в ко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квы после кор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да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мы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5950080"/>
            <a:ext cx="1008000" cy="90792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980" h="21600">
                <a:moveTo>
                  <a:pt x="0" y="0"/>
                </a:moveTo>
                <a:lnTo>
                  <a:pt x="23980" y="0"/>
                </a:lnTo>
                <a:lnTo>
                  <a:pt x="23980" y="21600"/>
                </a:lnTo>
                <a:lnTo>
                  <a:pt x="0" y="21600"/>
                </a:lnTo>
                <a:close/>
              </a:path>
              <a:path fill="lightenLess" w="23980" h="21600">
                <a:moveTo>
                  <a:pt x="0" y="0"/>
                </a:moveTo>
                <a:lnTo>
                  <a:pt x="23980" y="0"/>
                </a:lnTo>
                <a:lnTo>
                  <a:pt x="22580" y="1400"/>
                </a:lnTo>
                <a:lnTo>
                  <a:pt x="1400" y="1400"/>
                </a:lnTo>
                <a:close/>
              </a:path>
              <a:path fill="darken" w="23980" h="21600">
                <a:moveTo>
                  <a:pt x="23980" y="0"/>
                </a:moveTo>
                <a:lnTo>
                  <a:pt x="23980" y="21600"/>
                </a:lnTo>
                <a:lnTo>
                  <a:pt x="22580" y="20200"/>
                </a:lnTo>
                <a:lnTo>
                  <a:pt x="22580" y="1400"/>
                </a:lnTo>
                <a:close/>
              </a:path>
              <a:path fill="darkenLess" w="23980" h="21600">
                <a:moveTo>
                  <a:pt x="2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0" y="20200"/>
                </a:lnTo>
                <a:close/>
              </a:path>
              <a:path fill="lighten" w="2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0" h="21600">
                <a:moveTo>
                  <a:pt x="4984" y="7493"/>
                </a:moveTo>
                <a:lnTo>
                  <a:pt x="8491" y="7493"/>
                </a:lnTo>
                <a:lnTo>
                  <a:pt x="8491" y="12828"/>
                </a:lnTo>
                <a:cubicBezTo>
                  <a:pt x="8491" y="13751"/>
                  <a:pt x="9292" y="14482"/>
                  <a:pt x="10328" y="14482"/>
                </a:cubicBezTo>
                <a:lnTo>
                  <a:pt x="11990" y="14482"/>
                </a:lnTo>
                <a:cubicBezTo>
                  <a:pt x="13026" y="14482"/>
                  <a:pt x="13826" y="13751"/>
                  <a:pt x="13826" y="12828"/>
                </a:cubicBezTo>
                <a:lnTo>
                  <a:pt x="13826" y="7493"/>
                </a:lnTo>
                <a:lnTo>
                  <a:pt x="11990" y="7493"/>
                </a:lnTo>
                <a:lnTo>
                  <a:pt x="15498" y="3985"/>
                </a:lnTo>
                <a:lnTo>
                  <a:pt x="19171" y="7493"/>
                </a:lnTo>
                <a:lnTo>
                  <a:pt x="17334" y="7493"/>
                </a:lnTo>
                <a:lnTo>
                  <a:pt x="17334" y="12828"/>
                </a:lnTo>
                <a:cubicBezTo>
                  <a:pt x="17334" y="15596"/>
                  <a:pt x="14758" y="18155"/>
                  <a:pt x="11990" y="18155"/>
                </a:cubicBezTo>
                <a:lnTo>
                  <a:pt x="10328" y="18155"/>
                </a:lnTo>
                <a:cubicBezTo>
                  <a:pt x="7560" y="18155"/>
                  <a:pt x="4984" y="15596"/>
                  <a:pt x="498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Правописание чередующихся гласных зависит от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мы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должительное действ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к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300" spc="-1" strike="noStrike">
                <a:solidFill>
                  <a:srgbClr val="990033"/>
                </a:solidFill>
                <a:latin typeface="Arial"/>
              </a:rPr>
              <a:t>оч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ое действие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коч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гружать в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пускать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окашка, непромокаемый пла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вники, плавуч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ько в словах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вец, пловчих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делать одинаковым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я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делать ровным, гладким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овн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Запомнить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ё равно, поравняться, равнение, равни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НО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вень, поровну, ровес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136000" y="6237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3" h="21600">
                <a:moveTo>
                  <a:pt x="10530" y="7493"/>
                </a:moveTo>
                <a:lnTo>
                  <a:pt x="14038" y="7493"/>
                </a:lnTo>
                <a:lnTo>
                  <a:pt x="14038" y="12828"/>
                </a:lnTo>
                <a:cubicBezTo>
                  <a:pt x="14038" y="13751"/>
                  <a:pt x="14839" y="14482"/>
                  <a:pt x="15874" y="14482"/>
                </a:cubicBezTo>
                <a:lnTo>
                  <a:pt x="17537" y="14482"/>
                </a:lnTo>
                <a:cubicBezTo>
                  <a:pt x="18572" y="14482"/>
                  <a:pt x="19373" y="13751"/>
                  <a:pt x="19373" y="12828"/>
                </a:cubicBezTo>
                <a:lnTo>
                  <a:pt x="19373" y="7493"/>
                </a:lnTo>
                <a:lnTo>
                  <a:pt x="17537" y="7493"/>
                </a:lnTo>
                <a:lnTo>
                  <a:pt x="21044" y="3985"/>
                </a:lnTo>
                <a:lnTo>
                  <a:pt x="24717" y="7493"/>
                </a:lnTo>
                <a:lnTo>
                  <a:pt x="22881" y="7493"/>
                </a:lnTo>
                <a:lnTo>
                  <a:pt x="22881" y="12828"/>
                </a:lnTo>
                <a:cubicBezTo>
                  <a:pt x="22881" y="15596"/>
                  <a:pt x="20304" y="18155"/>
                  <a:pt x="17537" y="18155"/>
                </a:cubicBezTo>
                <a:lnTo>
                  <a:pt x="15874" y="18155"/>
                </a:lnTo>
                <a:cubicBezTo>
                  <a:pt x="13107" y="18155"/>
                  <a:pt x="10530" y="15596"/>
                  <a:pt x="10530" y="12828"/>
                </a:cubicBez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авописание чередующихся гласных зависит от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буквы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ла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- - ло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ла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ь,  по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лож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рас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- -рос- - -ра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щ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рас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ние, 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ро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, вы</a:t>
            </a: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ращ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cc99"/>
                </a:solidFill>
                <a:latin typeface="Arial"/>
              </a:rPr>
              <a:t>Исключ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Отрасль, росток, ростовщик, на выро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740720" y="5661000"/>
            <a:ext cx="1403280" cy="1197000"/>
          </a:xfrm>
          <a:custGeom>
            <a:avLst/>
            <a:gdLst>
              <a:gd name="textAreaLeft" fmla="*/ 77400 w 1403280"/>
              <a:gd name="textAreaRight" fmla="*/ 1325880 w 14032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321" h="21600">
                <a:moveTo>
                  <a:pt x="0" y="0"/>
                </a:moveTo>
                <a:lnTo>
                  <a:pt x="25321" y="0"/>
                </a:lnTo>
                <a:lnTo>
                  <a:pt x="25321" y="21600"/>
                </a:lnTo>
                <a:lnTo>
                  <a:pt x="0" y="21600"/>
                </a:lnTo>
                <a:close/>
              </a:path>
              <a:path fill="lightenLess" w="25321" h="21600">
                <a:moveTo>
                  <a:pt x="0" y="0"/>
                </a:moveTo>
                <a:lnTo>
                  <a:pt x="25321" y="0"/>
                </a:lnTo>
                <a:lnTo>
                  <a:pt x="23921" y="1400"/>
                </a:lnTo>
                <a:lnTo>
                  <a:pt x="1400" y="1400"/>
                </a:lnTo>
                <a:close/>
              </a:path>
              <a:path fill="darken" w="25321" h="21600">
                <a:moveTo>
                  <a:pt x="25321" y="0"/>
                </a:moveTo>
                <a:lnTo>
                  <a:pt x="25321" y="21600"/>
                </a:lnTo>
                <a:lnTo>
                  <a:pt x="23921" y="20200"/>
                </a:lnTo>
                <a:lnTo>
                  <a:pt x="23921" y="1400"/>
                </a:lnTo>
                <a:close/>
              </a:path>
              <a:path fill="darkenLess" w="25321" h="21600">
                <a:moveTo>
                  <a:pt x="25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21" y="20200"/>
                </a:lnTo>
                <a:close/>
              </a:path>
              <a:path fill="lighten" w="25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21" h="21600">
                <a:moveTo>
                  <a:pt x="5654" y="7493"/>
                </a:moveTo>
                <a:lnTo>
                  <a:pt x="9162" y="7493"/>
                </a:lnTo>
                <a:lnTo>
                  <a:pt x="9162" y="12828"/>
                </a:lnTo>
                <a:cubicBezTo>
                  <a:pt x="9162" y="13751"/>
                  <a:pt x="9962" y="14482"/>
                  <a:pt x="10998" y="14482"/>
                </a:cubicBezTo>
                <a:lnTo>
                  <a:pt x="12661" y="14482"/>
                </a:lnTo>
                <a:cubicBezTo>
                  <a:pt x="13696" y="14482"/>
                  <a:pt x="14497" y="13751"/>
                  <a:pt x="14497" y="12828"/>
                </a:cubicBezTo>
                <a:lnTo>
                  <a:pt x="14497" y="7493"/>
                </a:lnTo>
                <a:lnTo>
                  <a:pt x="12661" y="7493"/>
                </a:lnTo>
                <a:lnTo>
                  <a:pt x="16168" y="3985"/>
                </a:lnTo>
                <a:lnTo>
                  <a:pt x="19841" y="7493"/>
                </a:lnTo>
                <a:lnTo>
                  <a:pt x="18005" y="7493"/>
                </a:lnTo>
                <a:lnTo>
                  <a:pt x="18005" y="12828"/>
                </a:lnTo>
                <a:cubicBezTo>
                  <a:pt x="18005" y="15596"/>
                  <a:pt x="15428" y="18155"/>
                  <a:pt x="12661" y="18155"/>
                </a:cubicBezTo>
                <a:lnTo>
                  <a:pt x="10998" y="18155"/>
                </a:lnTo>
                <a:cubicBezTo>
                  <a:pt x="8230" y="18155"/>
                  <a:pt x="5654" y="15596"/>
                  <a:pt x="5654" y="12828"/>
                </a:cubicBezTo>
                <a:close/>
              </a:path>
            </a:pathLst>
          </a:cu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Times New Roman"/>
              </a:rPr>
              <a:t>Правописание чередующихся гласных зависит от</a:t>
            </a:r>
            <a:r>
              <a:rPr b="0" lang="en-US" sz="29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уквы после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(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- - к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(н)     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к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ся  -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к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– б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-                   со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 - со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м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           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ли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 –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л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л -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ле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п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                     вы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жи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 - вы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ж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д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                     пон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 - пон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т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                     рас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ься - рас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ст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бл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ж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(ч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84360" y="24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411280" y="278100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11280" y="3141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349992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393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42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56000" y="458100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700360" y="4941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411280" y="537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059280" y="5373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556000" y="573372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 txBox="1"/>
          <p:nvPr/>
        </p:nvSpPr>
        <p:spPr>
          <a:xfrm>
            <a:off x="539640" y="4365720"/>
            <a:ext cx="1152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640" y="5418000"/>
            <a:ext cx="108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708360" y="3284640"/>
            <a:ext cx="11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35640" y="5229360"/>
            <a:ext cx="172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64360" y="5229360"/>
            <a:ext cx="8492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уквы Е и И в корнях с чередование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- - бир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- -ди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- -ми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- -пи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- -ти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ст- -бли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г- -жи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л- -сти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- -чи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32000" y="2349360"/>
            <a:ext cx="23032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  а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3368000">
            <a:off x="243720" y="2080800"/>
            <a:ext cx="2879280" cy="27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43280" y="1844280"/>
            <a:ext cx="64908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1844640"/>
            <a:ext cx="35892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7280" y="4869000"/>
            <a:ext cx="11210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cc33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5157720"/>
            <a:ext cx="25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Не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уффик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3573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120" y="3573360"/>
            <a:ext cx="124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3500280"/>
            <a:ext cx="37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тир</a:t>
            </a:r>
            <a:r>
              <a:rPr b="0" lang="en-US" sz="2000" spc="-1" strike="noStrike">
                <a:solidFill>
                  <a:srgbClr val="b2b2b2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ь, за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пир</a:t>
            </a:r>
            <a:r>
              <a:rPr b="0" lang="en-US" sz="2000" spc="-1" strike="noStrike">
                <a:solidFill>
                  <a:srgbClr val="b2b2b2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бир</a:t>
            </a:r>
            <a:r>
              <a:rPr b="0" lang="en-US" sz="2000" spc="-1" strike="noStrike">
                <a:solidFill>
                  <a:srgbClr val="b2b2b2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ь, у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мир</a:t>
            </a:r>
            <a:r>
              <a:rPr b="0" lang="en-US" sz="2000" spc="-1" strike="noStrike">
                <a:solidFill>
                  <a:srgbClr val="b2b2b2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004080"/>
            <a:ext cx="32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те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ть, за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пе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бе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т, у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ме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1189080" cy="909360"/>
          </a:xfrm>
          <a:custGeom>
            <a:avLst/>
            <a:gdLst>
              <a:gd name="textAreaLeft" fmla="*/ 58680 w 1189080"/>
              <a:gd name="textAreaRight" fmla="*/ 1130400 w 1189080"/>
              <a:gd name="textAreaTop" fmla="*/ 58680 h 909360"/>
              <a:gd name="textAreaBottom" fmla="*/ 850680 h 909360"/>
            </a:gdLst>
            <a:ahLst/>
            <a:rect l="textAreaLeft" t="textAreaTop" r="textAreaRight" b="textAreaBottom"/>
            <a:pathLst>
              <a:path w="28242" h="21600">
                <a:moveTo>
                  <a:pt x="0" y="0"/>
                </a:moveTo>
                <a:lnTo>
                  <a:pt x="28242" y="0"/>
                </a:lnTo>
                <a:lnTo>
                  <a:pt x="28242" y="21600"/>
                </a:lnTo>
                <a:lnTo>
                  <a:pt x="0" y="21600"/>
                </a:lnTo>
                <a:close/>
              </a:path>
              <a:path fill="lightenLess" w="28242" h="21600">
                <a:moveTo>
                  <a:pt x="0" y="0"/>
                </a:moveTo>
                <a:lnTo>
                  <a:pt x="28242" y="0"/>
                </a:lnTo>
                <a:lnTo>
                  <a:pt x="26842" y="1400"/>
                </a:lnTo>
                <a:lnTo>
                  <a:pt x="1400" y="1400"/>
                </a:lnTo>
                <a:close/>
              </a:path>
              <a:path fill="darken" w="28242" h="21600">
                <a:moveTo>
                  <a:pt x="28242" y="0"/>
                </a:moveTo>
                <a:lnTo>
                  <a:pt x="28242" y="21600"/>
                </a:lnTo>
                <a:lnTo>
                  <a:pt x="26842" y="20200"/>
                </a:lnTo>
                <a:lnTo>
                  <a:pt x="26842" y="1400"/>
                </a:lnTo>
                <a:close/>
              </a:path>
              <a:path fill="darkenLess" w="28242" h="21600">
                <a:moveTo>
                  <a:pt x="28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2" y="20200"/>
                </a:lnTo>
                <a:close/>
              </a:path>
              <a:path fill="lighten" w="28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2" h="21600">
                <a:moveTo>
                  <a:pt x="7114" y="7493"/>
                </a:moveTo>
                <a:lnTo>
                  <a:pt x="10622" y="7493"/>
                </a:lnTo>
                <a:lnTo>
                  <a:pt x="10622" y="12828"/>
                </a:lnTo>
                <a:cubicBezTo>
                  <a:pt x="10622" y="13751"/>
                  <a:pt x="11423" y="14482"/>
                  <a:pt x="12458" y="14482"/>
                </a:cubicBezTo>
                <a:lnTo>
                  <a:pt x="14121" y="14482"/>
                </a:lnTo>
                <a:cubicBezTo>
                  <a:pt x="15157" y="14482"/>
                  <a:pt x="15957" y="13751"/>
                  <a:pt x="15957" y="12828"/>
                </a:cubicBezTo>
                <a:lnTo>
                  <a:pt x="15957" y="7493"/>
                </a:lnTo>
                <a:lnTo>
                  <a:pt x="14121" y="7493"/>
                </a:lnTo>
                <a:lnTo>
                  <a:pt x="17628" y="3985"/>
                </a:lnTo>
                <a:lnTo>
                  <a:pt x="21301" y="7493"/>
                </a:lnTo>
                <a:lnTo>
                  <a:pt x="19465" y="7493"/>
                </a:lnTo>
                <a:lnTo>
                  <a:pt x="19465" y="12828"/>
                </a:lnTo>
                <a:cubicBezTo>
                  <a:pt x="19465" y="15596"/>
                  <a:pt x="16889" y="18155"/>
                  <a:pt x="14121" y="18155"/>
                </a:cubicBezTo>
                <a:lnTo>
                  <a:pt x="12458" y="18155"/>
                </a:lnTo>
                <a:cubicBezTo>
                  <a:pt x="9691" y="18155"/>
                  <a:pt x="7114" y="15596"/>
                  <a:pt x="7114" y="12828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9:08:19Z</dcterms:created>
  <dc:creator>Шишаева Н. Г.</dc:creator>
  <dc:description/>
  <dc:language>en-US</dc:language>
  <cp:lastModifiedBy>Шишаева Н. Г.</cp:lastModifiedBy>
  <dcterms:modified xsi:type="dcterms:W3CDTF">2011-12-21T12:39:54Z</dcterms:modified>
  <cp:revision>4</cp:revision>
  <dc:subject/>
  <dc:title>Слайд 1</dc:title>
</cp:coreProperties>
</file>