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90160" y="878040"/>
            <a:ext cx="447372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-35892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C4C35C55-8DDE-425A-AA0B-5F5D2332B82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E1C0D518-528C-4162-9710-1D3DE3E4A32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0360" y="322200"/>
            <a:ext cx="18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8964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F62585F2-B384-4566-A97D-1D9AECB0D37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9EAC2776-0B18-47FA-B8BC-B6D5A4ED8CE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DDCE6662-F3EA-4511-9A2F-2DDE7DF1BAC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6E225625-5B65-4F76-9548-C1D318E26BF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3C51741D-2BB1-4239-934D-8D4DD5EBAB9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38DAD1FB-23EA-42B7-A180-0BCF584056E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35B14F16-5C3D-41A8-A7EE-1131D22A4C5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7D6C3600-7833-49C7-B121-203E7C7D7A2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B5CD50D1-6F60-451B-A2CE-CA0AE5B5042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791EC1ED-DCE9-42CE-9941-A39546B5954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CA7510FD-1BF7-4793-A199-1414D1F3B5A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1E0B6EE6-141C-49A0-BBB5-44B07518F74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1FA3BA4B-8167-474C-949F-56EBEB95B4E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A58F065C-518E-4E07-9886-01DB17C7CCD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11496341-ED0E-4D90-AF1F-6F674FF778C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2F26EADD-15C3-4381-BB6E-6C614B223E6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E61960C4-49B6-4E5E-989D-0BE605D6F18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B29B2AFC-0D58-4D5B-B601-E7969E29B2FA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0D5E614C-2BE8-4961-89FE-1ABE9A2AB05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16AAA1DA-0B26-466A-977A-2ABA41A9FDF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8CE9426F-949C-4968-A7D3-2EC59BC4B8F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2E8D44C2-A902-4623-9A64-B55D08C5071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497E8717-5BC3-4F9C-B396-8E1340C1CBF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F7AFEB65-8CF1-4531-BABD-3FD090043DF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b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fld id="{F517D50D-2062-4C7B-8211-2C6D723229F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fld id="{46D34CB9-BCBB-4328-89D2-550DE6F4604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Научно-практическая конференция «Шаг в будущее»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785880" y="1357200"/>
            <a:ext cx="7358040" cy="68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DejaVu Sans"/>
              </a:rPr>
              <a:t>«</a:t>
            </a:r>
            <a:r>
              <a:rPr b="1" lang="en-GB" sz="4000" spc="-1" strike="noStrike">
                <a:solidFill>
                  <a:srgbClr val="ff0066"/>
                </a:solidFill>
                <a:latin typeface="Constantia"/>
              </a:rPr>
              <a:t>Происхождение</a:t>
            </a:r>
            <a:r>
              <a:rPr b="1" lang="ru-RU" sz="4000" spc="-1" strike="noStrike">
                <a:solidFill>
                  <a:srgbClr val="ff0066"/>
                </a:solidFill>
                <a:latin typeface="Constantia"/>
              </a:rPr>
              <a:t> </a:t>
            </a:r>
            <a:r>
              <a:rPr b="1" lang="en-GB" sz="4000" spc="-1" strike="noStrike">
                <a:solidFill>
                  <a:srgbClr val="ff0066"/>
                </a:solidFill>
                <a:latin typeface="Constantia"/>
              </a:rPr>
              <a:t>фамилий</a:t>
            </a: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DejaVu Sans"/>
              </a:rPr>
              <a:t>                 </a:t>
            </a:r>
            <a:r>
              <a:rPr b="1" lang="ru-RU" sz="4000" spc="-1" strike="noStrike">
                <a:solidFill>
                  <a:srgbClr val="ff0066"/>
                </a:solidFill>
                <a:latin typeface="Constantia"/>
              </a:rPr>
              <a:t>моих                                               </a:t>
            </a:r>
            <a:r>
              <a:rPr b="1" lang="ru-RU" sz="4000" spc="-1" strike="noStrike">
                <a:solidFill>
                  <a:srgbClr val="ff0066"/>
                </a:solidFill>
                <a:latin typeface="Constantia"/>
              </a:rPr>
              <a:t>	</a:t>
            </a:r>
            <a:r>
              <a:rPr b="1" lang="ru-RU" sz="4000" spc="-1" strike="noStrike">
                <a:solidFill>
                  <a:srgbClr val="ff0066"/>
                </a:solidFill>
                <a:latin typeface="Constantia"/>
              </a:rPr>
              <a:t>         одноклассников</a:t>
            </a:r>
            <a:r>
              <a:rPr b="1" lang="ru-RU" sz="4000" spc="-1" strike="noStrike">
                <a:solidFill>
                  <a:srgbClr val="ff0066"/>
                </a:solidFill>
                <a:latin typeface="DejaVu Sans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DejaVu Sans"/>
              </a:rPr>
              <a:t>                                                              </a:t>
            </a:r>
            <a:r>
              <a:rPr b="1" lang="ru-RU" sz="1600" spc="-1" strike="noStrike">
                <a:solidFill>
                  <a:srgbClr val="a50021"/>
                </a:solidFill>
                <a:latin typeface="DejaVu Sans"/>
              </a:rPr>
              <a:t>Выполнила:</a:t>
            </a:r>
            <a:endParaRPr b="0" lang="en-US" sz="1600" spc="-1" strike="noStrike">
              <a:solidFill>
                <a:srgbClr val="ffffff"/>
              </a:solidFill>
              <a:latin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lang="ru-RU" sz="1400" spc="-1" strike="noStrike">
                <a:solidFill>
                  <a:srgbClr val="a50021"/>
                </a:solidFill>
                <a:latin typeface="DejaVu Sans"/>
              </a:rPr>
              <a:t>               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ученица 9 «д» класса</a:t>
            </a:r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               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МОУ СОШ № 1  пгт Каа-Хем </a:t>
            </a:r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                                                                                        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Кызылского района </a:t>
            </a:r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                                                                                        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Республики Тыва</a:t>
            </a:r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DejaVu Sans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DejaVu Sans"/>
              </a:rPr>
              <a:t>Дугур Ирина</a:t>
            </a: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DejaVu Sans"/>
              </a:rPr>
              <a:t>                                                                            </a:t>
            </a:r>
            <a:r>
              <a:rPr b="1" lang="ru-RU" sz="1600" spc="-1" strike="noStrike">
                <a:solidFill>
                  <a:srgbClr val="a50021"/>
                </a:solidFill>
                <a:latin typeface="DejaVu Sans"/>
              </a:rPr>
              <a:t>Руководитель: 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учитель                      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	</a:t>
            </a:r>
            <a:r>
              <a:rPr b="1" i="1" lang="ru-RU" sz="1400" spc="-1" strike="noStrike">
                <a:solidFill>
                  <a:srgbClr val="a50021"/>
                </a:solidFill>
                <a:latin typeface="DejaVu Sans"/>
              </a:rPr>
              <a:t>                                                                                        русского языка  и литературы</a:t>
            </a:r>
            <a:endParaRPr b="0" lang="en-US" sz="1400" spc="-1" strike="noStrike">
              <a:solidFill>
                <a:srgbClr val="ffffff"/>
              </a:solidFill>
              <a:latin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DejaVu Sans"/>
              </a:rPr>
              <a:t>                                                                           </a:t>
            </a:r>
            <a:r>
              <a:rPr b="1" lang="ru-RU" sz="2400" spc="-1" strike="noStrike">
                <a:solidFill>
                  <a:srgbClr val="a50021"/>
                </a:solidFill>
                <a:latin typeface="DejaVu Sans"/>
              </a:rPr>
              <a:t>Феоктистова Т.А.</a:t>
            </a:r>
            <a:endParaRPr b="0" lang="en-US" sz="2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1120" y="1569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Букин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260360"/>
            <a:ext cx="800244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 algn="just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Эта фамилия могла произойти от слова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– бука , букан –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 в некоторых местах России она означала -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насекомое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(букашка).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23480"/>
            <a:ext cx="7920000" cy="60418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зможно, эта фамилия возникла от названия второй буквы старого русского алфавита- «буки - Б». Таких фамилий немного, но они есть. Например: Азов- «аз - А», Ведин - «веди-В», и т.д. Возможно , в учебных заведениях, так могли для удобства составить список учеников:18-слово,19-твердо,и т.д. </a:t>
            </a:r>
            <a:br>
              <a:rPr sz="2800"/>
            </a:b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3112920"/>
            <a:ext cx="1263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35244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Бычков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79280" y="1260360"/>
            <a:ext cx="828036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 algn="just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Это одна из самых распространенных фамилий</a:t>
            </a:r>
            <a:r>
              <a:rPr b="0" lang="ru-RU" sz="2800" spc="-1" strike="noStrike">
                <a:solidFill>
                  <a:srgbClr val="000000"/>
                </a:solidFill>
                <a:latin typeface="DejaVu Sans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 образованных</a:t>
            </a:r>
            <a:r>
              <a:rPr b="0" lang="ru-RU" sz="2800" spc="-1" strike="noStrike">
                <a:solidFill>
                  <a:srgbClr val="000000"/>
                </a:solidFill>
                <a:latin typeface="DejaVu Sans"/>
              </a:rPr>
              <a:t> от</a:t>
            </a: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 названи</a:t>
            </a:r>
            <a:r>
              <a:rPr b="0" lang="ru-RU" sz="2800" spc="-1" strike="noStrike">
                <a:solidFill>
                  <a:srgbClr val="000000"/>
                </a:solidFill>
                <a:latin typeface="DejaVu Sans"/>
              </a:rPr>
              <a:t>й</a:t>
            </a: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 животных. Аналоги этой фамилии- Быков, Быковский, Бычатин, Бычатников, Порозов (от устарелого слова бык), Быченко, и т.д. Бычатин- мясник; Бычатников- перегонщик скота; Бычков, Быковский,…, Быченко- украинские фамилии с тем же значением. </a:t>
            </a:r>
            <a:r>
              <a:rPr b="0" lang="ru-RU" sz="2800" spc="-1" strike="noStrike">
                <a:solidFill>
                  <a:srgbClr val="000000"/>
                </a:solidFill>
                <a:latin typeface="DejaVu Sans"/>
              </a:rPr>
              <a:t>З</a:t>
            </a: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афиксированно - Бычковы, Быковы - распространены в XV-XVI вв.</a:t>
            </a:r>
            <a:endParaRPr b="0" lang="en-US" sz="2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78073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рила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46280" y="1214280"/>
            <a:ext cx="7635600" cy="50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Эта фамилия образована от украинского слова – «гор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и - гореть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Гореть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- общеславянско-европейского характера. (сравните лит.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arẻti-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«жечь» ,др.инд.-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ảras-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«жар»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др.ирл.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orim-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«грею» и др.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Основа гор – от которого с помощью суффикса – ъти(совр. –есть) образовано горът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Коробейни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</a:t>
            </a: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ов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57200" y="1600200"/>
            <a:ext cx="8229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Фамилия Коробейников возникла от слова коробейник- бродячий торговец тканями и мелкой галантереей, носивший свой товар в коробе через плечо. Случалось однако, что отпрыски коробейников достигали высоких государственных должностей, так в начале XVIIв. в Москве стал дьяком Коробейников Матвей.</a:t>
            </a:r>
            <a:endParaRPr b="0" lang="en-US" sz="2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Овчинников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457200" y="1600200"/>
            <a:ext cx="8229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Фамилия Овчинников возникла от профессии – овчинника - мастер, по выделке мехов из шкур, по выработке меховых изделий, выделывающий овчины. В некоторых диалектах произошел переход безударного звука Ов- на Ав- в разговорной форме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600" y="428760"/>
            <a:ext cx="78073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Стремно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46280" y="1500120"/>
            <a:ext cx="7635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Эта фамилия могла быть образована от трех разных слов: от слова «стремнина»- порошистое место в реке, потоке с бурным стремительным течением;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ли от слова «стремя» – кожаная петля или железная дужка, подвешиваемая на ремне к седлу для упора ноги всадника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6320" y="68576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71320" y="642600"/>
            <a:ext cx="80010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а может и от слова стремянный,-ого -    конюх-слуга, ухаживающий за лошадьми барина и сопровождающий его на охот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тремянный (притяж. прил-е: чей?) Стремяннов сын→ стремнов сын (сын чей? Стремнов) в речи происходит упрощение формы прит-ого прил-ого: Стремяннов→Стремно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Белозерский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57200" y="1600200"/>
            <a:ext cx="76420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 algn="just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Фамилия Белозерский образова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на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от названия местности- Белое озеро. Таким прозвищем называли людей, приехавших на новые земли, из так называемых мест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Киреев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60360" y="1357200"/>
            <a:ext cx="809928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Кирей-производная форма от Кирилл (гр. «маленький господин»).</a:t>
            </a:r>
            <a:endParaRPr b="0" lang="en-US" sz="2800" spc="-1" strike="noStrike">
              <a:solidFill>
                <a:srgbClr val="ffffff"/>
              </a:solidFill>
              <a:latin typeface="DejaVu Sans"/>
            </a:endParaRPr>
          </a:p>
          <a:p>
            <a:pPr marL="34452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Киреев- по преданиям происходит от татар и был Гиреев(отчество Гирей).Такое имя существовало у крымских татар(ханов).</a:t>
            </a:r>
            <a:endParaRPr b="0" lang="en-US" sz="2800" spc="-1" strike="noStrike">
              <a:solidFill>
                <a:srgbClr val="ffffff"/>
              </a:solidFill>
              <a:latin typeface="DejaVu Sans"/>
            </a:endParaRPr>
          </a:p>
          <a:p>
            <a:pPr marL="34452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Киреев - возможно, эта фамилия произошла от тюрко-индо-европейского прозвища «керай» (герой).</a:t>
            </a:r>
            <a:endParaRPr b="0" lang="en-US" sz="2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40720" cy="156852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marL="35892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i="1" lang="en-GB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Arial"/>
              </a:rPr>
              <a:t>узнать значения и происхождение фамилий моих одноклассников.</a:t>
            </a:r>
            <a:br>
              <a:rPr sz="3200"/>
            </a:b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68360" y="191628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430200" indent="-32400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ыяснить, что такое АНТРОПОНИМИКА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узнать, как и когда появились русские фамилии</a:t>
            </a:r>
            <a:r>
              <a:rPr b="0" lang="en-GB" sz="3200" spc="-1" strike="noStrike">
                <a:solidFill>
                  <a:srgbClr val="ff0066"/>
                </a:solidFill>
                <a:latin typeface="DejaVu San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узнать з</a:t>
            </a:r>
            <a:r>
              <a:rPr b="0" lang="en-GB" sz="3200" spc="-1" strike="noStrike">
                <a:solidFill>
                  <a:srgbClr val="ff0066"/>
                </a:solidFill>
                <a:latin typeface="DejaVu Sans"/>
              </a:rPr>
              <a:t>начени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е и происхождение некоторых</a:t>
            </a:r>
            <a:r>
              <a:rPr b="0" lang="en-GB" sz="3200" spc="-1" strike="noStrike">
                <a:solidFill>
                  <a:srgbClr val="ff0066"/>
                </a:solidFill>
                <a:latin typeface="DejaVu Sans"/>
              </a:rPr>
              <a:t> фамилий моих одноклассников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1120" y="36000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Смирнов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79280" y="1440000"/>
            <a:ext cx="80996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 algn="just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Фамилия Смирнов может происходить  тремя разными способами: 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344520" algn="just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а)от др.рус. имени Смирный;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344520" algn="just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б)от русского перевода лат. имени Климент;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344520" algn="just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в)от церковного слова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– смирна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-«душистая смола»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6800" y="71434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13880" y="571320"/>
            <a:ext cx="763596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78080" indent="-4104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амилию Смирнов имели многие священники еще по одной причине. Пахучую древесную смолу для курения в церковном обиходе называли смирна, возможно, по названию древнегреческого города Смирна, оттуда ее привозили. От слова смирна фамилию следовало бы образовать с суффиксом –ин – Смирнин, но церковные деятелипредпочитали всюду использовать только суффикс –о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8080" indent="-4104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78073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Чувашо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46280" y="1213920"/>
            <a:ext cx="76356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Эта фамилия могла произойти от названия народа «чуваши», чуваш- представитель этого народ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Чуваш ов – прит-ое прил-ое (чей?) →в фамилию Чувашов;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ли от заимствованного слова из тюркского языка «чувяки»- мягкие туфли.→от профессии мастера по изготовлению мягких туфлей-чувяк, чувяков прит-ое прил-ое (чей?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ывод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аким образом, мною выяснено, что фамилии многих моих одноклассников произошли, видимо, несколькими путями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47160" cy="489564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f09b9"/>
                </a:solidFill>
                <a:latin typeface="Arial"/>
              </a:rPr>
              <a:t>Антропонимика</a:t>
            </a:r>
            <a:r>
              <a:rPr b="1" i="1" lang="ru-RU" sz="6000" spc="-1" strike="noStrike">
                <a:solidFill>
                  <a:srgbClr val="2f09b9"/>
                </a:solidFill>
                <a:latin typeface="Arial"/>
              </a:rPr>
              <a:t>-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наука, изучающая личные имена (фамилии, прозвища, клички)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68360" y="1844640"/>
            <a:ext cx="8229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Фамилии образованы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1120" indent="-6098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 крестильных имен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098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 мирских имен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098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п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офессионального прозвища предков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098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 названия мест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национальност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098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, связанных с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авослав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й религией (дедичества)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marL="3445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57200" y="500040"/>
            <a:ext cx="822960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511200" indent="-511200">
              <a:lnSpc>
                <a:spcPct val="98000"/>
              </a:lnSpc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1)От крестильных имен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511200" indent="-511200">
              <a:lnSpc>
                <a:spcPct val="98000"/>
              </a:lnSpc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(крест.имя) Михаил + суффикс – ов(чей сын?)  =(фамилия) Михайлов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511200" indent="-511200">
              <a:lnSpc>
                <a:spcPct val="98000"/>
              </a:lnSpc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2)От мирских имен.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(прозвище) Телега + суффикс –ин(чей?)=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511200" indent="-511200">
              <a:lnSpc>
                <a:spcPct val="98000"/>
              </a:lnSpc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=(фамилия) Телегин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511200" indent="-511200">
              <a:lnSpc>
                <a:spcPct val="98000"/>
              </a:lnSpc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3)От профессии предка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511200" indent="-511200">
              <a:lnSpc>
                <a:spcPct val="98000"/>
              </a:lnSpc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(профессия)Гончар + суффикс –ов(чей?)=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511200" indent="-511200">
              <a:lnSpc>
                <a:spcPct val="98000"/>
              </a:lnSpc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=(фамилия) Гончаров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1400" y="7143840"/>
            <a:ext cx="654372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500040" y="1214280"/>
            <a:ext cx="8229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4)От названия местности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(название)Дон + суффикс -ской(какой,чей?)=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=(фамилия) Донской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5)От православного духовенства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(название прихода,характер)</a:t>
            </a:r>
            <a:r>
              <a:rPr b="0" lang="ar-SA" sz="32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357120"/>
            <a:ext cx="78073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Список класса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3880" y="1214280"/>
            <a:ext cx="7635960" cy="50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bf1168"/>
                </a:solidFill>
                <a:latin typeface="Arial"/>
              </a:rPr>
              <a:t>1)Банчын Ч.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12)Коробейникова 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2)Басаргина Е.            </a:t>
            </a:r>
            <a:r>
              <a:rPr b="0" lang="ru-RU" sz="2800" spc="-1" strike="noStrike">
                <a:solidFill>
                  <a:srgbClr val="bf1168"/>
                </a:solidFill>
                <a:latin typeface="Arial"/>
              </a:rPr>
              <a:t>13)Мижит-Доржу С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3)Букина В.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bf1168"/>
                </a:solidFill>
                <a:latin typeface="Arial"/>
              </a:rPr>
              <a:t>14)Монгуш С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4)Бычкова Т.                15)Обанин Н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5)Возовиков П.            16)Овчинникова И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6)Горилая Т.                17)Саар Н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bf1168"/>
                </a:solidFill>
                <a:latin typeface="Arial"/>
              </a:rPr>
              <a:t>7)Донгак А.                   18)Севил С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bf1168"/>
                </a:solidFill>
                <a:latin typeface="Arial"/>
              </a:rPr>
              <a:t>8)Донгак Ч.     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19)Смирнова 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bf1168"/>
                </a:solidFill>
                <a:latin typeface="Arial"/>
              </a:rPr>
              <a:t>9)Дугур  И.      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20)Стремнова 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10)Ефремова М.</a:t>
            </a:r>
            <a:r>
              <a:rPr b="0" lang="ru-RU" sz="2800" spc="-1" strike="noStrike">
                <a:solidFill>
                  <a:srgbClr val="bf1168"/>
                </a:solidFill>
                <a:latin typeface="Arial"/>
              </a:rPr>
              <a:t>          21)Топоева С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11)Киреев И.                22)Чувашова 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Ефремова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Фамилия Ефремова образован</a:t>
            </a:r>
            <a:r>
              <a:rPr b="0" lang="ru-RU" sz="3200" spc="-1" strike="noStrike">
                <a:solidFill>
                  <a:srgbClr val="000000"/>
                </a:solidFill>
                <a:latin typeface="DejaVu Sans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от крестильного имени Ефремий(из др.евр.- «плодовитый»), разг. Ефрем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tIns="9144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Басаргин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marL="344520">
              <a:lnSpc>
                <a:spcPct val="98000"/>
              </a:lnSpc>
              <a:tabLst>
                <a:tab algn="l" pos="0"/>
                <a:tab algn="l" pos="344520"/>
                <a:tab algn="l" pos="7920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9328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Фамилия Басаргин образована от мирского имени Басарга – проворный, ловкий человек; Басарга – трава, негодная на корм. Басаргины- древний дворянский род, служившие еще при Иване Грозном.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4T11:47:07Z</dcterms:modified>
  <cp:revision>29</cp:revision>
  <dc:subject/>
  <dc:title>Слайд 1</dc:title>
</cp:coreProperties>
</file>